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FB6-7804-49BB-A15D-82B35475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31D-D1F7-4FFB-A2F1-B46497E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DB8-A510-42C4-8F36-1ADAFF41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C5B-91FD-4CB4-85B0-EC71D661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087-81AD-4D86-8513-ACF60F9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6B2-6A07-4C0F-83CB-0DB8B105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319-9238-483C-ACE5-85BBF1D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20C-EB19-4FAB-BCBC-399849F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979-F56A-498C-844B-823F47B1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38C-9409-463F-B214-102F50A0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2FA-09B9-4361-BCF8-626180D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E6C-E304-494B-B38D-48D1D73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7A80-6DC1-445A-8FFC-4F125C17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Class 1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nglo-Saxons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scovery at Sutton H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2881440" cy="288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Original helmet"/>
          <p:cNvPicPr/>
          <p:nvPr/>
        </p:nvPicPr>
        <p:blipFill>
          <a:blip r:embed="rId1"/>
          <a:stretch/>
        </p:blipFill>
        <p:spPr>
          <a:xfrm>
            <a:off x="-252360" y="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Replica: front view"/>
          <p:cNvPicPr/>
          <p:nvPr/>
        </p:nvPicPr>
        <p:blipFill>
          <a:blip r:embed="rId2"/>
          <a:stretch/>
        </p:blipFill>
        <p:spPr>
          <a:xfrm>
            <a:off x="4356000" y="0"/>
            <a:ext cx="5715000" cy="501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00" y="5091120"/>
            <a:ext cx="439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King Redwald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helm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7563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What his helmet would have looked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urse lid from the ship-burial at Sutton Hoo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0360" y="333360"/>
            <a:ext cx="30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An Anglo – Saxon purse 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Gold coins and ingots from the ship-burial at Sutton Hoo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0360" y="2602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Gold coins and in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word from the ship-burial at Sutton Hoo"/>
          <p:cNvPicPr/>
          <p:nvPr/>
        </p:nvPicPr>
        <p:blipFill>
          <a:blip r:embed="rId1"/>
          <a:stretch/>
        </p:blipFill>
        <p:spPr>
          <a:xfrm>
            <a:off x="250920" y="-1784520"/>
            <a:ext cx="8642160" cy="864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22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An Anglo – Saxon s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Buckle from the sword belt from the ship-burial at Sutton Hoo"/>
          <p:cNvPicPr/>
          <p:nvPr/>
        </p:nvPicPr>
        <p:blipFill>
          <a:blip r:embed="rId1"/>
          <a:stretch/>
        </p:blipFill>
        <p:spPr>
          <a:xfrm>
            <a:off x="539640" y="-819000"/>
            <a:ext cx="8101080" cy="687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22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sword belt buck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141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assoonPrimaryInfant"/>
              </a:rPr>
              <a:t>http://www.thebritishmuseum.ac.uk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62864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Thank you for liste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You can clap now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ap showing where the Anglo-Saxons came from and where they settled in England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-2692440"/>
            <a:ext cx="7508880" cy="929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060640"/>
            <a:ext cx="252108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Discovery at Sutton H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mounds at Sutton Hoo in Suffo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0"/>
            <a:ext cx="6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PrimaryInfan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remains of the burial 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SassoonPrimaryInfant"/>
              </a:rPr>
              <a:t>King Redwald being buried in 625 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PrimaryInfant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9736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92428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SassoonPrimaryInfant"/>
              </a:rPr>
              <a:t>Pictures showing digging at Sutton Hoo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00720" y="189000"/>
            <a:ext cx="47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This is what archaeologists think the burial ship may have looked lik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60640"/>
            <a:ext cx="914400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986360"/>
            <a:ext cx="738036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7101000"/>
            <a:ext cx="2484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72360" y="5013360"/>
            <a:ext cx="9716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60280"/>
            <a:ext cx="8785440" cy="5113440"/>
          </a:xfrm>
          <a:prstGeom prst="wedgeRoundRectCallout">
            <a:avLst>
              <a:gd name="adj1" fmla="val 33375"/>
              <a:gd name="adj2" fmla="val 56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ssoonPrimaryInfant"/>
              </a:rPr>
              <a:t>There were great moments that we will never forget such as the lifting of the silver plate that for days had been half covering a silver basin. We knew that exciting things were waiting to be uncovered and we were not disappoint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09:41Z</dcterms:created>
  <dc:creator>jdavidson</dc:creator>
  <dc:description/>
  <dc:language>en-US</dc:language>
  <cp:lastModifiedBy>jdavidson</cp:lastModifiedBy>
  <dcterms:modified xsi:type="dcterms:W3CDTF">2006-03-06T14:54:33Z</dcterms:modified>
  <cp:revision>11</cp:revision>
  <dc:subject/>
  <dc:title>Slide 1</dc:title>
</cp:coreProperties>
</file>