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B1A-7879-447A-B3DB-98229017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6EB-8A7B-4DE9-B3E6-DDFB3EB2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A2B-B322-4903-948A-998CF324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2CA-CA54-4B65-B37B-990C5843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7C66-AF14-4556-9F73-4473FE78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89C0-7ABA-4F2A-9641-C528CE32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96D4-349F-4D49-AFB8-80FE5C0C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B67A-B3CE-4B08-813F-FDEEC50E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9AF1-C1A3-4D77-AACD-073D4553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3B74-E319-43D6-A850-75878CF9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7624-FF97-4148-96AF-5CBF7AC2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698-E1BE-45C3-A144-0CCBF4FF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ECDA-9B1E-4D1A-916B-3EC694E4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1C59-2F81-499A-B4DF-FD51699A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0A53-F6D2-4305-9C03-E9EAE443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4454-3BD1-47EB-8612-F9DC0871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B8A6-A12A-4EBA-A392-F1C738CD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202-0986-4B03-A1D4-46AA157A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42A-1744-45B1-916F-BBA8839D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806-9FC5-4535-947B-E560177E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B74-5B41-4FEE-8238-F1A5EEDD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B10-5FD7-4272-9801-EEEADF47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8A9-D49A-44B1-A05F-B54905EE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527-CC40-4291-A07B-78792AAB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75A5-5BEC-40B3-A397-0B9200C680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871C-6F54-40EC-9434-3D767F6A415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Syllabl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Text Box 93"/>
          <p:cNvSpPr/>
          <p:nvPr/>
        </p:nvSpPr>
        <p:spPr>
          <a:xfrm>
            <a:off x="179280" y="1197000"/>
            <a:ext cx="74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hat is a syllabl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Text Box 97"/>
          <p:cNvSpPr/>
          <p:nvPr/>
        </p:nvSpPr>
        <p:spPr>
          <a:xfrm>
            <a:off x="179280" y="162864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 syllable is a beat in a word, e.g. sy-lla-ble – it has 3 beats, so has 3 syllabl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e can find how many syllables a word has by clapping the beat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Text Box 101"/>
          <p:cNvSpPr/>
          <p:nvPr/>
        </p:nvSpPr>
        <p:spPr>
          <a:xfrm>
            <a:off x="179280" y="321300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n you find how many syllables there are in your nam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103"/>
          <p:cNvSpPr/>
          <p:nvPr/>
        </p:nvSpPr>
        <p:spPr>
          <a:xfrm>
            <a:off x="179280" y="4076640"/>
            <a:ext cx="74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hose name has the most syllables in the clas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Text Box 104"/>
          <p:cNvSpPr/>
          <p:nvPr/>
        </p:nvSpPr>
        <p:spPr>
          <a:xfrm>
            <a:off x="179280" y="4508640"/>
            <a:ext cx="74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hat if we include surname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Text Box 105"/>
          <p:cNvSpPr/>
          <p:nvPr/>
        </p:nvSpPr>
        <p:spPr>
          <a:xfrm>
            <a:off x="179280" y="4941720"/>
            <a:ext cx="745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Splitting words into syllables can help when we’re spelling because we can think of how to spell each syllable then put it altogether. Try it with some tricky word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Text Box 53"/>
          <p:cNvSpPr/>
          <p:nvPr/>
        </p:nvSpPr>
        <p:spPr>
          <a:xfrm>
            <a:off x="179280" y="16286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How did we split words into syllable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How could this help us with spelling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55"/>
          <p:cNvSpPr/>
          <p:nvPr/>
        </p:nvSpPr>
        <p:spPr>
          <a:xfrm>
            <a:off x="179280" y="296244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hink of a long word that you find hard to spell. Can you try to spell it by splitting it into syllable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e.g. importa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im – port – a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If we know how to spell ‘port’ and ‘ant’ it becomes a lot easier to spel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ry some more on your whiteboar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ook in your reading book. Can you find how many syllables there are in each of the words by clapping it out with a partner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e.g. She looked a-round the crow-ded room. Not one per-son there looked fa-mil-i-ar, but she was sure Ash-leigh had said she was co-ming to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rite down some of the words (especially long words) that you found in your text yesterda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write them in syllable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e.g. famili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fa-mil-i-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08000" y="119700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is a syllables? Can you show me how to use syllable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65160" y="2133720"/>
            <a:ext cx="7746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I am going to say four sentences. Write them in your book as I say th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4920" y="3068640"/>
            <a:ext cx="7850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ave you spelt the sentences correctl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36f2"/>
                </a:solidFill>
                <a:latin typeface="Arial"/>
              </a:rPr>
              <a:t>On Sunday I am playing football. I am going to be goalkeep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36f2"/>
                </a:solidFill>
                <a:latin typeface="Arial"/>
              </a:rPr>
              <a:t>A friendship that I value is with my best friend. We make snowmen toget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-36360" y="5661000"/>
            <a:ext cx="770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write other sentences containing one of the words on the board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49:34Z</dcterms:modified>
  <cp:revision>32</cp:revision>
  <dc:subject/>
  <dc:title>Spelling – Year 5</dc:title>
</cp:coreProperties>
</file>