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C8C-785D-4384-BBE4-0E9C5F71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F53-8480-48B4-9ABE-B1DE007F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ACD-17EB-46DA-9B9B-A911183E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89C-EB83-4464-8CA9-FA86BC44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8213-EE20-45BA-BFF6-1D18F340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455F-0EE1-4A56-9A7C-ED28B3F6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4B07-830F-4317-AFD6-FCEEA9B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8803-8EA7-49D0-9BBF-1BB9E55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6DC8-F6BE-48A3-8124-F1475E1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C5EB-4723-4B5D-9320-1E535A7E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AC3D-15D4-44DC-8B6B-61E96BB2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AA8-3B72-45FB-8E33-3896DE1E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BF68-EF42-4AA9-B99C-38BB908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91E1-F35B-4C9A-BDBE-1F9B8F1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7735-29DA-4548-9EF7-D833B34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25DD-4837-4CF6-86DE-AD584DC5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33FB-8C34-4D9B-9CAE-C9811A16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7A8-A843-4E30-8810-3E86D37F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431-81DE-419C-9D3F-368AC4F3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85B-86C7-4640-9E59-A60288AE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138-2862-470F-A0BC-D59338E5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B77-B816-4B73-AE51-36304C30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745-9E6B-46B3-A37E-B550BB8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9FE-4E09-4F54-98C3-B9ADAD4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DB1-7D36-4435-BCE7-6E389ABB32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865B-947A-4621-B84C-170CE73145D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dding the prefixes un- and dis-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3840" y="1370160"/>
          <a:ext cx="3673440" cy="502920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ee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ee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ua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ua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zip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zip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ess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ess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l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l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d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d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92"/>
          <p:cNvSpPr/>
          <p:nvPr/>
        </p:nvSpPr>
        <p:spPr>
          <a:xfrm>
            <a:off x="4136760" y="1343160"/>
            <a:ext cx="343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is a suffix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do we think a prefix i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93"/>
          <p:cNvSpPr/>
          <p:nvPr/>
        </p:nvSpPr>
        <p:spPr>
          <a:xfrm>
            <a:off x="4135680" y="2422440"/>
            <a:ext cx="3647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has adding the prefix un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done to the meaning of each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ord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put each of the wor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in the table into a sentenc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think of other un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ords and put them into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sentence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do you think un- mean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3948120" cy="4572000"/>
        </p:xfrm>
        <a:graphic>
          <a:graphicData uri="http://schemas.openxmlformats.org/drawingml/2006/table">
            <a:tbl>
              <a:tblPr/>
              <a:tblGrid>
                <a:gridCol w="1974960"/>
                <a:gridCol w="197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ik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leas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ee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w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ua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gre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ppear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e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zip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nest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ess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ust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llow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l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der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49"/>
          <p:cNvSpPr/>
          <p:nvPr/>
        </p:nvSpPr>
        <p:spPr>
          <a:xfrm>
            <a:off x="4281120" y="1628640"/>
            <a:ext cx="369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add a prefix to each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of these words to chang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the meaning? Add either un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or dis-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How does each prefix chang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the meaning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write each word an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its opposite by adding a prefix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put the words into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sentence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in your reading book. Can you fin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ive ‘un-’ or ‘dis-’ words? Write them 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your book, then find the meaning of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ach word and write thi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at the words that your partner h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ound. Can you find the meaning of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Using the book that you looked at yesterday can you change the meaning of a paragraph by adding the prefixes ‘un- or ‘dis-’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member you will not need to add a prefix to every wor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50920" y="1413000"/>
            <a:ext cx="7386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prefix? Can you give me an exampl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250920" y="2492280"/>
            <a:ext cx="7386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two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250920" y="3571920"/>
            <a:ext cx="7386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The king was displeased, he was unable to go outside because it was rain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He disliked this unpleasant wea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9:55Z</dcterms:modified>
  <cp:revision>18</cp:revision>
  <dc:subject/>
  <dc:title>Spelling – Year 5</dc:title>
</cp:coreProperties>
</file>