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D6E-2F85-4EE7-805A-B21F8068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9C6-ECED-4CEA-814B-53AF9546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316-571E-4E19-ABA0-6805EA98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CE0-A5BF-4CAA-9069-16785BF8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3B87-F1B2-4AA6-BD67-759F75A1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E575-9025-4276-BCF2-3E0F1F98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A465-A652-494F-B5C5-42EEF3EC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5D40-B1A5-49C0-A85F-C4FC73D9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C2D3-ECC0-4A65-9A4B-1AA36097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ACD7-C242-40EE-940C-0C719B3D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A59B-F41D-4422-A26A-77C83190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C96-B4A1-4642-8D34-9B201BEA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0EDD-CCCD-4BE1-B6F9-724AD1AC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8025-C653-4FB1-9F8C-9123F14A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CEF3-D920-4013-8A25-D8A19933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8CA9-6F81-4303-B9C7-CAB8963A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52CE-82F5-4396-A251-BE574B47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1B2-1D61-446E-B0F9-810DDCC7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DF8-8D73-49B5-A872-B46BD181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EFF-4CD3-4A50-A807-03ACA6FC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81A-76E1-4BA6-97CE-090DC589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615-816E-4634-B601-89EA0986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BE0-C759-463F-8B19-6ADEF8BC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C9F-727C-418A-BB42-F4538B4D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7F5D-0DD4-4432-A3DF-B576B8B68B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473C-E3D1-48F9-9F7D-4848C077539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eading and spelling words containing different spellings for phonem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Text Box 93"/>
          <p:cNvSpPr/>
          <p:nvPr/>
        </p:nvSpPr>
        <p:spPr>
          <a:xfrm>
            <a:off x="179280" y="1197000"/>
            <a:ext cx="745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lthough there are only five vowels, the same sound can be spelt in different way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 short vowel phoneme means that it is just the letter that makes the vowel sound, e.g. cat, dog, bus, bit, leg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 long vowel phoneme means that more than one letter makes the vowel sound. There are five long vowel phoneme groups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/ai/ (train, made, great, gate, way, brak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/ee/ (sea, seed, be, week, weak, seen, meat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/igh/ (write, night, sigh, try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/oa/ (so, toe, blow, road, roll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/(y)oo, oo/ (blew, glue, too, to, tw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Text Box 49"/>
          <p:cNvSpPr/>
          <p:nvPr/>
        </p:nvSpPr>
        <p:spPr>
          <a:xfrm>
            <a:off x="179280" y="162864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Listen out for the /ai/ phoneme in this passage of tex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he train made a loud noise as it pulled into the station. Jerry opened the gate that allowed him to get on the platform, and made his way towards it. It was a great big train, with 9 different carriages, and he could hear the hiss as the driver put the brake o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51"/>
          <p:cNvSpPr/>
          <p:nvPr/>
        </p:nvSpPr>
        <p:spPr>
          <a:xfrm>
            <a:off x="179280" y="436572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Listen again and put your thumbs up when you hear the /ai/ phonem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Text Box 52"/>
          <p:cNvSpPr/>
          <p:nvPr/>
        </p:nvSpPr>
        <p:spPr>
          <a:xfrm>
            <a:off x="179280" y="519912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id you hear them all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Text Box 53"/>
          <p:cNvSpPr/>
          <p:nvPr/>
        </p:nvSpPr>
        <p:spPr>
          <a:xfrm>
            <a:off x="179280" y="162864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Listen out for the /ai/ phoneme in this passage of tex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he tr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ai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n m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a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a loud noise as it pulled into the st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a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i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on. Jerry opened the g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a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that allowed him to get on the platform, and m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a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his way towards it. It was a gr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ea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 big train, with 9 different carriages, and he could hear the hiss as the driver put the br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a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k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o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ighlight the /ai/ phoneme in your passage of text. How many different ways can you find of making the /ai/ sound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find the other long vowel phonemes in the other passages of text? How can you spell each phonem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37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ook at the set of words you have. In your pair take it in turns to say the word for your partner to write i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Once you have used all of the words from your phoneme set, try a different phonem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08000" y="119700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is a long vowel phoneme? Can you give me an exampl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65160" y="2133720"/>
            <a:ext cx="7746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 am going to say four sentences. Write them in your book as I say th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34920" y="3068640"/>
            <a:ext cx="78501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ave you spelt the sentences correctl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36f2"/>
                </a:solidFill>
                <a:latin typeface="Arial"/>
              </a:rPr>
              <a:t>On my way home from school I saw a cat, with a mouse in its mouth. I told my mum about i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36f2"/>
                </a:solidFill>
                <a:latin typeface="Arial"/>
              </a:rPr>
              <a:t>On the same day each week my friend comes to tea. We like to make things with paper, glue and crayon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51:50Z</dcterms:modified>
  <cp:revision>25</cp:revision>
  <dc:subject/>
  <dc:title>Spelling – Year 5</dc:title>
</cp:coreProperties>
</file>