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EB2-E915-4D4E-9F77-644646E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4A7-AE33-461E-ACBA-1F6401E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1A1-C5C1-42CB-8410-D2AC14A2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0DD-6B8D-47F1-B407-042D9117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8D4-F3CA-47BB-A957-FAF13B58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5916-D54A-4F89-9D83-FE85997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7FF7-673F-450B-8B8E-F7C5B9AF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380A-EDCE-4BAF-981E-97BE205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A431-94CF-4904-860D-121967B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2E8-E366-4EBB-A302-DEE1604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CBBD-75D4-40EB-8387-D82156C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1C5-25F9-4BD7-AC03-8131A6EC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265C-4AFA-45C9-8C29-FA09E2D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16F0-8740-4E20-B8CF-555F76B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C01-FB95-4052-ADE7-A811489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609-6458-41BE-9F1B-10DD85DB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A23-300B-46B4-8B01-D660939F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02D-5890-404F-BA92-A6AF998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10C-7BA1-42D0-9420-27E1CEE2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EA9-5CF5-4C54-A73F-80CD7B3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343-525F-4F6E-A1A9-67B73C7B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74E-9A31-4701-8BE6-797108FE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FAC-376B-4FFA-A798-2329AD9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CDD-A8CD-4946-95FD-F053995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5995-D932-41BA-8E3B-FFB78BA87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BD44-F919-427B-9CA5-42E6B7481D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dding the suffixes –s and –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ingular to plu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id you get them righ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755640" y="249228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hop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rd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rm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ll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illar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ngh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ad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is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urtain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lan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oy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ub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ll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r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mil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ug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l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tt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ho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rt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ay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aker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suffix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50920" y="4724280"/>
            <a:ext cx="73864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sentences that use each of our suffix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50920" y="3211560"/>
            <a:ext cx="7386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suffixes have we looked at so far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63480" y="208116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uffix is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unit of letters such as "ing," "ness," or "ed" that are attached to a root word to modify its meaning, part of speech, or tense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476360" y="4005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-ing, -ed, -s, -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o can rememb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39280" y="335772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mean by ten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16000" y="263196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 verb is a ‘doing word’.</a:t>
            </a:r>
            <a:r>
              <a:rPr b="0" lang="en-GB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16000" y="4005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ense tells us the time at which something happened, or will happen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st, present or futu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7427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hange these sentences from past to presen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esterday I walk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 Saturday I shopp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ast week we work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n August she jogged 10 mi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 year ago they planned their wedd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ow can you change them again, but to future ten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68360" y="1052640"/>
          <a:ext cx="6912000" cy="566712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303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–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op the e and add –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uble the final consonant and add -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4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7"/>
          <p:cNvSpPr/>
          <p:nvPr/>
        </p:nvSpPr>
        <p:spPr>
          <a:xfrm>
            <a:off x="0" y="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an you remember the rules for finding verbs that fit in each column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mean by singular and plura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66760" y="2714760"/>
            <a:ext cx="650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ingular means there is just one, whereas plural means there is more than 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For example, there is just one school (singular) on our road, but there are many schools (plural) in Openshaw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549360"/>
            <a:ext cx="7386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suffix did I add when I changed from singular to plura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chool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choo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52360" y="2133720"/>
            <a:ext cx="73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oes this always work? Can we   always just add the –s? When does this rule not work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0920" y="3525840"/>
            <a:ext cx="73436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is rule doesn’t work when the word ends in a consonant then a ‘y’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rmy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arm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elly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jell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50920" y="5580000"/>
            <a:ext cx="734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have to do when adding the –s suffix to such wor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475920"/>
            <a:ext cx="7386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about when we’re adding the suffix –y? What rules do we have then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 whiteboards write some words where the suffix –y is added, and try to identify the rules for adding this suffi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xamples might include: squash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quashy, bend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bendy, flake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flaky, slime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limy, slop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loppy, drip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dripp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add the suffix –y to create adjectiv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ork with a partner to create five descriptive sentences using words with the suffix –y adde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He was covered in slime </a:t>
            </a:r>
            <a:r>
              <a:rPr b="0" lang="en-GB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He was slim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through your reading books, can you find any adjectives in the character descriptions that use the suffix –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hange these words from singular to plural using the suffix –s? Remember the ru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322884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hop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r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rm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l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illar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ngh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ad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is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urtain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o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u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ll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r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mil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u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l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tt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ho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rt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a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aker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gir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50:30Z</dcterms:modified>
  <cp:revision>13</cp:revision>
  <dc:subject/>
  <dc:title>Spelling – Year 5</dc:title>
</cp:coreProperties>
</file>