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92B-6468-4E23-8BFB-634803D4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77F-10D5-45A9-A2A6-847C40A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053-4DFD-444D-B220-657E56EA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1A5-5CCF-4783-A1CC-95D92E86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CCD8-2649-4239-BC2A-A3DF1072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21B3-5F31-4186-8BD8-276A725F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214-30C4-4654-B533-5622DDE0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780D-E7BF-4BB2-B717-A9219D55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9540-9A49-4378-8ADC-14C41F28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CD15-3B0A-48C9-BFA5-760AA615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111D-EE10-4CF0-9344-B264D82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E3C-B060-47FA-9350-F0DECCBC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59CF-27D6-412C-9BE6-EAFD063F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B981-9FD8-46C8-A2AC-E6131A5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25EF-8387-43BF-B70F-6BAE9337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4C6B-5CF4-4112-9AE6-CD4944A9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5AFC-D24F-4051-866D-7628DB8B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337-1019-48D7-9ACE-DEBD0E43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7C5-2029-43AD-8C09-117A1D09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C0F-6104-4930-980F-648B1C4D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73A-69FD-4BF8-B8CE-E27AD29A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440-3A9D-47A8-BBA7-BC8A4F1C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939-8D3F-42BE-911D-811377D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93D-F4EF-48FA-B26E-416C6FB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0BB1-38CA-4117-861B-5D5B1B66A9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449E-11C7-468D-AF2C-33631414E2A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develop knowledge of prefixes to generate new words from root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30"/>
          <p:cNvSpPr/>
          <p:nvPr/>
        </p:nvSpPr>
        <p:spPr>
          <a:xfrm>
            <a:off x="468360" y="126828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is a prefix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31"/>
          <p:cNvSpPr/>
          <p:nvPr/>
        </p:nvSpPr>
        <p:spPr>
          <a:xfrm>
            <a:off x="468360" y="162864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How do prefixes change the meaning of a word?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32"/>
          <p:cNvSpPr/>
          <p:nvPr/>
        </p:nvSpPr>
        <p:spPr>
          <a:xfrm>
            <a:off x="468360" y="2349360"/>
            <a:ext cx="7386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add un- or dis- to these words to alter the meaning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een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gre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own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ppe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ell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ucky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obe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ik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fair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ertain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allow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reate sentences using the root word, then the root word and prefix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Text Box 58"/>
          <p:cNvSpPr/>
          <p:nvPr/>
        </p:nvSpPr>
        <p:spPr>
          <a:xfrm>
            <a:off x="324000" y="1628640"/>
            <a:ext cx="748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prefix is added at the beginning of a word, and does not usually change the spelling of the word, but will change the meaning of the word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e’re going to look at the prefixes re-, pre-, de- and mis-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105"/>
          <p:cNvSpPr/>
          <p:nvPr/>
        </p:nvSpPr>
        <p:spPr>
          <a:xfrm>
            <a:off x="324000" y="38163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ow would these words chang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ycl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ook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frost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underst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rit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view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paid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c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od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hea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106"/>
          <p:cNvSpPr/>
          <p:nvPr/>
        </p:nvSpPr>
        <p:spPr>
          <a:xfrm>
            <a:off x="324000" y="57801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rite sentences using the pairs of wor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416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How many words can you think of that use these prefixe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pre-?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-?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is-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-?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mis-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Rectangle 74"/>
          <p:cNvSpPr/>
          <p:nvPr/>
        </p:nvSpPr>
        <p:spPr>
          <a:xfrm>
            <a:off x="250920" y="4581360"/>
            <a:ext cx="74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ook at the prefixes non-, anti- and ex-. How do each of these change the meaning of words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50920" y="155736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entence challenge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ry to compose a sentence using two or three words with different prefix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I had to defrost the precooked meal before I returned to work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50920" y="1557360"/>
            <a:ext cx="74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prefixes have we looked at this week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am going to read out a sentence. You need to alter the sentence by adding in a prefix and write the new sentenc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I cooked a mea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precooked a meal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7:08Z</dcterms:modified>
  <cp:revision>56</cp:revision>
  <dc:subject/>
  <dc:title>Spelling – Year 5</dc:title>
</cp:coreProperties>
</file>