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F26-7FE9-4D7A-B33D-B6795B97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59BA-87A2-4381-886E-2895F6FE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B77-BF08-48F4-A933-0823749A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D25-A09E-4482-B832-13715E79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6897-D7F2-4C71-A466-182A97EE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E860-C5FF-4ACF-A2A8-3E00A624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1C5A-1749-491F-8855-740A7809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FCDF-9ED4-416C-A11A-0D4E450B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AA7-06FA-47E7-976D-8D2A5EFF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BE4A-4637-4A74-A3B5-1F901A1D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A094-FEFB-40D9-B4CA-4406D80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757-5D9E-4C5B-81E5-9A645336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E858-7A9F-4B97-BAA0-6F3DC26E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2E16-0828-4D57-A752-385A009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A83E-4E2A-43B1-9DD2-5CCF8147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B167-E0F3-4DEE-92C3-A0C49E9F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C953-658D-465C-8AA3-720716E2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216-8D21-4607-911E-F3DD5C4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109-BCC0-45A3-AA2B-3890C1FC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B5D-2715-44D9-B0D3-637A59E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B88-811E-483F-AE1E-967C6A7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7A8-C2D9-4832-A43A-6FAC647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584-C2CE-43D7-9E7A-6B857EA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408C-4633-4668-8AAD-6B4C8CDC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2B5-8595-45B8-B55D-55A7640A04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086-DA10-4142-B9DF-4F217F76B00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understand how words change when suffixes are added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Rectangle 224"/>
          <p:cNvSpPr/>
          <p:nvPr/>
        </p:nvSpPr>
        <p:spPr>
          <a:xfrm>
            <a:off x="395280" y="4292640"/>
            <a:ext cx="7386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work with a partner to create five descriptive sentences using words with the suffix –y add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e.g. He was covered in slime </a:t>
            </a:r>
            <a:r>
              <a:rPr b="0" lang="en-GB" sz="2800" spc="-1" strike="noStrike">
                <a:solidFill>
                  <a:srgbClr val="2f1311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He was slim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225"/>
          <p:cNvSpPr/>
          <p:nvPr/>
        </p:nvSpPr>
        <p:spPr>
          <a:xfrm>
            <a:off x="395280" y="1341360"/>
            <a:ext cx="7386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is the base word for the following adjectives; sunny, funny, ston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26"/>
          <p:cNvSpPr/>
          <p:nvPr/>
        </p:nvSpPr>
        <p:spPr>
          <a:xfrm>
            <a:off x="395280" y="2637000"/>
            <a:ext cx="738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What sort of words are sunny, funny and ston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227"/>
          <p:cNvSpPr/>
          <p:nvPr/>
        </p:nvSpPr>
        <p:spPr>
          <a:xfrm>
            <a:off x="395280" y="3429000"/>
            <a:ext cx="738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hey are now adjectives, as we have added the –y suffix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228"/>
          <p:cNvSpPr/>
          <p:nvPr/>
        </p:nvSpPr>
        <p:spPr>
          <a:xfrm>
            <a:off x="395280" y="2133720"/>
            <a:ext cx="74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sun, fun and ston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324000" y="162864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think of any examples of comparative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. It is cold today. It was colder yesterday. It will be coldest on Frida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324000" y="275112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write the comparatives for these words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long, tall, late, close, big, thin, happy, funny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324000" y="3522600"/>
            <a:ext cx="71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hink of and find as many adjectives as you can ending in the following suffixes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ly, -less, -ful, -able, -er, -es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. slowly, hopeless, painful, likeable, colder, hottes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416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Can you complete this table of comparatives?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9280" y="1916280"/>
          <a:ext cx="7561440" cy="475452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l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lder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ld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ppi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tter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ig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uck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loser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at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iches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ic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w add your own comparative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339560"/>
            <a:ext cx="7386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ork with a partner to learn to spell the ten comparatives that you wrote yesterda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en you have both learnt, and been tested on, the spellings, se if you can find any exceptions (words that you can’t add –er and –est to when creating comparatives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5160" y="1268280"/>
            <a:ext cx="78199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add a suffix to each of these words? Use –ly, -ful, -less, -able, or –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a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in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jo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969920" y="2276640"/>
            <a:ext cx="32497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kindly/kind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ainful/painl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inkab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ot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tefu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joyful/joyl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8:01Z</dcterms:modified>
  <cp:revision>48</cp:revision>
  <dc:subject/>
  <dc:title>Spelling – Year 5</dc:title>
</cp:coreProperties>
</file>