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A352-1742-491B-904A-8B96DEF9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FE4-3862-40DF-B52B-C4051890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124D-1167-468D-B2E1-03F287C8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037-1861-423A-A37C-AC695E8B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2CAB-5836-46EB-B6D7-236C8866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9EAA-17F5-48E7-B9D3-38F0D3E7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E55D-A4DD-48A5-B896-D311FC2F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AE0B-4A71-457B-AF54-2AB2109E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B2BA-429F-46C4-9D6C-7B7EFCF8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2104-B2DF-4144-B896-205A2A7D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6E58-C2A1-484F-9369-EC5E645C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A9E-A8A8-46A3-B1E2-ECE1D755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A8BD-DEC9-47F9-A761-AB96BA8F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F5FB-259D-40F0-A308-E422E931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26AB-1184-40F5-8542-ACF28121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F082-C667-445A-84C6-9182CDE4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6C78-09FD-4DAC-955D-B1003C80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AD1-866B-4FAD-895B-F12B1455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C3BF-58D7-4DE8-87B3-3C313581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455E-6248-4984-BEE8-04ED1F9B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0654-FDB1-42EF-A3AB-81D2ECC7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D7B-A61E-44CA-ACC8-1C871DBD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5A9F-D82B-4B7C-BF14-049A3161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820-2D17-48F0-9D29-7D8BEF1B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01CA-98E0-4BDD-8B14-AB41864E43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9320"/>
                <a:gd name="textAreaBottom" fmla="*/ 1939680 h 193932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440"/>
                <a:gd name="textAreaBottom" fmla="*/ 1999800 h 199944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5960"/>
                <a:gd name="textAreaBottom" fmla="*/ 4035960 h 403596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760"/>
                <a:gd name="textAreaBottom" fmla="*/ 2184120 h 218376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7200"/>
                <a:gd name="textAreaBottom" fmla="*/ 5047560 h 504720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0800"/>
                <a:gd name="textAreaBottom" fmla="*/ 3071160 h 30708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1960"/>
                <a:gd name="textAreaBottom" fmla="*/ 3352320 h 33519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2320"/>
                <a:gd name="textAreaBottom" fmla="*/ 3352680 h 335232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8C1E-D4E8-4A53-8539-4219E14B502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pell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280" y="3500280"/>
            <a:ext cx="582012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o consolidate understanding of adding suffixes and to investigate conventions related to the spelling pattern –le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Revisit, Explain, Us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50920" y="1854360"/>
          <a:ext cx="7386480" cy="4754520"/>
        </p:xfrm>
        <a:graphic>
          <a:graphicData uri="http://schemas.openxmlformats.org/drawingml/2006/table">
            <a:tbl>
              <a:tblPr/>
              <a:tblGrid>
                <a:gridCol w="2462040"/>
                <a:gridCol w="2462400"/>
                <a:gridCol w="2462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add -ed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add -ing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op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run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hut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lap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wim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writ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op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rid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mil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riv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Text Box 219"/>
          <p:cNvSpPr/>
          <p:nvPr/>
        </p:nvSpPr>
        <p:spPr>
          <a:xfrm>
            <a:off x="179280" y="105264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Can you remember how to add the suffixes –ed and –ing to these words? Give it a go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Teach, Model, Defin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Text Box 55"/>
          <p:cNvSpPr/>
          <p:nvPr/>
        </p:nvSpPr>
        <p:spPr>
          <a:xfrm>
            <a:off x="179280" y="1403280"/>
            <a:ext cx="7643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Each of you has a word card. You must find your team ‘leader’ who will have your groups spelling pattern. The three spelling patterns are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two different consonants before –le, e.g. cand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double consonant before –le, e.g. bott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one consonant before –le, e.g. beet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Note: ck is treated as a double consonant – why might this be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Text Box 56"/>
          <p:cNvSpPr/>
          <p:nvPr/>
        </p:nvSpPr>
        <p:spPr>
          <a:xfrm>
            <a:off x="179280" y="429264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What rule can we have for spelling words ending in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-le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Text Box 57"/>
          <p:cNvSpPr/>
          <p:nvPr/>
        </p:nvSpPr>
        <p:spPr>
          <a:xfrm>
            <a:off x="179280" y="501336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If a word contains a short vowel phoneme, there are always two consonants between the vowel and –le. If there is a long vowel phoneme there is one consonant before –l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4842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ith a partner sort your words into groups, and explain your grouping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e.g. those preceded by double letters, those preceded by –ck, -able word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actise, Explore, Investigat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ith a partner look at the words in your pack. One should read the word and the other should try to spell it, using the rules we’ve learnt this week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hat were the rule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79280" y="486900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If a word contains a short vowel phoneme, there are always two consonants between the vowel and –le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If there is a long vowel phoneme there is one consonant before –l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Apply, Assess, Refl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65160" y="1268280"/>
            <a:ext cx="77468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I am going to say four sentences. Write them in your book as I say the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34920" y="2205000"/>
            <a:ext cx="7850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Have you spelt the sentences correctly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a36f2"/>
                </a:solidFill>
                <a:latin typeface="Arial"/>
              </a:rPr>
              <a:t>In the middle of the night I heard a noise. I lit a candle and saw a little beetle scuttle across my roo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a36f2"/>
                </a:solidFill>
                <a:latin typeface="Arial"/>
              </a:rPr>
              <a:t>It went under the table and over an apple and disappeared. Then I heard a giggle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-36360" y="5661000"/>
            <a:ext cx="770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Can you write other sentences containing one of the words on the board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4:18Z</dcterms:created>
  <dc:creator>Miss Rattray</dc:creator>
  <dc:description/>
  <dc:language>en-US</dc:language>
  <cp:lastModifiedBy>Mrs Riley</cp:lastModifiedBy>
  <dcterms:modified xsi:type="dcterms:W3CDTF">2010-02-22T19:49:12Z</dcterms:modified>
  <cp:revision>38</cp:revision>
  <dc:subject/>
  <dc:title>Spelling – Year 5</dc:title>
</cp:coreProperties>
</file>