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99C-F308-4FE1-84AB-F88B22ED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E87-FFDC-42CA-B5C7-30ECD7A5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01A6-E7E7-4788-A8B6-D53265DA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37F-94FB-41E1-A5B6-D6538E0B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974A-B62C-46E2-A93A-96868076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289C-F6BD-4C92-BDAC-14997643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832A-B8C4-4330-86B0-D3C021BC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431C-D9CC-4C01-A1A3-99626A5F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8165-DCCD-465C-A0FB-B3A3BDA5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B5DA-D442-42CC-838C-73656FC6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566A-5A33-41E0-B4D8-57628848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D18-4A2B-4A9A-9E28-B8C123D1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1A47-BD32-4ACA-AD35-038FD867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44A1-E146-4406-8909-299F18B4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8540-AFC7-454A-8572-95A092FB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2DA6-05B8-440B-9746-4CF44007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A54E-D3D2-4F20-A180-73DC6DA7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535-3B33-4B70-8039-F7853735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801-A5C7-4EC7-9F8E-636C0E4D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BA4A-ACE8-4F3E-88AA-F64DBD9B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50C-A136-4286-BFEE-61E77856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A07-9F7F-406D-90BF-9B680880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8AF-02CF-42A0-82D9-D702B434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CE5-F6E0-49C9-82BE-128F2744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AB46-B99E-4119-BB7C-FE725D77A2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4D2D-69A8-4D79-9167-35D679BDDD0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spell regular verb endings and to learn irregular tense changes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Text Box 219"/>
          <p:cNvSpPr/>
          <p:nvPr/>
        </p:nvSpPr>
        <p:spPr>
          <a:xfrm>
            <a:off x="179280" y="11714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hat is a verb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Text Box 221"/>
          <p:cNvSpPr/>
          <p:nvPr/>
        </p:nvSpPr>
        <p:spPr>
          <a:xfrm>
            <a:off x="179280" y="158904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A verb is a doing word. These are important as they tell us what is happening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n you think of some examples of verb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Text Box 222"/>
          <p:cNvSpPr/>
          <p:nvPr/>
        </p:nvSpPr>
        <p:spPr>
          <a:xfrm>
            <a:off x="179280" y="3166920"/>
            <a:ext cx="764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wo of the most common verbs we use show that we 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hav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something or that something 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i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something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e.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oday I 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have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an apple, yesterday I 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had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a pea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oday it 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is</a:t>
            </a: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raining, yesterday it </a:t>
            </a:r>
            <a:r>
              <a:rPr b="0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was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sunny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223"/>
          <p:cNvSpPr/>
          <p:nvPr/>
        </p:nvSpPr>
        <p:spPr>
          <a:xfrm>
            <a:off x="179280" y="520380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n you write your own ‘Today….yesterday…’ sentences using these verb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Text Box 55"/>
          <p:cNvSpPr/>
          <p:nvPr/>
        </p:nvSpPr>
        <p:spPr>
          <a:xfrm>
            <a:off x="179280" y="1403280"/>
            <a:ext cx="475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I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It hops and wobbl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over rocks and ston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It whimpers and whisper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and softly moan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In darkness it glow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like the moon in the sky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What is it, this form, this creatu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this mes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I try and I try to look at its fac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I laugh and cry, I’ve got it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Can you guess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It’s a poor alien from outer space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4067280" y="1773360"/>
            <a:ext cx="375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n we change the verbs to past tens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160" y="333000"/>
            <a:ext cx="76215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Not all verbs follow the spelling patterns for when tense changes. These are known as ‘irregular verbs’ (those that do follow the rules are ‘regular verbs’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an you change these sentences to past tens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go to school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catch a ball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tell a story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break a toy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blow a whistle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sing a song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338640" y="3357720"/>
            <a:ext cx="454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went to school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caught a ball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told a story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broke a toy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blew a whistle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 sang a song…</a:t>
            </a:r>
            <a:r>
              <a:rPr b="0" lang="en-GB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create a past tense alphabet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Yesterday I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ate an appl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bought a bo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caught a fis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2f1311"/>
                </a:solidFill>
                <a:latin typeface="Arial"/>
              </a:rPr>
              <a:t>drank a cok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create a past tense poem, starting with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Yesterday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ong ago…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en I was young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5160" y="1268280"/>
            <a:ext cx="78199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write the past tense of these verb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ook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drop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moa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r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se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tc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2762280" y="2349360"/>
            <a:ext cx="454644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look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dropp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moan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rri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saw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ugh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48:21Z</dcterms:modified>
  <cp:revision>41</cp:revision>
  <dc:subject/>
  <dc:title>Spelling – Year 5</dc:title>
</cp:coreProperties>
</file>