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BFA-A393-4867-8A09-66582F26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4F3-8F83-4756-883E-FC50ECF5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631-8996-4391-9360-B068EC72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F7C0-11A6-4CE7-943C-B6110DE5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9CC1-BFC4-404B-9679-25511B57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05B3-5049-443C-964E-7739D470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8AD8-1D40-4A9E-9CF4-C0275155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4550-FF26-4834-A129-45A5B8BF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7CB5-5741-4E7D-BF50-EC1042EE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AA4E-2AB0-4D2E-9D57-C52A6E90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84FD-0625-4C82-B929-95B7EDC2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CA4-A9F5-49CF-8A50-52BF5FA2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425E-E9A8-4504-BFF8-436B0A8D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ACD2-043C-4A93-A5CA-6205D69B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653C-78C5-4A78-AA2F-94ECD0AD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8B37-EC06-4062-87FC-C79F12A7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FFCD-FA27-4402-B7F3-179BFF3D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9CE9-5577-41CD-A804-3FE498A7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6CF-EE4A-4D56-85BD-C883ED7F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B2E-897A-4677-BBE4-66ECF06A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D823-983C-4846-8C42-A2CEF581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F63-6F68-495C-84DC-9E79F02E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A47-0A9F-4305-8CE7-3EADD598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F7AE-1B93-4967-BF08-E826F9E4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B466-F45F-4E7E-A0E2-C11B34CE8F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320"/>
              <a:ext cx="1190520" cy="19389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8960"/>
                <a:gd name="textAreaBottom" fmla="*/ 1939320 h 193896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560"/>
              <a:ext cx="1219320" cy="19990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080"/>
                <a:gd name="textAreaBottom" fmla="*/ 1999440 h 199908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9520"/>
              <a:ext cx="1231920" cy="403488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4880"/>
                <a:gd name="textAreaBottom" fmla="*/ 4035240 h 403488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9880"/>
              <a:ext cx="979560" cy="218340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400"/>
                <a:gd name="textAreaBottom" fmla="*/ 2183760 h 218340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9840"/>
              <a:ext cx="914400" cy="50457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5760"/>
                <a:gd name="textAreaBottom" fmla="*/ 5046120 h 504576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4960"/>
              <a:ext cx="909720" cy="30697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9720"/>
                <a:gd name="textAreaBottom" fmla="*/ 3070080 h 30697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880"/>
              <a:ext cx="576360" cy="33508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0880"/>
                <a:gd name="textAreaBottom" fmla="*/ 3351240 h 33508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4320"/>
              <a:ext cx="300240" cy="33512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1240"/>
                <a:gd name="textAreaBottom" fmla="*/ 3351600 h 33512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5760" y="3317400"/>
              <a:ext cx="6854760" cy="22536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8EE6-E58E-4B30-96A0-3855CB91A7B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distinguish between the spelling and meaning of homophon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Rectangle 230"/>
          <p:cNvSpPr/>
          <p:nvPr/>
        </p:nvSpPr>
        <p:spPr>
          <a:xfrm>
            <a:off x="468360" y="1268280"/>
            <a:ext cx="7386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A homophone is a word that sounds the same as another, but is spelt differentl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an you think of any example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231"/>
          <p:cNvSpPr/>
          <p:nvPr/>
        </p:nvSpPr>
        <p:spPr>
          <a:xfrm>
            <a:off x="468360" y="1628640"/>
            <a:ext cx="7386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32"/>
          <p:cNvSpPr/>
          <p:nvPr/>
        </p:nvSpPr>
        <p:spPr>
          <a:xfrm>
            <a:off x="428760" y="2357280"/>
            <a:ext cx="7386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230"/>
          <p:cNvSpPr/>
          <p:nvPr/>
        </p:nvSpPr>
        <p:spPr>
          <a:xfrm>
            <a:off x="471600" y="2567160"/>
            <a:ext cx="738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mail/male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see/sea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red/rea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bare/bear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knew/new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an you think of sentences that use these words in context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e.g. Postman Pat put the mail through the letterbox. He has a male cat, called Jes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Text Box 58"/>
          <p:cNvSpPr/>
          <p:nvPr/>
        </p:nvSpPr>
        <p:spPr>
          <a:xfrm>
            <a:off x="369720" y="162864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w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o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hat does each spelling of the homophone mean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 Box 58"/>
          <p:cNvSpPr/>
          <p:nvPr/>
        </p:nvSpPr>
        <p:spPr>
          <a:xfrm>
            <a:off x="369720" y="16430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Look at this homophone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- goes before (precedes) a verb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- a numbe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- as well, also, more tha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Text Box 58"/>
          <p:cNvSpPr/>
          <p:nvPr/>
        </p:nvSpPr>
        <p:spPr>
          <a:xfrm>
            <a:off x="357120" y="395604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I am going to say a sentence. Can you hold up the correct spelling of to/two/too that fits in the sentence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Text Box 58"/>
          <p:cNvSpPr/>
          <p:nvPr/>
        </p:nvSpPr>
        <p:spPr>
          <a:xfrm>
            <a:off x="357120" y="48132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hat about these homophones: wear/where, see/sea, new/knew, eight/ate, know/no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What homophones can you think of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an you identify the meaning of each spelling of the homophone and then use each in a sentenc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e.g. their/they’re/the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They’re getting their ball from over ther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’m going to say bye as I need to go to the shops by my house to buy some te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Rectangle 74"/>
          <p:cNvSpPr/>
          <p:nvPr/>
        </p:nvSpPr>
        <p:spPr>
          <a:xfrm>
            <a:off x="250920" y="458136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250920" y="1557360"/>
            <a:ext cx="741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an you complete the sentences on your sheet by choosing the correct homophon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250920" y="1557360"/>
            <a:ext cx="741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What is a homophon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an you think of some examples of homophone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14200" y="2921040"/>
            <a:ext cx="741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am going to read two sentences. Can you pick the correct spelling of the homophone in each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214200" y="4206960"/>
            <a:ext cx="741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am going to dictate two sentences. Can you write them using the correct spelling in your book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2T19:46:46Z</dcterms:modified>
  <cp:revision>57</cp:revision>
  <dc:subject/>
  <dc:title>Spelling – Year 5</dc:title>
</cp:coreProperties>
</file>