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33AD-F601-4FA5-9D5D-87DABBC0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DB60-B204-4B30-B5FA-E1DAA92C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D30-C938-4A82-B661-B29BD506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020-78F5-493C-A794-425EEC37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B237-52A8-4917-894E-65694A6C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FE12-C00D-49AB-9026-B7F61CD7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566F-68F1-4C26-8EC8-215E4006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6AFD-7EF9-4618-9DEE-7EF16C62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8CE1-1F75-4D94-9937-CD1AB79E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D1C3-7AEB-4788-81EF-1B46EF8E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94EC-BBB3-45CA-81DF-A2BA1CDE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4EF-CF0F-450F-A8EB-23E2FB49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57C7-3406-4822-A228-6C6797B5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8532-BC06-423D-BAB7-B9B5CCB5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8158-1854-45FF-9B35-4E7384D3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74F8-D7FF-4827-8C85-509EFEED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60F3-5C71-46C6-8FA2-7B989DDB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F18-6E1E-4C87-B4B7-2D4FD64D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76D-C96A-4F91-817A-DE9D2E1E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5B3-3707-4842-9D62-4B1C0661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06AF-0512-4E3C-A3C6-D5352810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835-D436-4F72-A782-52081ADB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B7F-B0FA-4095-971D-3C17505A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41C-E185-441A-AD06-E29BB2CC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25F9-D6BD-4179-8641-49988AD8DE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43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4320"/>
              <a:ext cx="1203120" cy="68533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3760"/>
                <a:chOff x="8381880" y="360"/>
                <a:chExt cx="762120" cy="22737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392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62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713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2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7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2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3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3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3440"/>
                <a:ext cx="828720" cy="4706640"/>
                <a:chOff x="7848720" y="1603440"/>
                <a:chExt cx="828720" cy="47066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3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5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8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5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2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4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680"/>
              <a:ext cx="1190520" cy="19386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600"/>
                <a:gd name="textAreaBottom" fmla="*/ 1938960 h 19386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920"/>
              <a:ext cx="1219320" cy="199872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0240"/>
              <a:ext cx="1231920" cy="40341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160"/>
                <a:gd name="textAreaBottom" fmla="*/ 4034520 h 40341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0600"/>
              <a:ext cx="979560" cy="21826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2680"/>
                <a:gd name="textAreaBottom" fmla="*/ 2183040 h 21826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1280"/>
              <a:ext cx="914400" cy="50446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4680"/>
                <a:gd name="textAreaBottom" fmla="*/ 5044680 h 50446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6400"/>
              <a:ext cx="909720" cy="306936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360"/>
                <a:gd name="textAreaBottom" fmla="*/ 3069720 h 306936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4320"/>
              <a:ext cx="576360" cy="33501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160"/>
                <a:gd name="textAreaBottom" fmla="*/ 3350520 h 33501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5760"/>
              <a:ext cx="300240" cy="33505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0520"/>
                <a:gd name="textAreaBottom" fmla="*/ 3350880 h 33505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5760"/>
              <a:ext cx="88920" cy="6853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6480" y="3318120"/>
              <a:ext cx="6853320" cy="225360"/>
            </a:xfrm>
            <a:custGeom>
              <a:avLst/>
              <a:gdLst>
                <a:gd name="textAreaLeft" fmla="*/ 667800 w 6853320"/>
                <a:gd name="textAreaRight" fmla="*/ 6185520 w 685332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E2A6-EB72-40D6-BE11-4576165867A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understand how suffixes change the function of word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357120" y="1268280"/>
            <a:ext cx="7497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a suffix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28760" y="17859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0"/>
          <p:cNvSpPr/>
          <p:nvPr/>
        </p:nvSpPr>
        <p:spPr>
          <a:xfrm>
            <a:off x="428760" y="3071880"/>
            <a:ext cx="7429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-y, -er, -est, -ly, -ful, -able, -ed, -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30"/>
          <p:cNvSpPr/>
          <p:nvPr/>
        </p:nvSpPr>
        <p:spPr>
          <a:xfrm>
            <a:off x="357120" y="2571840"/>
            <a:ext cx="7500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common suffixes have we looked at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230"/>
          <p:cNvSpPr/>
          <p:nvPr/>
        </p:nvSpPr>
        <p:spPr>
          <a:xfrm>
            <a:off x="357120" y="1714680"/>
            <a:ext cx="75009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can give an example of a suffix and how it might be us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Rectangle 230"/>
          <p:cNvSpPr/>
          <p:nvPr/>
        </p:nvSpPr>
        <p:spPr>
          <a:xfrm>
            <a:off x="357120" y="3567240"/>
            <a:ext cx="75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happens to words when suffixes are add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Rectangle 230"/>
          <p:cNvSpPr/>
          <p:nvPr/>
        </p:nvSpPr>
        <p:spPr>
          <a:xfrm>
            <a:off x="357120" y="4352760"/>
            <a:ext cx="750096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eaning of the word chang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going to be looking at this further this week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 partner look at how adding each suffix changes the meaning of word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Text Box 58"/>
          <p:cNvSpPr/>
          <p:nvPr/>
        </p:nvSpPr>
        <p:spPr>
          <a:xfrm>
            <a:off x="369720" y="150012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an adjective? noun? verb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Text Box 58"/>
          <p:cNvSpPr/>
          <p:nvPr/>
        </p:nvSpPr>
        <p:spPr>
          <a:xfrm>
            <a:off x="357120" y="19288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give an example of each and use it in a sentenc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Text Box 58"/>
          <p:cNvSpPr/>
          <p:nvPr/>
        </p:nvSpPr>
        <p:spPr>
          <a:xfrm>
            <a:off x="357120" y="407196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simple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pu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igh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beau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gh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loos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 Box 58"/>
          <p:cNvSpPr/>
          <p:nvPr/>
        </p:nvSpPr>
        <p:spPr>
          <a:xfrm>
            <a:off x="357120" y="2786040"/>
            <a:ext cx="74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create verbs we can use the suffixes -en and -ify. Can you use them to create verbs from these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Text Box 58"/>
          <p:cNvSpPr/>
          <p:nvPr/>
        </p:nvSpPr>
        <p:spPr>
          <a:xfrm>
            <a:off x="357120" y="407196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trength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simpl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mplify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ngth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pur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urif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ight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traight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beauty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autif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ght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ight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loos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oose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357120" y="5786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find examples of where -able is used to create adjective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collect words that contain suffixe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557360"/>
            <a:ext cx="7416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words you have containing suffixes. Can you identify the root word for each and how the meaning has chang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285840" y="1562040"/>
            <a:ext cx="7603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 going to dictate two sentences and want you to write them in your book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0" y="2000160"/>
            <a:ext cx="78501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0" y="585792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285840" y="2500200"/>
            <a:ext cx="75643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spelt the sentences correctl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I wanted to strengthen the table, to make it more usabl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The children were comfortable, once they had straightened the cushion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285840" y="4848120"/>
            <a:ext cx="7603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create sentences using these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happiness, enjoyable, simplify, loosen, laziness, agreeable, beautify, deepe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285840" y="1062000"/>
            <a:ext cx="7603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re the rules for adding suffixe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7T12:25:19Z</dcterms:modified>
  <cp:revision>68</cp:revision>
  <dc:subject/>
  <dc:title>Spelling – Year 5</dc:title>
</cp:coreProperties>
</file>