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8BE-5436-44D8-BEBF-D6863E32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508-8A2C-45B1-8452-E7BF967F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173-C20D-4D4D-BC63-F60B0FA7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5F7-0A04-4DD2-8E33-62B8AE5E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B2F9-EB0C-40B2-8949-204273EE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D658-CB53-4410-85D8-BED7EE09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FAB3-F139-4200-8FFD-80C10E9F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10B0-2D77-48D2-9689-D8F07C0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4F8E-29E8-4CC9-84CC-409D83FC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1CBC-17F5-4AE0-8B63-BDA3B068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5A6B-B176-4D48-B8AB-5836C62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65B-02A8-48D0-998F-9335EDFD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E745-DBF0-4B06-940B-C4EF01E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849A-FEB7-4C92-BA5A-45A7AF54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A934-CBEF-480B-8770-12C51F89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DD54-7B4B-4044-A082-B6A6580E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3A77-1D5A-405D-BA4E-982491B5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E30-44AA-466C-ADB5-484407CE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A90-15E9-45F5-9678-4B075F8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155-8FC2-4139-9C32-748C8294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786-8A4F-4716-8C80-4DB41A97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5A2-1810-46EE-A19E-1BEF2277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82A-E09A-46D4-8C1C-4372D28E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477-E059-4EDA-BDCF-A4C82241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F543-3E6E-47EF-8E0A-873DC2B823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5705-4883-4B7F-A7FA-382284A1ED6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investigate and learn to spell words with common letter str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357120" y="1268280"/>
            <a:ext cx="749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letters that often occur together but are not always sound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428760" y="4071960"/>
            <a:ext cx="74293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an be pronounced, and used, in 3 main way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 – li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gh – cau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gh – tough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ompose sentences with ‘gh’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357120" y="3286080"/>
            <a:ext cx="7500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would the letter string gh be pronounc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357120" y="2071800"/>
            <a:ext cx="75009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include kn, mb, and w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words that contain these letter strings?   know, lamb, wri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69720" y="15001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a word with the ight spelling patte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57120" y="24289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words that contain ight, but aren’t pronounced the same as nigh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357120" y="56181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a list of words that contain igh, ough and augh spelling patter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357120" y="39751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words that don’t contain ight, but are pronounced the same as nigh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Text Box 58"/>
          <p:cNvSpPr/>
          <p:nvPr/>
        </p:nvSpPr>
        <p:spPr>
          <a:xfrm>
            <a:off x="357120" y="33336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ight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357120" y="4905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i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play ‘Hangman’, using words containing igh, ough and augh spelling patter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words you have containing the spelling patterns igh, augh, and ough. Can you group each set of words according to their pronunciatio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85840" y="1071720"/>
            <a:ext cx="76039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going to dictate two sentences and want you to write them in your book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840" y="2000160"/>
            <a:ext cx="75643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Last night I tried to do my homework, it was toug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re were eight sums I had to get right, using the method we had been taugh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85840" y="4348080"/>
            <a:ext cx="7603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these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rough, sight, thought, caught, weight, li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7T12:24:46Z</dcterms:modified>
  <cp:revision>65</cp:revision>
  <dc:subject/>
  <dc:title>Spelling – Year 5</dc:title>
</cp:coreProperties>
</file>