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BA3D-EB16-475B-AC10-D2A99C04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1C32-A157-48E4-A48A-DC86C818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2EC5-3AFB-48DD-BEB3-6FB00BC0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4A69-5E63-4448-954D-A34FE31F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FC4F-6687-427D-91F1-A63CE66F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8A60-8C1A-4EBE-98A3-D17E2989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2F84-D8C9-40F0-8411-279A57FA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1849-495F-41A2-9AA7-3A309EBB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3049-135F-476B-B740-6EADC916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853F-09D5-4E3D-A6E7-1E0EE18F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5342-0826-4319-B967-B856C3FE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910D-A824-4790-BB07-3C9301C4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B299-FEED-4F31-96C9-1335A33D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DC7C-280D-4063-BFCD-D912A00C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E725-3CFD-4EC4-9204-BEC77DED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F837-EE12-4DDB-9DD6-A1363DDC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74D7-610C-4576-876D-2E106AB9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4743-8873-4275-A8D8-F86D0FB7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AA73-C98E-4EE9-97F4-2DEAFA16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8D06-FECA-4942-A166-4AF8E526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F112-B32B-4BDB-AE50-DDBA43F2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0195-191B-459A-B93A-9E07A121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CC8F-DE32-4DF4-B5A7-C5FEEE91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FCA3-1F29-42DC-9F2F-E1778877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73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47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47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C8B6-9D7C-4AD3-BB84-0D23684677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432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4320"/>
              <a:ext cx="1203120" cy="685332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720"/>
              <a:chOff x="7848720" y="360"/>
              <a:chExt cx="1295280" cy="630972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3760"/>
                <a:chOff x="8381880" y="360"/>
                <a:chExt cx="762120" cy="22737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0080" y="13392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0080" y="19620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8600" y="17136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2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2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7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8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2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2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3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39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3440"/>
                <a:ext cx="828720" cy="4706640"/>
                <a:chOff x="7848720" y="1603440"/>
                <a:chExt cx="828720" cy="47066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3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8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7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5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2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8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5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7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7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62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2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4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5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9680"/>
              <a:ext cx="1190520" cy="193860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8600"/>
                <a:gd name="textAreaBottom" fmla="*/ 1938960 h 19386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920"/>
              <a:ext cx="1219320" cy="199872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8720"/>
                <a:gd name="textAreaBottom" fmla="*/ 1999080 h 199872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0240"/>
              <a:ext cx="1231920" cy="40341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4160"/>
                <a:gd name="textAreaBottom" fmla="*/ 4034520 h 40341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0600"/>
              <a:ext cx="979560" cy="21826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2680"/>
                <a:gd name="textAreaBottom" fmla="*/ 2183040 h 21826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1280"/>
              <a:ext cx="914400" cy="50446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4680"/>
                <a:gd name="textAreaBottom" fmla="*/ 5044680 h 50446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6400"/>
              <a:ext cx="909720" cy="306936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9360"/>
                <a:gd name="textAreaBottom" fmla="*/ 3069720 h 306936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4320"/>
              <a:ext cx="576360" cy="33501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0160"/>
                <a:gd name="textAreaBottom" fmla="*/ 3350520 h 33501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5760"/>
              <a:ext cx="300240" cy="33505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0520"/>
                <a:gd name="textAreaBottom" fmla="*/ 3350880 h 33505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5760"/>
              <a:ext cx="88920" cy="6853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800"/>
              <a:ext cx="1165320" cy="61848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480"/>
                <a:gd name="textAreaBottom" fmla="*/ 618840 h 61848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6480" y="3318120"/>
              <a:ext cx="6853320" cy="225360"/>
            </a:xfrm>
            <a:custGeom>
              <a:avLst/>
              <a:gdLst>
                <a:gd name="textAreaLeft" fmla="*/ 667800 w 6853320"/>
                <a:gd name="textAreaRight" fmla="*/ 6185520 w 685332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90B3-78E8-4A77-9875-226E9B1326B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7280" y="3500280"/>
            <a:ext cx="582012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o investigate, collect and classify spelling patterns related to the formation of plural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Rectangle 230"/>
          <p:cNvSpPr/>
          <p:nvPr/>
        </p:nvSpPr>
        <p:spPr>
          <a:xfrm>
            <a:off x="468360" y="1268280"/>
            <a:ext cx="7386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we mean by singular and plural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Rectangle 231"/>
          <p:cNvSpPr/>
          <p:nvPr/>
        </p:nvSpPr>
        <p:spPr>
          <a:xfrm>
            <a:off x="428760" y="1785960"/>
            <a:ext cx="7386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Rectangle 230"/>
          <p:cNvSpPr/>
          <p:nvPr/>
        </p:nvSpPr>
        <p:spPr>
          <a:xfrm>
            <a:off x="471600" y="1781280"/>
            <a:ext cx="738648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we already know about what happens when we change words from singular to plural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230"/>
          <p:cNvSpPr/>
          <p:nvPr/>
        </p:nvSpPr>
        <p:spPr>
          <a:xfrm>
            <a:off x="471600" y="4572000"/>
            <a:ext cx="738648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most words just add –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words that end in a hissing, buzzing or shushing sound (e.g. z, ss, ch, sh) add –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words that end consonant y, drop the y and add –i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Rectangle 230"/>
          <p:cNvSpPr/>
          <p:nvPr/>
        </p:nvSpPr>
        <p:spPr>
          <a:xfrm>
            <a:off x="471600" y="2924280"/>
            <a:ext cx="73864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create sentences using singular and plural word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Rectangle 230"/>
          <p:cNvSpPr/>
          <p:nvPr/>
        </p:nvSpPr>
        <p:spPr>
          <a:xfrm>
            <a:off x="471600" y="3710160"/>
            <a:ext cx="7386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re the rules for changing from singular to plural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Text Box 58"/>
          <p:cNvSpPr/>
          <p:nvPr/>
        </p:nvSpPr>
        <p:spPr>
          <a:xfrm>
            <a:off x="369720" y="150012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write the plural for these singular  word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Text Box 58"/>
          <p:cNvSpPr/>
          <p:nvPr/>
        </p:nvSpPr>
        <p:spPr>
          <a:xfrm>
            <a:off x="357120" y="2286000"/>
            <a:ext cx="1571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urch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Straight Connector 11"/>
          <p:cNvSpPr/>
          <p:nvPr/>
        </p:nvSpPr>
        <p:spPr>
          <a:xfrm>
            <a:off x="2000160" y="2606760"/>
            <a:ext cx="200052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Straight Connector 12"/>
          <p:cNvSpPr/>
          <p:nvPr/>
        </p:nvSpPr>
        <p:spPr>
          <a:xfrm>
            <a:off x="2000160" y="2963880"/>
            <a:ext cx="200052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Straight Connector 13"/>
          <p:cNvSpPr/>
          <p:nvPr/>
        </p:nvSpPr>
        <p:spPr>
          <a:xfrm>
            <a:off x="2000160" y="3392640"/>
            <a:ext cx="200052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Straight Connector 14"/>
          <p:cNvSpPr/>
          <p:nvPr/>
        </p:nvSpPr>
        <p:spPr>
          <a:xfrm>
            <a:off x="2000160" y="3821040"/>
            <a:ext cx="200052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Straight Connector 15"/>
          <p:cNvSpPr/>
          <p:nvPr/>
        </p:nvSpPr>
        <p:spPr>
          <a:xfrm>
            <a:off x="2000160" y="4249800"/>
            <a:ext cx="200052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Straight Connector 16"/>
          <p:cNvSpPr/>
          <p:nvPr/>
        </p:nvSpPr>
        <p:spPr>
          <a:xfrm>
            <a:off x="2000160" y="4678200"/>
            <a:ext cx="200052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Text Box 58"/>
          <p:cNvSpPr/>
          <p:nvPr/>
        </p:nvSpPr>
        <p:spPr>
          <a:xfrm>
            <a:off x="5357880" y="2286000"/>
            <a:ext cx="1857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urch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i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bi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unch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11" name="Straight Arrow Connector 19"/>
          <p:cNvCxnSpPr/>
          <p:nvPr/>
        </p:nvCxnSpPr>
        <p:spPr>
          <a:xfrm>
            <a:off x="3928680" y="2606760"/>
            <a:ext cx="1143720" cy="216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12" name="Straight Arrow Connector 25"/>
          <p:cNvCxnSpPr/>
          <p:nvPr/>
        </p:nvCxnSpPr>
        <p:spPr>
          <a:xfrm>
            <a:off x="3928680" y="2962440"/>
            <a:ext cx="1143720" cy="216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13" name="Straight Arrow Connector 26"/>
          <p:cNvCxnSpPr/>
          <p:nvPr/>
        </p:nvCxnSpPr>
        <p:spPr>
          <a:xfrm>
            <a:off x="3928680" y="3390480"/>
            <a:ext cx="1143720" cy="252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14" name="Straight Arrow Connector 27"/>
          <p:cNvCxnSpPr/>
          <p:nvPr/>
        </p:nvCxnSpPr>
        <p:spPr>
          <a:xfrm>
            <a:off x="3928680" y="3819600"/>
            <a:ext cx="1143720" cy="216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15" name="Straight Arrow Connector 28"/>
          <p:cNvCxnSpPr/>
          <p:nvPr/>
        </p:nvCxnSpPr>
        <p:spPr>
          <a:xfrm>
            <a:off x="3928680" y="4247640"/>
            <a:ext cx="1143720" cy="252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16" name="Straight Arrow Connector 29"/>
          <p:cNvCxnSpPr/>
          <p:nvPr/>
        </p:nvCxnSpPr>
        <p:spPr>
          <a:xfrm>
            <a:off x="3928680" y="4676760"/>
            <a:ext cx="1143720" cy="216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217" name="Text Box 58"/>
          <p:cNvSpPr/>
          <p:nvPr/>
        </p:nvSpPr>
        <p:spPr>
          <a:xfrm>
            <a:off x="357120" y="485784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happens when a word ends in f or f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Text Box 58"/>
          <p:cNvSpPr/>
          <p:nvPr/>
        </p:nvSpPr>
        <p:spPr>
          <a:xfrm>
            <a:off x="357120" y="5286240"/>
            <a:ext cx="748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most words that end in f or fe, we drop the f/fe and add –ves (this is not the case if a word ends in ff, where –s is added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416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group the words on your table according to how they alter when changed from singular to plural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put the words into sentence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Rectangle 74"/>
          <p:cNvSpPr/>
          <p:nvPr/>
        </p:nvSpPr>
        <p:spPr>
          <a:xfrm>
            <a:off x="250920" y="4581360"/>
            <a:ext cx="741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250920" y="1557360"/>
            <a:ext cx="7416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 following irregular plurals. They are irregular because they do not follow the normal rules of plurals. Can you work out strategies for spelling them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ose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gee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e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use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i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man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ome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oth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ee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ild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hildre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son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peop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ot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ee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285840" y="5072040"/>
            <a:ext cx="757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find any plural words that have no singular? (eg scissors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find any words that are the same when singular or plural? (eg sheep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142920" y="1071720"/>
            <a:ext cx="7746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rewrite these sentences but using plurals of the underlined word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0" y="2000160"/>
            <a:ext cx="78501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hil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ade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sandwic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rom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loa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bread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wards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bo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ashe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dis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gir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leane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t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0" y="5857920"/>
            <a:ext cx="770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complete the passage using plural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0" y="2000160"/>
            <a:ext cx="78501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spelt the sentences correctly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hil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ade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sandwic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rom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loa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bread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The children made sandwiches from loaves of brea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wards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bo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ashe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dis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gir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leane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t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36f2"/>
                </a:solidFill>
                <a:latin typeface="Arial"/>
              </a:rPr>
              <a:t>Afterwards the boys washed the dishes and the girls cleaned the tabl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Mrs Riley</cp:lastModifiedBy>
  <dcterms:modified xsi:type="dcterms:W3CDTF">2010-02-22T19:48:45Z</dcterms:modified>
  <cp:revision>61</cp:revision>
  <dc:subject/>
  <dc:title>Spelling – Year 5</dc:title>
</cp:coreProperties>
</file>