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1B3-EA97-487B-8983-B7C9C4C2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B0D-E69D-4FC6-8532-1E727C3A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A18-EABD-4D26-A900-9512AA93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FA5-26AE-4E8D-9EB3-8F16E4A0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E909-0190-4769-B75B-1DEBA309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8E28-848B-418D-9174-259C2C6A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BC16-0815-43BB-B77A-049EAF4E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007E-1BDF-424B-9040-2932E8C0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D42B-BE58-463D-B9B2-E4D7328E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7309-1B4F-4FA7-9F3D-5E446480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8DF8-1CB5-4CB4-B956-AA1E3F04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D48-7355-4A36-AD6B-A407E5BD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BF9B-7B09-4CE1-A7DB-AF9E616F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1B15-2529-47CA-B6D9-E26A37E0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26E9-2773-4F29-A462-0B5F91BA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72D5-16D9-4400-A093-7A8D02FB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5FBD-4346-4954-B092-E6384208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DE0-0B08-4C6C-A8A0-8DA7CC18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0B8-81A4-4803-A9A4-99AEB6CC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8A0-C6A5-4851-A528-AEF95002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BFB-25A9-41E0-8504-5FCA79EE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BCA-5C40-42AE-818C-18E70D7D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C12-8195-4874-B955-CA585403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774-0AAA-4582-AC0A-071FA63F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408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148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18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AE02-9847-409A-9207-43567A001D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756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7560"/>
              <a:ext cx="1203120" cy="685008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5920"/>
                <a:chOff x="8381880" y="360"/>
                <a:chExt cx="762120" cy="227592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3800" y="360"/>
                  <a:ext cx="279360" cy="275400"/>
                  <a:chOff x="871380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3800" y="360"/>
                    <a:ext cx="279360" cy="275400"/>
                    <a:chOff x="871380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268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204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3320" y="137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708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800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748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3320" y="19908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1840" y="1742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61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61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07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0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4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59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6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5960"/>
                <a:ext cx="828720" cy="4704120"/>
                <a:chOff x="7848720" y="1605960"/>
                <a:chExt cx="828720" cy="470412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5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0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7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0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8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7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1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0760"/>
              <a:ext cx="1190520" cy="19375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7520"/>
                <a:gd name="textAreaBottom" fmla="*/ 1937880 h 19375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0000"/>
              <a:ext cx="1219320" cy="19976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7640"/>
                <a:gd name="textAreaBottom" fmla="*/ 1998000 h 19976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2040"/>
              <a:ext cx="1231920" cy="40323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2360"/>
                <a:gd name="textAreaBottom" fmla="*/ 4032720 h 40323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2040"/>
              <a:ext cx="979560" cy="21819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1960"/>
                <a:gd name="textAreaBottom" fmla="*/ 2182320 h 21819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4160"/>
              <a:ext cx="914400" cy="50421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2160"/>
                <a:gd name="textAreaBottom" fmla="*/ 5042520 h 50421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9640"/>
              <a:ext cx="909720" cy="30679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7920"/>
                <a:gd name="textAreaBottom" fmla="*/ 3068280 h 30679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7560"/>
              <a:ext cx="576360" cy="33487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8720"/>
                <a:gd name="textAreaBottom" fmla="*/ 3349080 h 33487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9000"/>
              <a:ext cx="300240" cy="334908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9080"/>
                <a:gd name="textAreaBottom" fmla="*/ 3349440 h 33490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9000"/>
              <a:ext cx="88920" cy="68500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160"/>
              <a:ext cx="1165320" cy="61848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7920" y="3319920"/>
              <a:ext cx="6850080" cy="225360"/>
            </a:xfrm>
            <a:custGeom>
              <a:avLst/>
              <a:gdLst>
                <a:gd name="textAreaLeft" fmla="*/ 667440 w 6850080"/>
                <a:gd name="textAreaRight" fmla="*/ 6182640 w 685008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76A2-2CE5-4D45-AC99-5271900039A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understand the use of the apostrophe in contracted forms of wor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357120" y="126828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following examples of headline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m: We’ve got 40 days to wi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nger: I haven’t forgiven Taylor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on: I’ve paid the pric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28760" y="17859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357120" y="4429080"/>
            <a:ext cx="75009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357120" y="3567240"/>
            <a:ext cx="75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30"/>
          <p:cNvSpPr/>
          <p:nvPr/>
        </p:nvSpPr>
        <p:spPr>
          <a:xfrm>
            <a:off x="357120" y="4352760"/>
            <a:ext cx="750096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230"/>
          <p:cNvSpPr/>
          <p:nvPr/>
        </p:nvSpPr>
        <p:spPr>
          <a:xfrm>
            <a:off x="357120" y="3125880"/>
            <a:ext cx="74977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are the apostrophes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has an apostrophe been us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Rectangle 230"/>
          <p:cNvSpPr/>
          <p:nvPr/>
        </p:nvSpPr>
        <p:spPr>
          <a:xfrm>
            <a:off x="357120" y="4054320"/>
            <a:ext cx="7497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postrophe represents missing letters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 joining of two word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Rectangle 230"/>
          <p:cNvSpPr/>
          <p:nvPr/>
        </p:nvSpPr>
        <p:spPr>
          <a:xfrm>
            <a:off x="357120" y="4786200"/>
            <a:ext cx="7497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pairs, one person say a sentence which includes contracted words ( words with apostrophes), the other should then say the same sentence with full words, e.g. I’ve not had breakfast.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 have not had breakfas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Text Box 58"/>
          <p:cNvSpPr/>
          <p:nvPr/>
        </p:nvSpPr>
        <p:spPr>
          <a:xfrm>
            <a:off x="369720" y="1500120"/>
            <a:ext cx="62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is an apostrophe us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Text Box 58"/>
          <p:cNvSpPr/>
          <p:nvPr/>
        </p:nvSpPr>
        <p:spPr>
          <a:xfrm>
            <a:off x="357120" y="19288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write the full form of the following contracted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58"/>
          <p:cNvSpPr/>
          <p:nvPr/>
        </p:nvSpPr>
        <p:spPr>
          <a:xfrm>
            <a:off x="1512720" y="283356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1512720" y="326232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1512720" y="36910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ha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Text Box 58"/>
          <p:cNvSpPr/>
          <p:nvPr/>
        </p:nvSpPr>
        <p:spPr>
          <a:xfrm>
            <a:off x="1512720" y="41194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58"/>
          <p:cNvSpPr/>
          <p:nvPr/>
        </p:nvSpPr>
        <p:spPr>
          <a:xfrm>
            <a:off x="1512720" y="4548240"/>
            <a:ext cx="19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a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Text Box 58"/>
          <p:cNvSpPr/>
          <p:nvPr/>
        </p:nvSpPr>
        <p:spPr>
          <a:xfrm>
            <a:off x="1512720" y="4976640"/>
            <a:ext cx="22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Text Box 58"/>
          <p:cNvSpPr/>
          <p:nvPr/>
        </p:nvSpPr>
        <p:spPr>
          <a:xfrm>
            <a:off x="369720" y="283356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369720" y="326232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n’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Text Box 58"/>
          <p:cNvSpPr/>
          <p:nvPr/>
        </p:nvSpPr>
        <p:spPr>
          <a:xfrm>
            <a:off x="369720" y="36910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’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Text Box 58"/>
          <p:cNvSpPr/>
          <p:nvPr/>
        </p:nvSpPr>
        <p:spPr>
          <a:xfrm>
            <a:off x="369720" y="41194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369720" y="4548240"/>
            <a:ext cx="19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’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369720" y="4976640"/>
            <a:ext cx="22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n’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Text Box 58"/>
          <p:cNvSpPr/>
          <p:nvPr/>
        </p:nvSpPr>
        <p:spPr>
          <a:xfrm>
            <a:off x="4143240" y="283356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’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Text Box 58"/>
          <p:cNvSpPr/>
          <p:nvPr/>
        </p:nvSpPr>
        <p:spPr>
          <a:xfrm>
            <a:off x="4143240" y="326232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’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Text Box 58"/>
          <p:cNvSpPr/>
          <p:nvPr/>
        </p:nvSpPr>
        <p:spPr>
          <a:xfrm>
            <a:off x="4143240" y="36910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’l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Text Box 58"/>
          <p:cNvSpPr/>
          <p:nvPr/>
        </p:nvSpPr>
        <p:spPr>
          <a:xfrm>
            <a:off x="4143240" y="41194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n’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Text Box 58"/>
          <p:cNvSpPr/>
          <p:nvPr/>
        </p:nvSpPr>
        <p:spPr>
          <a:xfrm>
            <a:off x="4143240" y="4548240"/>
            <a:ext cx="19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n’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 Box 58"/>
          <p:cNvSpPr/>
          <p:nvPr/>
        </p:nvSpPr>
        <p:spPr>
          <a:xfrm>
            <a:off x="4143240" y="4976640"/>
            <a:ext cx="22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’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Text Box 58"/>
          <p:cNvSpPr/>
          <p:nvPr/>
        </p:nvSpPr>
        <p:spPr>
          <a:xfrm>
            <a:off x="5513400" y="283356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5513400" y="326232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woul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Text Box 58"/>
          <p:cNvSpPr/>
          <p:nvPr/>
        </p:nvSpPr>
        <p:spPr>
          <a:xfrm>
            <a:off x="5513400" y="3691080"/>
            <a:ext cx="24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wil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Text Box 58"/>
          <p:cNvSpPr/>
          <p:nvPr/>
        </p:nvSpPr>
        <p:spPr>
          <a:xfrm>
            <a:off x="5513400" y="411948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5513400" y="454824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Text Box 58"/>
          <p:cNvSpPr/>
          <p:nvPr/>
        </p:nvSpPr>
        <p:spPr>
          <a:xfrm>
            <a:off x="5513400" y="4976640"/>
            <a:ext cx="22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ha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8"/>
          <p:cNvSpPr/>
          <p:nvPr/>
        </p:nvSpPr>
        <p:spPr>
          <a:xfrm>
            <a:off x="357120" y="357120"/>
            <a:ext cx="7488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a special case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’s mean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t ha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but its means belonging t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hold up the correct it’s/its for each sentenc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…raining today (it’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e cat licked … paws (it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vely day toda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se coat is this? … mine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lephant raised … trunk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ry’s birthday toda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ok had lost … last pag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find contracted words in your book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the contracted word and its full form in your book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don’t – do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50920" y="1557360"/>
            <a:ext cx="741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a sentence using the contracted form of a word. Then write the same sentence but using the full form of the wor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Sophie realised she’d broken her mums plat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phie realised she had broken her mums plat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285840" y="1562040"/>
            <a:ext cx="7603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0" y="585792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285840" y="2500200"/>
            <a:ext cx="75643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285840" y="4786200"/>
            <a:ext cx="7603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285840" y="1276200"/>
            <a:ext cx="7603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write three contracted words and their full forms on your boar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285840" y="2428920"/>
            <a:ext cx="760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write the contracted forms of these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ha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wil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ha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currys</cp:lastModifiedBy>
  <dcterms:modified xsi:type="dcterms:W3CDTF">2010-06-28T12:50:57Z</dcterms:modified>
  <cp:revision>74</cp:revision>
  <dc:subject/>
  <dc:title>Spelling – Year 5</dc:title>
</cp:coreProperties>
</file>