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4AA-FE2D-4AD2-B943-4FBE915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1FB-7400-4F34-9606-8AF7BF9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2BE-E3E1-420E-9F34-42B6A009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9E4-7F7D-471D-9C16-615DA9C9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E8F-005D-4E6F-8964-9335F5CA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F68-EACD-4958-BDF1-5A1C3C7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888-F029-4578-A818-2062C11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425B-565C-4AB7-896E-A408D53E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7A63-7DBA-4E97-B256-6A77F04E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44B2-5671-4B08-A351-8DD1550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D5C9-6C9E-4D36-A910-2E67012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E99-70FC-4918-A1FF-E9C5CB6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6EB4-2CDC-4FD0-8295-F594367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E709-7AD5-4F90-8D8B-B921D36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7CB8-4AF9-4F2D-94B0-53AEBE0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68F8-2052-40AB-895D-1206B3EB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78A-F09C-44B4-A876-1D178DCA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F71-DE92-4C68-A52F-BD68AD4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739-3BC0-44F0-B1CD-239AF81A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991-8881-4F7B-B4A8-159D3A2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CE0-AC2F-41C8-A36C-6D3B13A2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054-16C9-4B88-A751-413587B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B46-6B17-4B7C-A15B-05F406A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9FE-A487-4A6C-A258-A0BA027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EE0-4848-40F4-89D1-E136AB3DFE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360"/>
                  <a:ext cx="279360" cy="275400"/>
                  <a:chOff x="871380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360"/>
                    <a:ext cx="279360" cy="275400"/>
                    <a:chOff x="871380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640"/>
                <a:gd name="textAreaBottom" fmla="*/ 1998000 h 19976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2360"/>
                <a:gd name="textAreaBottom" fmla="*/ 4032720 h 40323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960"/>
                <a:gd name="textAreaBottom" fmla="*/ 2182320 h 21819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920"/>
                <a:gd name="textAreaBottom" fmla="*/ 3068280 h 30679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720"/>
                <a:gd name="textAreaBottom" fmla="*/ 3349080 h 33487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9080"/>
                <a:gd name="textAreaBottom" fmla="*/ 3349440 h 33490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229-1EDF-451B-AD2B-122E409A5BC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revise and investigate links between meaning and spelling when using affix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14280" y="1339920"/>
            <a:ext cx="7497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24000" y="2276640"/>
            <a:ext cx="7497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eral term for prefixes and suffixes is af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14280" y="17715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24000" y="313992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ds that have both a prefix and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ar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230"/>
          <p:cNvSpPr/>
          <p:nvPr/>
        </p:nvSpPr>
        <p:spPr>
          <a:xfrm>
            <a:off x="324000" y="4581360"/>
            <a:ext cx="749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words that have a prefix or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69720" y="1500120"/>
            <a:ext cx="744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ork out the meaning of the following prefix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graph, autobiograph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m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mferen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, telesco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rt, transf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69720" y="1484280"/>
            <a:ext cx="7442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ro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24000" y="4138560"/>
            <a:ext cx="74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ds that use these pre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five words with either prefixes or suffixes that you didn’t know befo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up the meaning of each word in a dictiona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words to which more than one suffix could be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 – correc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correc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– 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ul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pla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81160" y="183996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of words with both a suffix and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50920" y="277488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dictate two sentences,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50920" y="356724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The children were transported on a minibus to the circu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36f2"/>
                </a:solidFill>
                <a:latin typeface="Arial"/>
              </a:rPr>
              <a:t>They asked the clowns for their autographs then they returned hom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49:35Z</dcterms:modified>
  <cp:revision>78</cp:revision>
  <dc:subject/>
  <dc:title>Spelling – Year 5</dc:title>
</cp:coreProperties>
</file>