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8096-5230-41AE-BDA5-D1F231265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45F5-18A6-4D1D-BCA4-C565BED51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2281-A66F-48FB-8EF7-E29749D53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6BB2-3A3B-4469-9C20-1ED563706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7EF54-9E82-48AB-B13F-454209270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DD78F-4955-4937-932A-881EAA462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1FB2F-4BFA-45C3-8246-FAA1C3DB6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30C50-F9A8-4474-BEBD-21E7C2A9B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8D270-5587-4945-9EA6-D547E47F6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17C44-9A8B-44BB-957A-BE39DC0E4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0AFDE-DE9A-40BF-A751-E17ED3F0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BC32-ABFE-4188-B59B-BCE5B76A2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94E71-FB77-411F-9262-84F691A6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7877B-6A3F-4A5F-8B33-6D65716D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89049-80F4-4B3C-A0D1-376CF9173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C6F2F-7C10-4715-88BF-6FAF30611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5391E-EA5C-4B70-BD83-F552150BB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081E-59C1-4A61-9E33-FFF1A108F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E146-C2F9-458A-AC9C-946577E61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320B-D41B-42DB-AD3E-EFCC51FE4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8F59-7ABC-4ADA-9F2F-C2CBD055C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5BC8-0475-48FA-9004-7E310411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F911-FA25-4586-B9FF-CDA5FB8E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8C7C-5D8C-4CB0-9B86-14320DB7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6264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004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008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97939-9DC2-4120-8E7F-3AB15FBA45E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-360"/>
            <a:ext cx="9159840" cy="6870600"/>
            <a:chOff x="0" y="-36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900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9000"/>
              <a:ext cx="1203120" cy="684864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-360"/>
              <a:ext cx="1295280" cy="6310800"/>
              <a:chOff x="7848720" y="-360"/>
              <a:chExt cx="1295280" cy="63108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-360"/>
                <a:ext cx="762120" cy="2277720"/>
                <a:chOff x="8381880" y="-360"/>
                <a:chExt cx="762120" cy="227772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17040" y="-360"/>
                  <a:ext cx="279360" cy="275400"/>
                  <a:chOff x="8717040" y="-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17040" y="-360"/>
                    <a:ext cx="279360" cy="275400"/>
                    <a:chOff x="8717040" y="-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55920" y="-392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65280" y="91800"/>
                      <a:ext cx="140760" cy="225360"/>
                    </a:xfrm>
                    <a:custGeom>
                      <a:avLst/>
                      <a:gdLst>
                        <a:gd name="textAreaLeft" fmla="*/ 0 w 140760"/>
                        <a:gd name="textAreaRight" fmla="*/ 141120 w 14076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36560" y="138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70320" y="71640"/>
                    <a:ext cx="42480" cy="57240"/>
                  </a:xfrm>
                  <a:custGeom>
                    <a:avLst/>
                    <a:gdLst>
                      <a:gd name="textAreaLeft" fmla="*/ 0 w 42480"/>
                      <a:gd name="textAreaRight" fmla="*/ 42840 w 4248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41240" y="5904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10720" y="10872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36560" y="20016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85080" y="17532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3760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3760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4180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2232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4600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688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704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756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7040"/>
                <a:ext cx="828720" cy="4703400"/>
                <a:chOff x="7848720" y="1607040"/>
                <a:chExt cx="828720" cy="470340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704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1124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2000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824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90052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472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8104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752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928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980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804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544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628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908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960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152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976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2064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800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11120"/>
              <a:ext cx="1190520" cy="193716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37160"/>
                <a:gd name="textAreaBottom" fmla="*/ 1937160 h 193716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60360"/>
              <a:ext cx="1219320" cy="199728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997280"/>
                <a:gd name="textAreaBottom" fmla="*/ 1997640 h 199728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23120"/>
              <a:ext cx="1231920" cy="403128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1280"/>
                <a:gd name="textAreaBottom" fmla="*/ 4031280 h 403128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42760"/>
              <a:ext cx="979560" cy="218124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1240"/>
                <a:gd name="textAreaBottom" fmla="*/ 2181240 h 218124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35600"/>
              <a:ext cx="914400" cy="50410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1080"/>
                <a:gd name="textAreaBottom" fmla="*/ 5041080 h 50410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70720"/>
              <a:ext cx="909720" cy="3067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67200"/>
                <a:gd name="textAreaBottom" fmla="*/ 3067560 h 306720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9000"/>
              <a:ext cx="576360" cy="334800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48000"/>
                <a:gd name="textAreaBottom" fmla="*/ 3348360 h 334800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0440"/>
              <a:ext cx="300240" cy="334836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48360"/>
                <a:gd name="textAreaBottom" fmla="*/ 3348720 h 334836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0440"/>
              <a:ext cx="88920" cy="684864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30160"/>
              <a:ext cx="1165320" cy="61812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8120"/>
                <a:gd name="textAreaBottom" fmla="*/ 618480 h 61812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8640" y="3320640"/>
              <a:ext cx="6848640" cy="225360"/>
            </a:xfrm>
            <a:custGeom>
              <a:avLst/>
              <a:gdLst>
                <a:gd name="textAreaLeft" fmla="*/ 667440 w 6848640"/>
                <a:gd name="textAreaRight" fmla="*/ 6181200 w 684864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EAADF-912F-4D7B-B219-7BCA0419D89D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Spelling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547280" y="3500280"/>
            <a:ext cx="5820120" cy="21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To spell unstressed vowels in polysyllabic word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Revisit, Explain, Us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Rectangle 230"/>
          <p:cNvSpPr/>
          <p:nvPr/>
        </p:nvSpPr>
        <p:spPr>
          <a:xfrm>
            <a:off x="314280" y="1339920"/>
            <a:ext cx="7497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o the following words have in common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Rectangle 231"/>
          <p:cNvSpPr/>
          <p:nvPr/>
        </p:nvSpPr>
        <p:spPr>
          <a:xfrm>
            <a:off x="428760" y="1785960"/>
            <a:ext cx="73864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Rectangle 230"/>
          <p:cNvSpPr/>
          <p:nvPr/>
        </p:nvSpPr>
        <p:spPr>
          <a:xfrm>
            <a:off x="357120" y="4429080"/>
            <a:ext cx="750096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Rectangle 230"/>
          <p:cNvSpPr/>
          <p:nvPr/>
        </p:nvSpPr>
        <p:spPr>
          <a:xfrm>
            <a:off x="357120" y="3567240"/>
            <a:ext cx="750096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" name="Rectangle 230"/>
          <p:cNvSpPr/>
          <p:nvPr/>
        </p:nvSpPr>
        <p:spPr>
          <a:xfrm>
            <a:off x="357120" y="4352760"/>
            <a:ext cx="750096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Rectangle 230"/>
          <p:cNvSpPr/>
          <p:nvPr/>
        </p:nvSpPr>
        <p:spPr>
          <a:xfrm>
            <a:off x="360360" y="2276640"/>
            <a:ext cx="7497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dnesda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ested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isonou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Rectangle 230"/>
          <p:cNvSpPr/>
          <p:nvPr/>
        </p:nvSpPr>
        <p:spPr>
          <a:xfrm>
            <a:off x="360360" y="3209760"/>
            <a:ext cx="749772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y would these words present difficulties in spelling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Rectangle 230"/>
          <p:cNvSpPr/>
          <p:nvPr/>
        </p:nvSpPr>
        <p:spPr>
          <a:xfrm>
            <a:off x="324000" y="4581360"/>
            <a:ext cx="7497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Rectangle 230"/>
          <p:cNvSpPr/>
          <p:nvPr/>
        </p:nvSpPr>
        <p:spPr>
          <a:xfrm>
            <a:off x="360360" y="4138560"/>
            <a:ext cx="7497720" cy="1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we break the words down and clap the syllables it makes the spelling clearer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.g. bus-i-ness, Wed-nes-da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Rectangle 230"/>
          <p:cNvSpPr/>
          <p:nvPr/>
        </p:nvSpPr>
        <p:spPr>
          <a:xfrm>
            <a:off x="357120" y="5424480"/>
            <a:ext cx="7497720" cy="1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 we can’t hear a letter in a word we call it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unstressed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Rectangle 230"/>
          <p:cNvSpPr/>
          <p:nvPr/>
        </p:nvSpPr>
        <p:spPr>
          <a:xfrm>
            <a:off x="357120" y="2286000"/>
            <a:ext cx="7497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da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ted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is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u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s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s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Teach, Model, Defin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Text Box 58"/>
          <p:cNvSpPr/>
          <p:nvPr/>
        </p:nvSpPr>
        <p:spPr>
          <a:xfrm>
            <a:off x="369720" y="1500120"/>
            <a:ext cx="7442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 learning to spell words containing unstressed vowels (e.g. sep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ate, diff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nce) you need to think of strategie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Text Box 58"/>
          <p:cNvSpPr/>
          <p:nvPr/>
        </p:nvSpPr>
        <p:spPr>
          <a:xfrm>
            <a:off x="324000" y="4138560"/>
            <a:ext cx="7441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you think of strategies for spelling these words containing unstressed vowels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ocolat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getabl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iniatur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Rectangle 230"/>
          <p:cNvSpPr/>
          <p:nvPr/>
        </p:nvSpPr>
        <p:spPr>
          <a:xfrm>
            <a:off x="360360" y="2849400"/>
            <a:ext cx="749772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could us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peak, spel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saying the parts of the word, or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ords within word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uch as thinking ‘there’s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 ra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n separate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Arial"/>
              </a:rPr>
              <a:t>Practise, Explore, Investigat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7416720" cy="15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a partner select 10 words containing unstressed vowels and write down a strategy for spelling each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Rectangle 74"/>
          <p:cNvSpPr/>
          <p:nvPr/>
        </p:nvSpPr>
        <p:spPr>
          <a:xfrm>
            <a:off x="250920" y="4581360"/>
            <a:ext cx="74167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142920" y="3000240"/>
          <a:ext cx="7572240" cy="2733840"/>
        </p:xfrm>
        <a:graphic>
          <a:graphicData uri="http://schemas.openxmlformats.org/drawingml/2006/table">
            <a:tbl>
              <a:tblPr/>
              <a:tblGrid>
                <a:gridCol w="1143000"/>
                <a:gridCol w="1333440"/>
                <a:gridCol w="1203480"/>
                <a:gridCol w="1344600"/>
                <a:gridCol w="1285920"/>
                <a:gridCol w="1261800"/>
              </a:tblGrid>
              <a:tr h="51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boundary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business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category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poisonous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dictionary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difference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</a:tr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different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deafening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definite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definitely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easily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abandon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library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marvellous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miserable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memorable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factory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family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primary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frightening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general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generous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generally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vegetable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jewellery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fattening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January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medicine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similar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stationary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Arial"/>
              </a:rPr>
              <a:t>Practise, Explore, Investigat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484280"/>
            <a:ext cx="73864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250920" y="1557360"/>
            <a:ext cx="74167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 are also words which contain unstressed consonants. Can you find strategies for spelling these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928800" y="3071880"/>
          <a:ext cx="5643360" cy="2370240"/>
        </p:xfrm>
        <a:graphic>
          <a:graphicData uri="http://schemas.openxmlformats.org/drawingml/2006/table">
            <a:tbl>
              <a:tblPr/>
              <a:tblGrid>
                <a:gridCol w="1752480"/>
                <a:gridCol w="2046240"/>
                <a:gridCol w="1844640"/>
              </a:tblGrid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Wednesday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February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environment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government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handbag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handkerchief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cupboard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raspberry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castle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sign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doubt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knight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Apply, Assess, Reflec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Rectangle 9"/>
          <p:cNvSpPr/>
          <p:nvPr/>
        </p:nvSpPr>
        <p:spPr>
          <a:xfrm>
            <a:off x="285840" y="1562040"/>
            <a:ext cx="76039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Rectangle 10"/>
          <p:cNvSpPr/>
          <p:nvPr/>
        </p:nvSpPr>
        <p:spPr>
          <a:xfrm>
            <a:off x="0" y="2000160"/>
            <a:ext cx="785016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1" name="Rectangle 11"/>
          <p:cNvSpPr/>
          <p:nvPr/>
        </p:nvSpPr>
        <p:spPr>
          <a:xfrm>
            <a:off x="0" y="5857920"/>
            <a:ext cx="7704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Rectangle 10"/>
          <p:cNvSpPr/>
          <p:nvPr/>
        </p:nvSpPr>
        <p:spPr>
          <a:xfrm>
            <a:off x="285840" y="2500200"/>
            <a:ext cx="756432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285840" y="4786200"/>
            <a:ext cx="760392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285840" y="1276200"/>
            <a:ext cx="76039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an unstressed vowel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285840" y="2428920"/>
            <a:ext cx="76039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Rectangle 9"/>
          <p:cNvSpPr/>
          <p:nvPr/>
        </p:nvSpPr>
        <p:spPr>
          <a:xfrm>
            <a:off x="281160" y="1714680"/>
            <a:ext cx="76039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think of examples of words with unstressed vowels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250920" y="3419640"/>
            <a:ext cx="76039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am going to dictate two sentences, write them in your book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8" name="Rectangle 9"/>
          <p:cNvSpPr/>
          <p:nvPr/>
        </p:nvSpPr>
        <p:spPr>
          <a:xfrm>
            <a:off x="250920" y="4205160"/>
            <a:ext cx="76039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you spelt the sentences correctly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36f2"/>
                </a:solidFill>
                <a:latin typeface="Arial"/>
              </a:rPr>
              <a:t>On the first Wednesday in February, my family and I were involved in a frightening accident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a36f2"/>
                </a:solidFill>
                <a:latin typeface="Arial"/>
              </a:rPr>
              <a:t>We were on our way to the library to get some general knowledge books and a dictionary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" name="Rectangle 9"/>
          <p:cNvSpPr/>
          <p:nvPr/>
        </p:nvSpPr>
        <p:spPr>
          <a:xfrm>
            <a:off x="254160" y="2562120"/>
            <a:ext cx="76039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think of strategies for spelling words containing unstressed vowels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15:14:18Z</dcterms:created>
  <dc:creator>Miss Rattray</dc:creator>
  <dc:description/>
  <dc:language>en-US</dc:language>
  <cp:lastModifiedBy>currys</cp:lastModifiedBy>
  <dcterms:modified xsi:type="dcterms:W3CDTF">2010-06-28T12:48:19Z</dcterms:modified>
  <cp:revision>80</cp:revision>
  <dc:subject/>
  <dc:title>Spelling – Year 5</dc:title>
</cp:coreProperties>
</file>