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252-6110-48FA-B3D1-24B89C06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F7C-8397-4266-9141-B5DF8DA2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CB9-E476-4613-AF46-6824C18C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27D-316C-41BE-969C-640A2F28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EC8-5FA0-42EE-AA1F-D3672DE1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7F4E-D249-44AD-8DF7-2356937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353-8556-45DF-A167-3BDBF58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9C3A-AAC2-44D7-9E1A-BCC2C708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413-9130-45D2-9992-58572523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EC72-2D8B-47F0-A87A-9120A24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3DF1-F451-4807-92B3-FA6C902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C3D-CE5E-43F5-8486-D5E469DE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F6A4-C00B-4445-BED5-E1339AB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8422-7DAE-42BD-A69C-9FFE017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F60-86B8-4B13-AF8F-9FD13F0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FFD5-63A5-42BE-ABD0-B1175C33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D988-5018-4C8F-B1D4-AB5910C6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F49-62C7-485D-BAED-7275C9F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DD5-A6F8-4C74-98BA-255AB80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0C3-9883-4A03-8015-871F599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C9B-495F-495D-BCA4-C4E25C1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3AE-8F15-4466-88AC-735B0CA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CC5-761E-42EA-81BD-3677B7F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4F8-6B36-41B0-8F50-DB6BAB6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F92C-7B88-4E11-9314-844D1F8E3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480"/>
              <a:ext cx="1190520" cy="19368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080"/>
              <a:ext cx="1219320" cy="19965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6560"/>
                <a:gd name="textAreaBottom" fmla="*/ 1996920 h 19965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4200"/>
              <a:ext cx="1231920" cy="40302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0200"/>
                <a:gd name="textAreaBottom" fmla="*/ 4030560 h 40302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3840"/>
              <a:ext cx="979560" cy="21808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0880"/>
                <a:gd name="textAreaBottom" fmla="*/ 2181240 h 21808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7400"/>
              <a:ext cx="914400" cy="5040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0000"/>
                <a:gd name="textAreaBottom" fmla="*/ 5040360 h 50400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2520"/>
              <a:ext cx="909720" cy="30664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6480"/>
                <a:gd name="textAreaBottom" fmla="*/ 3066840 h 306648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0"/>
              <a:ext cx="576360" cy="33469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6920"/>
                <a:gd name="textAreaBottom" fmla="*/ 3347280 h 33469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2240"/>
              <a:ext cx="300240" cy="33472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7280"/>
                <a:gd name="textAreaBottom" fmla="*/ 3347640 h 33472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9720" y="3321360"/>
              <a:ext cx="6846840" cy="225360"/>
            </a:xfrm>
            <a:custGeom>
              <a:avLst/>
              <a:gdLst>
                <a:gd name="textAreaLeft" fmla="*/ 667080 w 6846840"/>
                <a:gd name="textAreaRight" fmla="*/ 6179760 w 68468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9C4A-3534-43F0-836F-632A82F583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explore less common prefixes and suffix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95280" y="2852640"/>
            <a:ext cx="7429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a word beginning with the prefix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24000" y="162864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fix can change the meaning of a word, for example un- (happy/ unhappy), and dis- (appear/ disappear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95280" y="5084640"/>
            <a:ext cx="7429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 a partner, state a sentence using a word containing one of the three given prefixes, then your partner should state the opposite senten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that have opposite meanings can b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tony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349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be looking at antonyms, using unusual prefixes meaning no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0" y="3195720"/>
            <a:ext cx="78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r-, for words beginning with r (regular/irregular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-, for words beginning with l (legal/illeg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-, for words beginning with m, b or p (mature/immature, balance/imbalance, polite/impoli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, mean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ctive/inactiv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words can you find for each of the following prefixes, where adding the prefix creates an antonym? Group them under each prefix head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r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95280" y="285264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95280" y="2854440"/>
            <a:ext cx="741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an you use some of the words you found, that the prefixes im-, in-, ir- or il- could be added to, in sentences? Can you also give the sentence with opposite mea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daughter was responsi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daughter was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ponsi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85840" y="1562040"/>
            <a:ext cx="760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n antony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85840" y="287172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rewrite these sentences with the opposite meaning by using pre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teacher wa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atient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with the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respons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boy. ‘It i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oss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to mark your work because it is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legible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’ she said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politely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horse walked with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balanced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, </a:t>
            </a:r>
            <a:r>
              <a:rPr b="0" lang="en-GB" sz="2800" spc="-1" strike="noStrike" u="sng">
                <a:solidFill>
                  <a:srgbClr val="5a36f2"/>
                </a:solidFill>
                <a:uFillTx/>
                <a:latin typeface="Arial"/>
              </a:rPr>
              <a:t>regular</a:t>
            </a: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 steps towards the sta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50920" y="1994040"/>
            <a:ext cx="760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state a root word, and want you to give the antonym by adding a pre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5:55:20Z</dcterms:modified>
  <cp:revision>85</cp:revision>
  <dc:subject/>
  <dc:title>Spelling – Year 5</dc:title>
</cp:coreProperties>
</file>