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2AF-BEF7-4823-8FE0-ECC61D7D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06B0-61E5-49BC-93FA-8C5BC243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7DF-82B2-4EA9-BC52-81EBD1FE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EFC-477B-4393-B11C-D5B58F06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7E7B-9301-4E25-A019-0E1F1C79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4ED8-FDA6-4087-AA82-2CA74821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A86D-35A5-4800-BA43-8340F3D5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75A8-A6AD-4A02-B608-83901801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8907-FAFF-4F44-BE4E-57BEDBAC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3D9D-D92E-4A09-B88A-BD4B9D2A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05C3-4607-47E6-B49A-F3153A7A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BC27-C16A-4C3A-A7E4-E9D03A88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8E09-31F6-4712-8F53-08302B47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6803-1B8D-4A4A-AF03-108C098A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5257-3332-4ABA-9579-C4F4DC46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93EE-4D98-4B6C-9775-FF61739D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C204-E17A-42C2-A477-98C7B1DC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B490-2F9C-4A0D-8CB9-CD055BE4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6AC-7DBF-4362-932C-A6DC8EAD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B1E-7223-40CF-A432-A53C04DA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7FA2-92EF-4827-90E6-EB764A2C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EC58-CD81-4FDB-B1A8-544A86E9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A5F1-C858-42E0-9DD8-CAEA07E2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A50F-A991-448D-98DE-6EF0FE2D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264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004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00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EA29-BE76-4233-9DFE-4E0682EC65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900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9000"/>
              <a:ext cx="1203120" cy="684864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7720"/>
                <a:chOff x="8381880" y="-360"/>
                <a:chExt cx="762120" cy="227772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7040" y="-360"/>
                  <a:ext cx="279360" cy="275400"/>
                  <a:chOff x="8717040" y="-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7040" y="-360"/>
                    <a:ext cx="279360" cy="275400"/>
                    <a:chOff x="8717040" y="-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5920" y="-392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5280" y="91800"/>
                      <a:ext cx="140760" cy="225360"/>
                    </a:xfrm>
                    <a:custGeom>
                      <a:avLst/>
                      <a:gdLst>
                        <a:gd name="textAreaLeft" fmla="*/ 0 w 140760"/>
                        <a:gd name="textAreaRight" fmla="*/ 141120 w 14076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6560" y="138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70320" y="7164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41240" y="5904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10720" y="10872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6560" y="2001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5080" y="1753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76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7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18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23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6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6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70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75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7040"/>
                <a:ext cx="828720" cy="4703400"/>
                <a:chOff x="7848720" y="1607040"/>
                <a:chExt cx="828720" cy="47034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7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12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00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82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05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47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1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75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92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98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8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5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62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90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9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5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7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06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8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1120"/>
              <a:ext cx="1190520" cy="19371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7160"/>
                <a:gd name="textAreaBottom" fmla="*/ 1937160 h 193716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0360"/>
              <a:ext cx="1219320" cy="19972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7280"/>
                <a:gd name="textAreaBottom" fmla="*/ 1997640 h 199728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3120"/>
              <a:ext cx="1231920" cy="403128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1280"/>
                <a:gd name="textAreaBottom" fmla="*/ 4031280 h 403128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2760"/>
              <a:ext cx="979560" cy="2181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1240"/>
                <a:gd name="textAreaBottom" fmla="*/ 2181240 h 218124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5600"/>
              <a:ext cx="914400" cy="5041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1080"/>
                <a:gd name="textAreaBottom" fmla="*/ 5041080 h 50410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70720"/>
              <a:ext cx="909720" cy="3067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7200"/>
                <a:gd name="textAreaBottom" fmla="*/ 3067560 h 30672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9000"/>
              <a:ext cx="576360" cy="334800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48000"/>
                <a:gd name="textAreaBottom" fmla="*/ 3348360 h 33480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0440"/>
              <a:ext cx="300240" cy="334836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48360"/>
                <a:gd name="textAreaBottom" fmla="*/ 3348720 h 33483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0440"/>
              <a:ext cx="88920" cy="684864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160"/>
              <a:ext cx="1165320" cy="61812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8640" y="3320640"/>
              <a:ext cx="6848640" cy="225360"/>
            </a:xfrm>
            <a:custGeom>
              <a:avLst/>
              <a:gdLst>
                <a:gd name="textAreaLeft" fmla="*/ 667440 w 6848640"/>
                <a:gd name="textAreaRight" fmla="*/ 6181200 w 684864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CE3D-A37C-400E-BFA8-33083A5EFF5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spell words with common letter strings and different pronunciation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Rectangle 230"/>
          <p:cNvSpPr/>
          <p:nvPr/>
        </p:nvSpPr>
        <p:spPr>
          <a:xfrm>
            <a:off x="357120" y="1268280"/>
            <a:ext cx="7497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a phonem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231"/>
          <p:cNvSpPr/>
          <p:nvPr/>
        </p:nvSpPr>
        <p:spPr>
          <a:xfrm>
            <a:off x="428760" y="1785960"/>
            <a:ext cx="738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30"/>
          <p:cNvSpPr/>
          <p:nvPr/>
        </p:nvSpPr>
        <p:spPr>
          <a:xfrm>
            <a:off x="428760" y="2708280"/>
            <a:ext cx="74293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example i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What words can you think of containing this letter string? Do they all sound the sam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230"/>
          <p:cNvSpPr/>
          <p:nvPr/>
        </p:nvSpPr>
        <p:spPr>
          <a:xfrm>
            <a:off x="357120" y="1714680"/>
            <a:ext cx="75009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can think of an example of a digraph or trigraph that has different pronunciation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Rectangle 230"/>
          <p:cNvSpPr/>
          <p:nvPr/>
        </p:nvSpPr>
        <p:spPr>
          <a:xfrm>
            <a:off x="395280" y="4005360"/>
            <a:ext cx="742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different sounds can you find for the letter string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 Can you group them according to pronunciatio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Text Box 58"/>
          <p:cNvSpPr/>
          <p:nvPr/>
        </p:nvSpPr>
        <p:spPr>
          <a:xfrm>
            <a:off x="369720" y="1500120"/>
            <a:ext cx="74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find examples of words containing the letter string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ug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 Can you place them in groups according to their pronunciatio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Text Box 58"/>
          <p:cNvSpPr/>
          <p:nvPr/>
        </p:nvSpPr>
        <p:spPr>
          <a:xfrm>
            <a:off x="357120" y="2781360"/>
            <a:ext cx="74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bout words containing the letter string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 Can you find any patterns that link the spellings and the pronunciation fo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tter string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7416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collect words that contain the letter string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u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group them according to pronunciatio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Rectangle 74"/>
          <p:cNvSpPr/>
          <p:nvPr/>
        </p:nvSpPr>
        <p:spPr>
          <a:xfrm>
            <a:off x="250920" y="458136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95280" y="2852640"/>
            <a:ext cx="7416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do the same with one of these letter string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250920" y="1557360"/>
            <a:ext cx="7416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Play snap with your partner, using the cards given. The words contain one of five letter strings, but you can only snap when the letter string rhymes (eg if </a:t>
            </a:r>
            <a:r>
              <a:rPr b="0" i="1" lang="en-GB" sz="2800" spc="-1" strike="noStrike">
                <a:solidFill>
                  <a:srgbClr val="2f1311"/>
                </a:solidFill>
                <a:latin typeface="Arial"/>
              </a:rPr>
              <a:t>fight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is put down, then </a:t>
            </a:r>
            <a:r>
              <a:rPr b="0" i="1" lang="en-GB" sz="2800" spc="-1" strike="noStrike">
                <a:solidFill>
                  <a:srgbClr val="2f1311"/>
                </a:solidFill>
                <a:latin typeface="Arial"/>
              </a:rPr>
              <a:t>light/night/bright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85840" y="1562040"/>
            <a:ext cx="7603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am going to dictate two sentences and want you to write them in your book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0" y="2000160"/>
            <a:ext cx="78501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0" y="585792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285840" y="2500200"/>
            <a:ext cx="75643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spelt the sentences correctly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One night last year I thought I heard a bear in the wood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My heart thumped in fear as I tried to phone the polic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285840" y="4848120"/>
            <a:ext cx="7603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create sentences using these letter strings, with different pronunciation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5a36f2"/>
                </a:solidFill>
                <a:latin typeface="Arial"/>
              </a:rPr>
              <a:t>-ight, -ear, -oo, -ough, -ie, -ou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currys</cp:lastModifiedBy>
  <dcterms:modified xsi:type="dcterms:W3CDTF">2010-06-28T12:47:13Z</dcterms:modified>
  <cp:revision>75</cp:revision>
  <dc:subject/>
  <dc:title>Spelling – Year 5</dc:title>
</cp:coreProperties>
</file>