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3ED-E3A6-4F77-8364-60D612EB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4E8-4DCB-4131-B133-308530CE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674-9FB3-4261-A3C3-BBCFD24B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237-5CC7-4C9A-A3D1-01E26FD0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A03-A419-4CC9-A614-37D0992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6FA-81C8-4964-9376-B56DB058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65B-597C-4C1E-AA65-40AEE16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2103-E4A0-4170-AC04-CEF54124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5B1-767E-4599-A772-36EFD7DF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9146-ECFE-43CF-B3F1-E32933A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008-332D-44E3-859C-5EC56289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050-A08E-4F5D-B0AF-B9F88D45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0D35-C800-45D8-89E8-B75F0CDC87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n Argument as a Le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32360" y="3573360"/>
            <a:ext cx="17114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ight information to be brought to people’s at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letter to an MP complaining about the appalling conditions in schools in the nineteenth century. ( Imagine that you are living at that tim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– give at least 3 reasons ( each in its own paragraph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– give at least four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discuss a modern day issue to do with the treatment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you remembered to end your letter by strongly stating your point of view agai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if you have forgo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you find this task difficult / interesting / challenging ? Make a note on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tension Group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remember to use paragrap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ot, how can you remember to do so next time ? Discuss possible strategies with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hould ban playtimes at school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my opin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hildren at primary school do not need a play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ost important reason for this is th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times waste work time. The children need to spend more time on their English or Maths. work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-one could argue with the impor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se subjects and the more time spent by children practising them, the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addition to th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laytimes are too dangerous. Little children get knocked over by bigger children and get hit by balls. Most injuries to children at school happen during play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ytimes are bad for teachers. Many teachers are too old to run around and so they get too cold outside. Also, they have to miss out on having a cup of tea and a chat with other teac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believe it would be b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playtimes were ban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s given for Banning Play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s work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danger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get cold and lonel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ood ending for a letter i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although some people might not agree, I believe that I have shown tha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ummarises the l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house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454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f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nt of gruel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porridge ) daily, thickened with flour: 3 – 5 oz. bread dai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n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5 oz. bread daily: butter, milk and water dail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ield Parish Workhouse 1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6 oz. beef, 3oz. bread, v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– 14 oz. boiled suet pud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oz. boiled mutton, v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– 6 oz. beef, v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– 14 oz. rice pud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– 6 oz. boiled mutton, ve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pint soup, 3 oz. bre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unishment in Schoo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common to fasten the legs of offenders together with wooden shackles. The shackle is a piece of wood about a foot long ( 30 cms. ) and tied to each leg. Pupils are ordered to walk around the schoolroom until tire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seph Lancaster Improvements in Education 18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bad points in schools in the nineteenth century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food – quantity an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shmen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L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We are learning to…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letter stating an arg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ou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aragraphs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56360" y="3789360"/>
            <a:ext cx="113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F        What I’m looking for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ly worded argument set out in a logical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para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22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22:58:30Z</dcterms:created>
  <dc:creator>CYN</dc:creator>
  <dc:description/>
  <dc:language>en-US</dc:language>
  <cp:lastModifiedBy>Pitchford</cp:lastModifiedBy>
  <dcterms:modified xsi:type="dcterms:W3CDTF">2007-02-27T13:24:59Z</dcterms:modified>
  <cp:revision>5</cp:revision>
  <dc:subject/>
  <dc:title>Slide 1</dc:title>
</cp:coreProperties>
</file>