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A6A-E055-4460-988F-1A9071B9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155-9432-43B3-B256-AF0E6245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961-365A-4AD4-8E86-280C7EFA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520-FBD4-4543-8B0D-2B085518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4EF-9EB8-40F5-956A-929E8EE1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911-FA36-4F37-BD41-DA3A8E2F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D78-BA47-42B3-BDFB-5902E5F1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AEAA-DF51-46CC-9E66-AACB7E3B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893-6B64-416F-AA91-127FDF5B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078-2897-4884-B2F3-14D9AF16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FEF-17EA-4DB6-BEDA-8442491E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E8B-6518-4ED6-A621-ED09B398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CB3F-209C-4B41-9B09-7CF8676930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d60093"/>
                </a:solidFill>
                <a:latin typeface="SassoonCRInfantMedium"/>
              </a:rPr>
              <a:t>t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60093"/>
                </a:solidFill>
                <a:latin typeface="SassoonCRInfantMedium"/>
              </a:rPr>
              <a:t>t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ge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2010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60093"/>
                </a:solidFill>
                <a:latin typeface="SassoonCRInfantMedium"/>
              </a:rPr>
              <a:t>t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mat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51847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60093"/>
                </a:solidFill>
                <a:latin typeface="SassoonCRInfantMedium"/>
              </a:rPr>
              <a:t>t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levisio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71640" y="260280"/>
            <a:ext cx="38926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60093"/>
                </a:solidFill>
                <a:latin typeface="SassoonCRInfantMedium"/>
              </a:rPr>
              <a:t>t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dd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3768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60093"/>
                </a:solidFill>
                <a:latin typeface="SassoonCRInfantMedium"/>
              </a:rPr>
              <a:t>t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bl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44960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60093"/>
                </a:solidFill>
                <a:latin typeface="SassoonCRInfantMedium"/>
              </a:rPr>
              <a:t>t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re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44956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7:59Z</dcterms:modified>
  <cp:revision>34</cp:revision>
  <dc:subject/>
  <dc:title>a</dc:title>
</cp:coreProperties>
</file>