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BBE-1BF8-4660-A0B8-CBB9AE4C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795-456C-45EC-A4A0-18BF562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557-9BBB-4445-B3FC-E555DCA8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E40-EB16-42A2-B8D6-00BBFB4F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B69-7FD3-4A56-AC1D-4AE1EFD7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D97-9F82-410F-9D9C-ABB705B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878-085B-42EA-9F95-19CAAF47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FF1-61E8-4F45-A497-8A0D2119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152-3E3E-4FA3-9C0A-98A35AA7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78-AEC2-460F-9DA0-E2B4BC0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1C0-63C9-4B17-AFDD-80004FE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F7B-5436-47CC-AB92-F79DDF02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9D4-D761-49E2-B31A-565C07AB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52563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r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7815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mm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4184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icopt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113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695160"/>
            <a:ext cx="4608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4:43:44Z</dcterms:modified>
  <cp:revision>9</cp:revision>
  <dc:subject/>
  <dc:title>a</dc:title>
</cp:coreProperties>
</file>