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E347-51F5-43D4-A7F6-25052555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B851-ED6A-4074-98C6-09F1E1B9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3841-9439-4C45-9E1F-23E72DC36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A254-954F-4F54-A15E-B304CD264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0A3F-E74B-409D-8848-E53ADFE1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34B4-4133-4D03-A70D-FC151EBF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ECF9-21DF-4CF9-89F6-D6B19973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DF54-69CF-4447-9423-352CEC1F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89CE-0861-406F-BFF6-DC782F80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262A-9D6C-45CB-A969-54FE0046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19DE-43E0-47A1-BA43-0CA4A55A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E420-DB9D-4646-A117-17586A74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7C86-737C-49D6-9486-D7527A56A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200" spc="-1" strike="noStrike">
                <a:solidFill>
                  <a:srgbClr val="669900"/>
                </a:solidFill>
                <a:latin typeface="SassoonCRInfantMedium"/>
              </a:rPr>
              <a:t>v</a:t>
            </a:r>
            <a:endParaRPr b="0" lang="en-US" sz="5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669900"/>
                </a:solidFill>
                <a:latin typeface="SassoonCRInfantMedium"/>
              </a:rPr>
              <a:t>v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ioli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95640" y="404640"/>
            <a:ext cx="485604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669900"/>
                </a:solidFill>
                <a:latin typeface="SassoonCRInfantMedium"/>
              </a:rPr>
              <a:t>v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ultur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35280" y="836640"/>
            <a:ext cx="540216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669900"/>
                </a:solidFill>
                <a:latin typeface="SassoonCRInfantMedium"/>
              </a:rPr>
              <a:t>v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iolets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56000" y="765000"/>
            <a:ext cx="3960720" cy="36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669900"/>
                </a:solidFill>
                <a:latin typeface="SassoonCRInfantMedium"/>
              </a:rPr>
              <a:t>v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egetables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640872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669900"/>
                </a:solidFill>
                <a:latin typeface="SassoonCRInfantMedium"/>
              </a:rPr>
              <a:t>v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s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95640" y="412920"/>
            <a:ext cx="47131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669900"/>
                </a:solidFill>
                <a:latin typeface="SassoonCRInfantMedium"/>
              </a:rPr>
              <a:t>v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iolet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95640" y="260280"/>
            <a:ext cx="485604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9T13:51:03Z</dcterms:modified>
  <cp:revision>38</cp:revision>
  <dc:subject/>
  <dc:title>a</dc:title>
</cp:coreProperties>
</file>