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6C0-E572-40C7-A563-F7D6020F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19C-E6E6-4778-8385-3B873FB7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E39-D42B-4F14-8F69-AE2FA32E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F9C-5526-4201-83A6-AC8B2B40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E4A-E8CF-4E17-A383-10C71104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7C8-E28E-4791-86A3-E2CC102F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BB2-4516-4FFD-B844-5AC76F31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3F0-F799-4CA7-94FC-66AF9495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214-FDFC-445F-884C-AD60BE6E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B34-ED27-4AAC-89D2-37B73B41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17E-33DF-43D1-8CD3-74387409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753-16F7-4822-A3DA-24F11A4F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70FB-AA9E-411A-A4C8-7AF324BBF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ff00ff"/>
                </a:solidFill>
                <a:latin typeface="SassoonCRInfantMedium"/>
              </a:rPr>
              <a:t>e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ff"/>
                </a:solidFill>
                <a:latin typeface="SassoonCRInfantMedium"/>
              </a:rPr>
              <a:t>e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lephan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1387440"/>
            <a:ext cx="51850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ff"/>
                </a:solidFill>
                <a:latin typeface="SassoonCRInfantMedium"/>
              </a:rPr>
              <a:t>e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g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476280"/>
            <a:ext cx="2993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ff"/>
                </a:solidFill>
                <a:latin typeface="SassoonCRInfantMedium"/>
              </a:rPr>
              <a:t>e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lbow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3797640" cy="4032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873000">
            <a:off x="5580000" y="3284280"/>
            <a:ext cx="31687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ff"/>
                </a:solidFill>
                <a:latin typeface="SassoonCRInfantMedium"/>
              </a:rPr>
              <a:t>e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velop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5040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ff"/>
                </a:solidFill>
                <a:latin typeface="SassoonCRInfantMedium"/>
              </a:rPr>
              <a:t>E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rt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4360" y="541440"/>
            <a:ext cx="4321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ff"/>
                </a:solidFill>
                <a:latin typeface="SassoonCRInfantMedium"/>
              </a:rPr>
              <a:t>E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ster egg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446436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8T13:14:39Z</dcterms:modified>
  <cp:revision>9</cp:revision>
  <dc:subject/>
  <dc:title>a</dc:title>
</cp:coreProperties>
</file>