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13F-B04A-4271-AF67-CBA612B1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4C4-586A-4605-B926-5BCF1EE5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1CB-9C7F-4610-B53B-31FD26A3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92B7-142A-4A76-8774-7290192C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0F9-F127-4B42-81B6-A557AE69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4FD-2C0A-40CA-8D02-CC6C6669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E2F-238A-42E4-A8B7-150151C8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ED74-0123-480C-BFF7-224B3AE5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64B-C392-40FD-A7B5-03967B98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828-A1C1-4299-9457-0CB08E15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486C-48F8-496F-A009-8EBEE17D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4075-95B2-4982-B466-4D3827D8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44A1-EC6C-47D4-9B6B-2031757D82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cc99ff"/>
                </a:solidFill>
                <a:latin typeface="SassoonCRInfantMedium"/>
              </a:rPr>
              <a:t>l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200" spc="-1" strike="noStrike">
                <a:solidFill>
                  <a:srgbClr val="cc99ff"/>
                </a:solidFill>
                <a:latin typeface="SassoonCRInfantMedium"/>
              </a:rPr>
              <a:t>l</a:t>
            </a:r>
            <a:r>
              <a:rPr b="0" lang="en-GB" sz="14200" spc="-1" strike="noStrike">
                <a:solidFill>
                  <a:srgbClr val="000000"/>
                </a:solidFill>
                <a:latin typeface="SassoonCRInfantMedium"/>
              </a:rPr>
              <a:t>eg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1052640"/>
            <a:ext cx="39211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99ff"/>
                </a:solidFill>
                <a:latin typeface="SassoonCRInfantMedium"/>
              </a:rPr>
              <a:t>l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dybird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40000" y="620640"/>
            <a:ext cx="41036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99ff"/>
                </a:solidFill>
                <a:latin typeface="SassoonCRInfantMedium"/>
              </a:rPr>
              <a:t>l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g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71640" y="765000"/>
            <a:ext cx="413712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99ff"/>
                </a:solidFill>
                <a:latin typeface="SassoonCRInfantMedium"/>
              </a:rPr>
              <a:t>l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mo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4208400" cy="39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99ff"/>
                </a:solidFill>
                <a:latin typeface="SassoonCRInfantMedium"/>
              </a:rPr>
              <a:t>l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llipop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56000" y="907920"/>
            <a:ext cx="399240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99ff"/>
                </a:solidFill>
                <a:latin typeface="SassoonCRInfantMedium"/>
              </a:rPr>
              <a:t>l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o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482472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49:44Z</dcterms:modified>
  <cp:revision>18</cp:revision>
  <dc:subject/>
  <dc:title>a</dc:title>
</cp:coreProperties>
</file>