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9CE-0601-4FA5-8228-13005964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36C-EA97-4285-B877-C22ED26B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8FA-1402-4B90-9E82-63583F13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0C9-C344-4216-AF68-A6BF252D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8CA-96F4-42B9-90BF-BD14C378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D05-2A53-4807-AAD6-8029D077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EF9-057F-4F28-8CCA-C7F511B1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B10-93DA-44B5-9705-E0954D86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855-7AE9-4D91-BFEB-6881BBE9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DB3-9667-40A3-82C3-23BEE5F8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7D4-6A16-4FD8-BC22-B3EA65D7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454-9235-4A21-8411-75EA46ED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D833-AE22-47FE-92C4-11D61063C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s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2578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ath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17933400">
            <a:off x="3072960" y="128520"/>
            <a:ext cx="3502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x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5832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a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24000" y="747720"/>
            <a:ext cx="4896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v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67080" y="333360"/>
            <a:ext cx="3149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4738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3:20:46Z</dcterms:modified>
  <cp:revision>7</cp:revision>
  <dc:subject/>
  <dc:title>a</dc:title>
</cp:coreProperties>
</file>