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022-9BE9-4AAA-AE4B-E237FC84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D38-A547-4418-AB3B-EF0E76B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508-B9F3-4BDF-9B94-A8647E3B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9DB-BD8E-4BCB-BF7D-4AF63EF4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D58-DC79-4411-8C95-BDFC8564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E0E-8330-48DA-8FA3-B485CB0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ECA-790E-435D-BE86-B0F34B0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30E-7C41-4E00-AED4-DF56B1B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044-90D5-4FA1-919A-BECC0E10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8A2-3C25-4839-8EEE-DA243D79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204-8F68-4CC3-8D78-90A631D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EB5-9256-482B-8ABD-161FD80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3EB8-1EBD-4791-A115-48A345D7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2465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c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11344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3274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ph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543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n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400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134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09:21Z</dcterms:modified>
  <cp:revision>7</cp:revision>
  <dc:subject/>
  <dc:title>a</dc:title>
</cp:coreProperties>
</file>