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9D9-6436-4476-9F9E-659EBFA0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C48-1277-4DBE-9D05-F0CE95B0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4FB-8D36-445E-BBF9-4A7046CC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784-514A-4AF5-9A97-BB41D4CE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2C1-1E4E-4F30-8335-E1AD0AF5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4B7-720C-4A17-92F4-EAFCEBB4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37E-DDA4-4537-BCD6-C18F1FC5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4643-B818-4428-A549-788FE011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273-6016-4126-9308-778C7838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D8A-2533-4855-A8FE-19B76B71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4D0-2B56-4838-97AD-9CCD7B9F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FA2-8FF1-4E2C-A74D-1DAB1A38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BE15-D2C9-4AC2-8E02-904A6E6EA7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mbrella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568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icor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13120" y="217440"/>
            <a:ext cx="4719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p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442440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derneat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2814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gl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79600" y="620640"/>
            <a:ext cx="442440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r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9600" y="681120"/>
            <a:ext cx="435312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7:43Z</dcterms:modified>
  <cp:revision>37</cp:revision>
  <dc:subject/>
  <dc:title>a</dc:title>
</cp:coreProperties>
</file>