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AB3-1F42-412B-A10D-02028A40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3F4-E660-4226-8DCA-AEE8CB7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F2E-5B2E-48B6-839F-27DDB756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7E8-66E6-4822-8826-87BE2C6B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4F8-1EE9-46C3-AFB3-8615C1CE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3CC-AC24-4CE8-8270-0DA52D46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7BE-21D7-453D-BABB-EED2F476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B25-2F3D-4DD0-869E-F4F61C8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B69-765F-43B8-B271-46F4AEFA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AE2-44A6-45B1-87A3-11E90E25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C9E-DF1C-4082-8FFF-FDFB843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4FC-159E-450B-A8E4-5B9612A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BE46-6F61-4C0C-825A-A5604A38BF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s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748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i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108000"/>
            <a:ext cx="5111640" cy="48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328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s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216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w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9040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mber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44360"/>
            <a:ext cx="55036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9:21Z</dcterms:modified>
  <cp:revision>22</cp:revision>
  <dc:subject/>
  <dc:title>a</dc:title>
</cp:coreProperties>
</file>