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70E-85E3-4891-A2E0-57FFA8D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83E-F57C-44E2-9D66-F0E860D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C3D-A7DE-40AA-B2D3-29C7299B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BB4-4402-4A8A-8FF5-B37900FE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66A-6ABE-4AB9-9F70-16D82A91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63E-2ED3-4081-989E-E04472CF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7AD-61CA-4E28-87F4-F87809B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B34-540F-474E-BA84-A623EDF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44E-2371-4E9B-9CD6-1A6931F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830-7CFC-4C33-82AE-26CD112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6F8-8784-402E-99B7-1828BE1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C23-F3EB-4EBB-BD3F-5790E2F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258-F9F4-406D-A8D1-E616FFF97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610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an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25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5356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tat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2320" y="333360"/>
            <a:ext cx="4640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14512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rp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81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01Z</dcterms:modified>
  <cp:revision>26</cp:revision>
  <dc:subject/>
  <dc:title>a</dc:title>
</cp:coreProperties>
</file>