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0748-00F1-4829-9475-656B6A38C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041A-92C4-420E-B5AE-1245E85F0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EC30-5CD6-44E0-8447-31D75B02B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1B2F-FD76-4895-841D-3F971A0E9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A9AC-4D5D-426E-B445-2EA8EF498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44B2-DEAF-4439-A0B6-DDBAFB4C9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C6C8-60D2-4ACD-B277-D3787FA31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B9C2-92C6-49A9-A694-286387B94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CAE1-A178-458C-837F-F1A5B1977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1707-5DC6-4638-B567-96DDAC9A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6586-A435-46A3-94C8-9C32FE4FE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8849-F016-435F-B480-EA31BF7F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8C3F6-6E5D-41A5-AF07-46C8D8BE1F5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200" spc="-1" strike="noStrike">
                <a:solidFill>
                  <a:srgbClr val="0099cc"/>
                </a:solidFill>
                <a:latin typeface="SassoonCRInfantMedium"/>
              </a:rPr>
              <a:t>m</a:t>
            </a:r>
            <a:endParaRPr b="0" lang="en-US" sz="5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0099cc"/>
                </a:solidFill>
                <a:latin typeface="SassoonCRInfantMedium"/>
              </a:rPr>
              <a:t>m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onkey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627280" y="765000"/>
            <a:ext cx="3848040" cy="36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0099cc"/>
                </a:solidFill>
                <a:latin typeface="SassoonCRInfantMedium"/>
              </a:rPr>
              <a:t>m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outh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627280" y="765000"/>
            <a:ext cx="3992760" cy="37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0099cc"/>
                </a:solidFill>
                <a:latin typeface="SassoonCRInfantMedium"/>
              </a:rPr>
              <a:t>m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an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340000" y="765000"/>
            <a:ext cx="4137120" cy="39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0099cc"/>
                </a:solidFill>
                <a:latin typeface="SassoonCRInfantMedium"/>
              </a:rPr>
              <a:t>m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agician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050920" y="404640"/>
            <a:ext cx="4680000" cy="42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0099cc"/>
                </a:solidFill>
                <a:latin typeface="SassoonCRInfantMedium"/>
              </a:rPr>
              <a:t>m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ilk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979720" y="765000"/>
            <a:ext cx="296064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0099cc"/>
                </a:solidFill>
                <a:latin typeface="SassoonCRInfantMedium"/>
              </a:rPr>
              <a:t>m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ouse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195640" y="108000"/>
            <a:ext cx="511164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09:27:41Z</dcterms:created>
  <dc:creator>kleeds</dc:creator>
  <dc:description/>
  <dc:language>en-US</dc:language>
  <cp:lastModifiedBy>kleeds</cp:lastModifiedBy>
  <dcterms:modified xsi:type="dcterms:W3CDTF">2007-06-29T13:49:32Z</dcterms:modified>
  <cp:revision>19</cp:revision>
  <dc:subject/>
  <dc:title>a</dc:title>
</cp:coreProperties>
</file>