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A6D-F095-42DB-8344-B721315B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D30-39AE-4EB0-B885-56DE18B2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223-99E3-4B40-8F72-1550E8D3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EAA-89F0-4BC8-99DD-4DDF6729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09E-8BF7-4D8A-B098-84F133E8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CC8-9742-42A7-9C4E-A984F766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88A-1A44-4E51-B76E-EB6FC403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5E5-C2B9-4F25-A6BE-B7027782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E83-68AE-4A11-B71D-8ADE00D2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52C-2DC7-4A24-A152-7E721C3D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7F9-0F0B-44CD-83B8-EBA49B4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9F3-3A84-40BD-85DB-F0947EB1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A93C-85F5-402E-A4DD-23D63053E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ee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33112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il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9850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esti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692280"/>
            <a:ext cx="435276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eu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5721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arre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11280" y="836640"/>
            <a:ext cx="439272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ai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324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8:47Z</dcterms:modified>
  <cp:revision>28</cp:revision>
  <dc:subject/>
  <dc:title>a</dc:title>
</cp:coreProperties>
</file>