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213-F8C6-4F6E-AD58-C1A1C004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33D-BF4D-46EB-8FD0-B8BB43CB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1E2-8331-4F23-8774-08A1E38C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EC9-747B-4636-95F1-C506FCF0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A18-1C1E-4BAB-B194-F4159196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05B-6A07-4882-A58A-85330E7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E1E-EDE3-477A-9C22-687FE69A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681-F831-40D5-8A7A-308F602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040-4C5D-4340-8B4B-5462DE1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3AE-934A-43D3-AD47-EF8B882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DDD-C8A7-45D3-8ECB-5161CC2E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C8B-53FE-4B7D-B477-CCADE20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651-55CC-4FFC-AF23-C28EA029E7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e cream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2738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glo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898560"/>
            <a:ext cx="5472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8323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sec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6101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879480"/>
            <a:ext cx="633744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ject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6083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0:23Z</dcterms:modified>
  <cp:revision>11</cp:revision>
  <dc:subject/>
  <dc:title>a</dc:title>
</cp:coreProperties>
</file>