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17F-2359-4AD8-83C8-816C14E8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C54-7775-4FC2-8380-927765B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0E1-95B7-4425-8D82-1ED29B66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806-43C5-4D38-8FEB-15626A20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638-BAE3-4BB2-8BA6-0D345117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5D4-29E1-4A38-A4F2-2C27734F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6B5-766F-4273-A8CB-7E3792B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13A-1369-44A6-B9C0-A7E7F8F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897-D64F-4487-BDC6-B2A53E35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383-D89C-4CE3-AD21-5FDFC96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06F-4892-491D-BB97-A879BF3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7EE-66BB-47BA-B22A-F33886D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E32-A623-4447-B5CB-CCF3E1AF15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3887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tt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824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t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7080" y="431640"/>
            <a:ext cx="4680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l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471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gar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9800" y="333360"/>
            <a:ext cx="49672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wi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74840" y="549360"/>
            <a:ext cx="4457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56Z</dcterms:modified>
  <cp:revision>16</cp:revision>
  <dc:subject/>
  <dc:title>a</dc:title>
</cp:coreProperties>
</file>