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4013-9F44-46D9-BB8F-25EA8A1ED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7216-8598-4751-990A-15C348BC7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E510-6EAD-4354-9FCD-05977269F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391B-3F48-4534-8F1E-3732510D6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0E02-099D-4E48-8C04-F2E05156F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5767-70E4-4ADC-8129-6E44614EC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1C92-04C5-44C9-A6CD-D606D180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F958-BC7A-4A99-AE07-EDE02232A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D3C3-0E40-4C85-AE51-D92B4AA2F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1A45-74FA-4038-AD8E-A080CE27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B3BB-4C02-41FF-971D-650BC76F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9772-C743-4B31-8A00-1DAFAF3D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85EBD-54B3-4E55-8314-1C3F2F2D4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747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200" spc="-1" strike="noStrike">
                <a:solidFill>
                  <a:srgbClr val="0336db"/>
                </a:solidFill>
                <a:latin typeface="SassoonCRInfantMedium"/>
              </a:rPr>
              <a:t>z</a:t>
            </a:r>
            <a:endParaRPr b="0" lang="en-US" sz="5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336db"/>
                </a:solidFill>
                <a:latin typeface="SassoonCRInfantMedium"/>
              </a:rPr>
              <a:t>z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oo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124000" y="692280"/>
            <a:ext cx="4897440" cy="40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336db"/>
                </a:solidFill>
                <a:latin typeface="SassoonCRInfantMedium"/>
              </a:rPr>
              <a:t>z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ebra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63640" y="44280"/>
            <a:ext cx="5759640" cy="479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336db"/>
                </a:solidFill>
                <a:latin typeface="SassoonCRInfantMedium"/>
              </a:rPr>
              <a:t>z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ip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42920" y="189000"/>
            <a:ext cx="69897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336db"/>
                </a:solidFill>
                <a:latin typeface="SassoonCRInfantMedium"/>
              </a:rPr>
              <a:t>z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igzag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79640" y="620640"/>
            <a:ext cx="518472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336db"/>
                </a:solidFill>
                <a:latin typeface="SassoonCRInfantMedium"/>
              </a:rPr>
              <a:t>z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ero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56228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336db"/>
                </a:solidFill>
                <a:latin typeface="SassoonCRInfantMedium"/>
              </a:rPr>
              <a:t>z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oo keeper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149560" y="260280"/>
            <a:ext cx="4943520" cy="43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09:27:41Z</dcterms:created>
  <dc:creator>kleeds</dc:creator>
  <dc:description/>
  <dc:language>en-US</dc:language>
  <cp:lastModifiedBy>kleeds</cp:lastModifiedBy>
  <dcterms:modified xsi:type="dcterms:W3CDTF">2007-06-29T14:23:25Z</dcterms:modified>
  <cp:revision>47</cp:revision>
  <dc:subject/>
  <dc:title>a</dc:title>
</cp:coreProperties>
</file>