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637-4192-4585-896D-820CEF8F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5AF-B5A8-425C-A805-BDE3C597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FFB-8321-4E4A-B262-8DA31222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89F-DC35-40BC-A349-DE29BB05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6A8-6B7D-4A83-82F1-6BDE12C7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3DD-C4C5-47E6-973E-AAE55F1A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C01-3A15-4250-995B-F193B196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8A6-5870-436B-9ADA-DD269F14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E6E-666A-452C-BCB9-2304059F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237-306C-440F-9A65-43B4B525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CD4-3B9E-495A-B238-95B869A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92A-676C-41EE-A027-C6EE583C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D2F7-0EB9-4E42-BA9A-02554BFF3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nana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5832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scui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236520"/>
            <a:ext cx="5256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l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681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a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5831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2148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llo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295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2:44:36Z</dcterms:modified>
  <cp:revision>5</cp:revision>
  <dc:subject/>
  <dc:title>a</dc:title>
</cp:coreProperties>
</file>