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FFA-ED22-415D-9950-474E3AEC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435-FA50-4F84-BD6D-87066943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183-5859-4312-A01C-1BF4E301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307-3826-48E1-923D-0E75514C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D67-835A-40BC-AAB5-EBE60B0B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C8E-4325-4670-A069-4FF2C4AA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1EC-0E86-40D4-93B4-872715C9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E05-38F1-4C5E-8E2F-8B6CF5EC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20C-0E1D-44EC-8590-21F1863F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A65-FC64-4088-99B7-BA16B0E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69D-22C4-4CB0-AD01-EADC2D0B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350-60FA-4094-A726-B8293F58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B425-F122-4D29-8EEA-9C182576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d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8974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177840"/>
            <a:ext cx="5185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bbi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78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bo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959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inb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5454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cke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1921200">
            <a:off x="2425320" y="-458280"/>
            <a:ext cx="361332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8:31Z</dcterms:modified>
  <cp:revision>30</cp:revision>
  <dc:subject/>
  <dc:title>a</dc:title>
</cp:coreProperties>
</file>