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9F2-E928-46B5-96DA-1D5DB060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AE9-BFCA-404B-A087-A1728D0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066-80DC-403F-A873-91B17053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3F2-884D-4344-83CB-FA340BFA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4A5-F1DB-4967-9A90-CF8BC4F9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838-B5FC-4DD1-A8CB-A97EF452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1D1-D54F-45AF-A0F4-C3CB3D30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BCD-3470-4CAA-BB40-E367FE35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D1E-A5EC-4765-BFD2-3F06D21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809-D319-4B3B-96CB-C6924FCF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843-D706-48E3-8AE0-3478604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FEF-1273-491D-8206-2EF2CCD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08EC-7D31-43CA-989D-53BE7ED37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topu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ng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340000" y="404640"/>
            <a:ext cx="47530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w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235240" y="34128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stric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68360" y="476280"/>
            <a:ext cx="51832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va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1557360"/>
            <a:ext cx="5113440" cy="273528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68360" y="404640"/>
            <a:ext cx="48564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0:48:04Z</dcterms:modified>
  <cp:revision>23</cp:revision>
  <dc:subject/>
  <dc:title>a</dc:title>
</cp:coreProperties>
</file>