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CE3-C004-4DDC-8971-7B36EBBE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0F5-6F68-44AA-8838-E42286C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D16-07C1-4753-9F8D-993C53DF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6A4-2D5B-46C6-A67C-4A429480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D54-726B-4355-ABF1-E1E20454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A1D-2C4E-44CB-8B64-AC195346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EE2-50DE-488B-B1AD-F3E65A5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82C-4A57-4002-9FAC-A3E53BD5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1C3-6C68-4D10-B722-F761B91F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5E3-4577-4C7C-87DF-87C08A9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CD2-A4B0-4DE9-958B-F11D3D3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546-9012-4EFA-8BAF-D81ABA1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AE5-0E37-45BC-91B1-94ABF34E92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9687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ass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551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rd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480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ov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9641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p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7321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s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311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0:44Z</dcterms:modified>
  <cp:revision>9</cp:revision>
  <dc:subject/>
  <dc:title>a</dc:title>
</cp:coreProperties>
</file>