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C76-5BBA-446F-8B56-5FC2B0A0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5CF-0882-4DF0-B772-CB0A0422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44A-32F3-4E7D-85FA-09F0540B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5B6-5004-4B02-AB3B-2AEDAFA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A13-BEC4-4994-BB03-097E719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4A8-6D13-41AF-96D1-8A32B34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5B6-2B6F-4F09-8C88-414CD2B0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35B-81FA-467E-AEF5-D7C1DB7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2AD-62A1-496F-A463-C821E54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EE7-FA1F-40DE-B7DB-EC7E7D5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672-B2A7-4711-93E5-1E32894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231-80C9-4BD7-BCF0-82CC19A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6DF2-2729-41BD-854E-6432654C8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ghur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4897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l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191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ch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3160" y="333360"/>
            <a:ext cx="52628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-y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1847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83084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4:14:50Z</dcterms:modified>
  <cp:revision>44</cp:revision>
  <dc:subject/>
  <dc:title>a</dc:title>
</cp:coreProperties>
</file>