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D78-CFDA-4560-8758-D07EC643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181-51C0-479E-B36A-DF7E4AB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5C8-D01E-45FE-9481-0224ED7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10D-1514-43A6-8480-DA95F9DC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BDB-322B-4284-B0F9-11548DC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4ED-DF7F-4ADA-A6A2-CD23119C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119-F505-490A-9E6D-59AA67B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FB9-1C06-4EE3-9571-48591A9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539-7805-4AF8-B5EE-99C87079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AAF-67BA-454E-B3F0-16DB6FE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184-31F3-4F00-BDE8-99C9AE7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A02-787E-4F44-A64D-01646FC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E9A4-FA0F-4FA9-992E-2BC153EE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d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496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r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5840"/>
            <a:ext cx="53611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dmi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60480"/>
            <a:ext cx="4856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he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1440" y="333360"/>
            <a:ext cx="45356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elli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78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d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929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5:33Z</dcterms:modified>
  <cp:revision>40</cp:revision>
  <dc:subject/>
  <dc:title>a</dc:title>
</cp:coreProperties>
</file>