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8495-CE43-47B9-9EBC-9040E065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4AFC-3292-4EB2-87FB-913B2883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F742-F0C6-483A-A28C-365F4DD4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1BB-16DE-4FBE-AF11-A163FBA6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840-4633-48FA-93FA-94579BCB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98A-5E8E-445F-8611-164BE4FB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D9D1-F604-4CC2-BEAA-A0C3B0EE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2DB-DB5F-40AA-85AF-A2B56329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CA9E-BF88-45F5-B660-3EC05EAA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3164-23F4-4ED8-A98C-DDD79F0B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3CCF-C5F5-4464-8890-4DA2927B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7474-C93C-4EBB-8FF0-3D0E8E1B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DDC0-65E0-41BB-9FEA-002EC565C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600" spc="-1" strike="noStrike">
                <a:solidFill>
                  <a:srgbClr val="de8400"/>
                </a:solidFill>
                <a:latin typeface="SassoonCRInfantMedium"/>
              </a:rPr>
              <a:t>a</a:t>
            </a:r>
            <a:endParaRPr b="0" lang="en-US" sz="5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8400"/>
                </a:solidFill>
                <a:latin typeface="SassoonCRInfantMedium"/>
              </a:rPr>
              <a:t>a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ppl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0920" y="262080"/>
            <a:ext cx="475308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8400"/>
                </a:solidFill>
                <a:latin typeface="SassoonCRInfantMedium"/>
              </a:rPr>
              <a:t>a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n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936720"/>
            <a:ext cx="50403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8400"/>
                </a:solidFill>
                <a:latin typeface="SassoonCRInfantMedium"/>
              </a:rPr>
              <a:t>a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nge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11280" y="1052640"/>
            <a:ext cx="4543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8400"/>
                </a:solidFill>
                <a:latin typeface="SassoonCRInfantMedium"/>
              </a:rPr>
              <a:t>a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lligato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5246640" cy="31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8400"/>
                </a:solidFill>
                <a:latin typeface="SassoonCRInfantMedium"/>
              </a:rPr>
              <a:t>A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lic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09760" y="333360"/>
            <a:ext cx="24418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8400"/>
                </a:solidFill>
                <a:latin typeface="SassoonCRInfantMedium"/>
              </a:rPr>
              <a:t>a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mbulanc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2720" y="779400"/>
            <a:ext cx="525600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8T12:34:25Z</dcterms:modified>
  <cp:revision>4</cp:revision>
  <dc:subject/>
  <dc:title>a</dc:title>
</cp:coreProperties>
</file>