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60A-8EE4-40B1-9C6A-C65CA2E4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A49-89C0-4772-9AB8-CC3CFCC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08E-1B2D-4F85-B86F-93C8070B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B63-4649-481C-9472-8BF4FE8E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3FE-42F2-4492-BE3A-3EE1271B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BD5-3C58-40DB-850C-BB1C7E44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FEF-3D75-4D6B-A12C-535D1CF3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196-1CE7-447E-BFE0-1BADD50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776-3429-479F-B615-C257487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34C-06A4-4DA3-AB4B-A28E543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C37-E351-4B10-ADED-70788DA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C0C-A559-41E9-A5BB-AD56246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3AF-6215-4AC3-851E-8028EA852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ylophon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3374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-ra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578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ma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2624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f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472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b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6148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1199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11:17Z</dcterms:modified>
  <cp:revision>43</cp:revision>
  <dc:subject/>
  <dc:title>a</dc:title>
</cp:coreProperties>
</file>