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878-A659-4CF2-BBF9-8ADF8AD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476-C6F7-4D14-85FD-EF2367F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7F4-3B4A-472A-A059-A4E73123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84C-F6D0-4D02-8854-392B67B4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696-61C2-4338-82BE-34EDEDB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D61-AD62-45A7-89FC-15C56F92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BFD-FBCE-4C13-A6CD-C5F8254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6FC-0334-4CDB-8279-6B8EB63F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0F9-5F40-4CC5-AA2F-9C2C00AA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EEC-875A-4424-9EB6-3A8EF068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F92-8A8D-4C27-A255-E515D42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EC8-9F73-4E7B-A204-C579587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63F-05FE-4174-86DF-40576C1E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9607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ro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406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y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1360" y="476280"/>
            <a:ext cx="4221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438120"/>
            <a:ext cx="4321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erpilla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048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1227400">
            <a:off x="2626920" y="404640"/>
            <a:ext cx="532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00:54Z</dcterms:modified>
  <cp:revision>6</cp:revision>
  <dc:subject/>
  <dc:title>a</dc:title>
</cp:coreProperties>
</file>