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AA6-2855-4BB7-A631-F77A5838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AB3-A26F-48BD-B2C5-1E4CE554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302-7D14-4151-9FDA-81144869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EC3-CA95-4D66-833C-22C03BF2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288-A28B-4857-8696-A8447599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30E-F76C-4946-A950-90FA4A4F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CAF-5473-4E75-8BB9-C8B9DB91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AFE-9B02-4587-9B8B-05835864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1F3-05F0-47BE-AEF7-A6E71D88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6C0-A1BC-4778-AD50-B0FF71C4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A9C-97B3-4276-BD71-9C19D816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918-61D3-4BB5-8743-772C89E5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4AE7-DFFB-4BD6-91EA-17C6747E6B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ak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040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cissor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35240" y="485640"/>
            <a:ext cx="4713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ai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0920" y="284040"/>
            <a:ext cx="500076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ipper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568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trawberr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28984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owma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62280" y="260280"/>
            <a:ext cx="3897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8:11Z</dcterms:modified>
  <cp:revision>32</cp:revision>
  <dc:subject/>
  <dc:title>a</dc:title>
</cp:coreProperties>
</file>