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870-B954-4D6A-A239-0F0DA96F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541-6AA4-46DB-80FD-4F32BCEC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4B6-F40E-41B2-96AF-C7E633D7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C5C-60A4-4C39-AD37-9B46B294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BCB-ACF2-4CAE-8457-AB7BC7E7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FDC-E743-444B-8519-92CF26E5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00DE-2BB9-47E6-AD87-A923CD4C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A87-3B7A-4FAB-9367-477BA704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0BE8-7CD3-4E31-9CB9-65D6A909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9B2-DF84-48D0-BF55-6F0C774D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043-BCFB-4AEF-84BB-FF463CB5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742-6742-42E1-9C04-8AB5FF8F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8A5C-329D-4578-A7FC-4432822311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fe94bc"/>
                </a:solidFill>
                <a:latin typeface="SassoonCRInfantMedium"/>
              </a:rPr>
              <a:t>j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e94bc"/>
                </a:solidFill>
                <a:latin typeface="SassoonCRInfantMedium"/>
              </a:rPr>
              <a:t>j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ll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3816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e94bc"/>
                </a:solidFill>
                <a:latin typeface="SassoonCRInfantMedium"/>
              </a:rPr>
              <a:t>j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00360" y="765000"/>
            <a:ext cx="36972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e94bc"/>
                </a:solidFill>
                <a:latin typeface="SassoonCRInfantMedium"/>
              </a:rPr>
              <a:t>j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m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46200" y="476280"/>
            <a:ext cx="3854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e94bc"/>
                </a:solidFill>
                <a:latin typeface="SassoonCRInfantMedium"/>
              </a:rPr>
              <a:t>j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mpe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549360"/>
            <a:ext cx="38829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e94bc"/>
                </a:solidFill>
                <a:latin typeface="SassoonCRInfantMedium"/>
              </a:rPr>
              <a:t>j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gsaw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6000" y="692280"/>
            <a:ext cx="42415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e94bc"/>
                </a:solidFill>
                <a:latin typeface="SassoonCRInfantMedium"/>
              </a:rPr>
              <a:t>j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ggl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87560" y="260280"/>
            <a:ext cx="2979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50:10Z</dcterms:modified>
  <cp:revision>14</cp:revision>
  <dc:subject/>
  <dc:title>a</dc:title>
</cp:coreProperties>
</file>