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0E6-1A8C-4FB6-A6F5-BA6C3B3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8E9-78C0-4A60-B93F-3AD6231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10B-8B67-498E-ACE3-283E0D9F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7F4-8D31-441A-A496-D6874966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0EB5-6DC8-4C70-A62E-CDA293B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68CA-42C8-4DDE-AFBB-D16754C7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8F8-F2E7-41C7-80B8-198BD058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025F-08A9-46AC-89D9-D3F150A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17B4-7A40-45D9-A3BA-850F042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79A-4205-48B4-A72A-B57069AB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2EF-35FA-466E-ACBA-9F8C215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C0D-9E3A-47E5-B2DB-9D4B06D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813-C7AC-4150-8724-1F05189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266-3242-44C4-94DD-F444156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0894-CF97-4233-90C2-6113AD29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473-1A76-46FA-A2ED-BE7A45E7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1426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610440"/>
            <a:ext cx="186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3A66-9450-4396-9CAE-6781F649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63F-1344-4535-9EC0-682DEF8E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2D9-A182-4081-8A70-53EDE8FA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FB5-E3D1-4852-8751-9CE65E8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612400"/>
            <a:ext cx="10666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837-8860-4BAE-8042-5B0B5157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395-2D51-4118-96F5-07A4AA2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6104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99C-F0FB-4124-B377-6192E0A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142640"/>
            <a:ext cx="2826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610440"/>
            <a:ext cx="5791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694-3F20-4CCB-B0B0-1B7F10F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1066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1426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302E-6012-42C3-AB98-C2D6820867D8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44956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97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5f97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E124-5500-40F0-A9E5-FE42F06F32E4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c0c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0c0c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c0c0c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c0c0c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97f"/>
                </a:solidFill>
                <a:latin typeface="Times New Roman"/>
              </a:rPr>
              <a:t>Task 1:</a:t>
            </a:r>
            <a:br>
              <a:rPr sz="4000"/>
            </a:br>
            <a:r>
              <a:rPr b="0" lang="en-US" sz="4000" spc="-1" strike="noStrike">
                <a:solidFill>
                  <a:srgbClr val="e5f97f"/>
                </a:solidFill>
                <a:latin typeface="Times New Roman"/>
              </a:rPr>
              <a:t>Use the fact finder sheet to identify the key ideas you want to include on your postcard.</a:t>
            </a:r>
            <a:endParaRPr b="0" lang="en-US" sz="4000" spc="-1" strike="noStrike">
              <a:solidFill>
                <a:srgbClr val="e5f97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MCTR00092_0000[1]" descr=""/>
          <p:cNvPicPr/>
          <p:nvPr/>
        </p:nvPicPr>
        <p:blipFill>
          <a:blip r:embed="rId2"/>
          <a:stretch/>
        </p:blipFill>
        <p:spPr>
          <a:xfrm>
            <a:off x="0" y="1557360"/>
            <a:ext cx="273384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MCj01553000000[1]" descr=""/>
          <p:cNvPicPr/>
          <p:nvPr/>
        </p:nvPicPr>
        <p:blipFill>
          <a:blip r:embed="rId3"/>
          <a:stretch/>
        </p:blipFill>
        <p:spPr>
          <a:xfrm>
            <a:off x="0" y="4156200"/>
            <a:ext cx="235260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268360" y="549360"/>
          <a:ext cx="5411880" cy="5938920"/>
        </p:xfrm>
        <a:graphic>
          <a:graphicData uri="http://schemas.openxmlformats.org/drawingml/2006/table">
            <a:tbl>
              <a:tblPr/>
              <a:tblGrid>
                <a:gridCol w="5411880"/>
              </a:tblGrid>
              <a:tr h="59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Task 2: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Use your fact finder to: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e5f97f"/>
                        </a:buClr>
                        <a:buFont typeface="Symbol" charset="2"/>
                        <a:buChar char=""/>
                        <a:tabLst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Complete the front of the postcard. Why not include key dates, facts and an illustration?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e5f97f"/>
                        </a:buClr>
                        <a:buFont typeface="Symbol" charset="2"/>
                        <a:buChar char=""/>
                        <a:tabLst>
                          <a:tab algn="l" pos="496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5f97f"/>
                          </a:solidFill>
                          <a:latin typeface="Times New Roman"/>
                          <a:ea typeface="Times New Roman"/>
                        </a:rPr>
                        <a:t>Complete the back of the postcard. What would you say about this city to a friend? Remember to include a name and address.</a:t>
                      </a:r>
                      <a:r>
                        <a:rPr b="0" lang="en-US" sz="3200" spc="-1" strike="noStrike">
                          <a:solidFill>
                            <a:srgbClr val="c0c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c0c0c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5:25:52Z</dcterms:created>
  <dc:creator>Scott Haxton</dc:creator>
  <dc:description/>
  <cp:keywords/>
  <dc:language>en-US</dc:language>
  <cp:lastModifiedBy>Pitchford</cp:lastModifiedBy>
  <dcterms:modified xsi:type="dcterms:W3CDTF">2006-04-05T06:12:42Z</dcterms:modified>
  <cp:revision>3</cp:revision>
  <dc:subject/>
  <dc:title> Task 1: Use the fact finder sheet to identify the key ideas you want to include on your postcard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581033</vt:lpwstr>
  </property>
</Properties>
</file>