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343-ED98-4C20-85F7-E3CF1D8E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2F6-913B-425B-835F-96CFCA19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731-EC24-44DB-8DCA-7B92F96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464-E54F-462D-8B28-E49F950C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B4AB-824E-4ABD-AA7A-D833FE16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EEAA-6EAA-4FA7-88FE-D38FE2D9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8150-0AEF-4EFD-9574-A143CB6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B85-5B73-4CB6-A7DD-F2972A1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7AF4-015A-46B2-AAAE-22E054E3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5017-210A-45E4-8A8C-B9FF8980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AEB2-1E57-4537-8F60-7EB62AC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377-121F-40B2-81FF-2DDBF150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890-121C-435A-B5CF-E57758A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3C7E-8F25-4E1B-9858-53A3E1A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27B1-64EF-4629-AAC3-87D41C0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E46-B80B-4A1A-8531-06E546C0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532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68160" y="464832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284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5532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68160" y="5046480"/>
            <a:ext cx="2011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D1D5-F610-4D78-8548-833003DA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B6C-9EFE-4070-8104-05D0E0E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237-2B93-4131-922C-A6395639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3FE-D9F5-4450-BDA1-BD6FDC8E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2840" y="3657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A4A-BC5E-46BD-8228-8450B989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B45-82F3-4963-A8ED-4C318B20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5040" y="504648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26C-8E28-4114-B160-20A9AB4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5040" y="4648320"/>
            <a:ext cx="30492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2840" y="5046480"/>
            <a:ext cx="62485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A0A-8C80-40FC-A2CF-46708E3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C6F-F316-4701-8B4E-9DF3BF112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6A1-49D1-45B5-BAEA-E40E21A87B2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azilian Citi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205000"/>
            <a:ext cx="8048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the fact finder learning tool to find out the key ideas about 1 of these Brazilian cities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743200" cy="1984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11280" y="3933720"/>
            <a:ext cx="3810240" cy="2563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14600" cy="20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5240" y="7650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0120" y="33577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– Brasi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7600" y="602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5:29:52Z</dcterms:created>
  <dc:creator>Scott Haxton</dc:creator>
  <dc:description/>
  <cp:keywords/>
  <dc:language>en-US</dc:language>
  <cp:lastModifiedBy>Pitchford</cp:lastModifiedBy>
  <dcterms:modified xsi:type="dcterms:W3CDTF">2006-04-05T06:11:50Z</dcterms:modified>
  <cp:revision>2</cp:revision>
  <dc:subject/>
  <dc:title> Brazilian C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261033</vt:lpwstr>
  </property>
</Properties>
</file>