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9FC3-2037-4915-BBBA-A0D29468F6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27CA-21B6-407A-A175-7595EA304A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BA79-BA9E-4D4F-AB4D-0704278C2F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0B06-187E-4A9C-B588-B622771022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54A2-AAA3-4A7F-8381-F968A94E1D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E693-98DD-4652-BE8D-5F279AEFF2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C773-3E60-4A45-9C08-CF3738085B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B650-26BD-4181-BEDF-E9EDC74FE0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0507-BF5E-4E25-87EB-E1140E62F1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3EE9-9ED6-45F6-99B4-513D278D67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4D6C-4C37-4316-8210-E227F1B568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3232-DB0B-42E5-A790-BD4F4E3112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57BC-07FB-4CD5-B500-D997B18399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FD9A-6B89-437B-B72B-5DFE937135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776A-CB0A-4D40-812A-D112E5316B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A50E-701D-45BE-9F57-DC276E5E41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7F4D-79F6-4F48-807B-91C537FB82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F8F5-295F-41A8-A14D-12D42C7985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9DD4-6AFA-49B5-BB49-B61A3A8F08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0209-EFF6-4F3A-B4BE-E92AEE4763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537C-2A3B-4ABD-B0B0-D2C12BCA94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24FE-D46F-4F75-A08F-9EB35C3A82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A066-A080-4EBB-B6A7-E4F81DD601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B8AD-C7DC-4224-9ECE-FF8EBC8A2D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C3C1-013E-43F4-B17F-40DCA45399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6FFB-CED1-4F25-8DF1-4FCC127390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0314-42DF-4134-8C35-E8A444DFBB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E18E-115A-48D0-804E-649DF61274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C186-B73C-42A8-8CAC-A803747C77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3187-12B1-44A8-BF51-A8F370D432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78DA-314D-474D-B0E0-363EBB9A33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58B4-17F3-4EDB-8A1F-6E7E9448A3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7382-3473-415D-8503-2E6C94D312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6FCB-F0C3-4E07-8451-6AD277F95C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C4BD-BB72-4F77-8CCF-9F726A7E2C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074F-2B10-439F-8641-71FC415D53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CAC0-BE62-4DA1-8886-F67E60BA88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1748-1D1C-422D-86B2-93ACA64D92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46D4-C3CB-41CC-BECD-ABCC16AA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0647-2C2E-49A5-B7F6-0F480B7A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46BC-5D6B-4F17-8C77-F2532938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0BD0-1460-4D53-84DA-C0080AB1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E6E9-1978-4BCA-B9CF-9C43F767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8230-630F-4B38-8718-05C2F23C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50E5-ACA8-48D1-B279-9863C236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3DCE-8D30-4600-B455-CE4E53E0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99B4-47F9-4979-B58B-29B4F19A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FBD1-8038-40C7-9CEA-23864F1A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A170-AD36-45E9-95E9-BDCA3FC1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BDEA-7456-40A2-A487-CE9D2EB7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013B-8B42-4E3F-8FF0-77AB56B522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2411280" y="3141720"/>
            <a:ext cx="4321440" cy="5745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771640" y="1773360"/>
            <a:ext cx="3600720" cy="8636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orld War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0328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Questions for Mr Hewi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9E68-F566-4172-8651-F7D3452233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MS Mincho"/>
              </a:rPr>
              <a:t>How did you entertain yourself outside of work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DB6F-D9CF-4D0C-B50F-8C5667B3C4F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Did you know of anyone getting married during wartim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D319-C372-49A2-9B9A-0FC4D767CF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If so, what were weddings lik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24FB-EC34-4E4F-837E-37D3182101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Did you worry that our side might not win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339A-993C-49B8-9462-B38ACC1099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Did you know anyone who was killed or wounded in the war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33E9-2F6B-4F8A-8DF9-BB2A6EBE19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Tell me about corresponding via letters or otherwise with friends or family in the servic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A3E5-38D4-4B9D-ADCB-9DF6E9B6C2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What effect did the war have on your health or that of others you knew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558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765E-A265-4FAE-B5B8-6EF89E4E37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Did you have worthwhile experiences because of the war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C9FB-627F-40C9-B3A2-3346FE5F85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What was your most memorable experi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E92A-A6EC-47E8-A0D6-F4D1F3363F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Who was your most memorable character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0082-884D-497C-8458-E374603832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How did you feel about the war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D622-65C2-48A0-8315-DC6098B00B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What was your funniest experienc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6DA8-D0BE-45E0-B69E-F66BE4E362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Have you visited any memorials or participated in any commemorations of the war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2BA6-39FC-46A1-BA28-F8066BA049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Was there a lack of social opportunities and friends because of the w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55A9-75F5-4663-B969-3445422BCD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How did your community respond to the war and civil defence (or other home front) initiativ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7402-E557-4E3D-98B5-A5CB1A2C0D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Did child care activities change for mother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9756-1F81-4C9B-B818-7D665F210D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What can you tell us about shortages and rationing of food and ga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9B7E-E129-429F-A70B-491A2704D9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Did you have a victory garden or other ways to get enough foo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0ED5-627C-4912-8D2E-CCBB6C084A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How did you cope with wartime shortag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911E-36EB-4401-8C5A-1DFAD259F7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What can you tell us about recycling during WW2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5A4C-BDE5-4DE2-BACC-03F742F9699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To what extent was there hoarding or black market activity in your area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10AE-03CA-49FC-9D87-F28FFA10F9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How old were you when the war was declar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2478-0961-44F1-84B3-F9A8BFC31F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How did you feel about war news from newsreels or radio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28D3-67AC-4C22-A387-DC7685B509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How did you feel when the war ended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9200-C6CC-4499-BADA-86AE66A459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What did you do when you heard the new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B08F-67FA-460A-B261-97F84DAB0D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Where were you on V-E Day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5A30-F582-4E7E-B511-F0EE0A04FB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Where were you on V-J Day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5E3C-7ADC-4589-AFB4-DF51F9B5ED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How would you describe the ways that the war changed your life and those of other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E253-0209-432B-AB52-2D3D82F566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Did you keep your wartime friends or continue other wartime activities after the war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A524-C2E6-4603-816F-E7888A7E90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Is there one thought about your wartime experience that you want to share with future gener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FC3C-C6B6-4490-ACD1-EB65A832E2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What were your family or friends' feeling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7F84-AAE9-469E-BD46-76FF4B1CFEF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Did you live with family, friends, or other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C463-357A-42C4-A67E-2307AB25EC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In what ways did the war change your activities or habi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E89D-436F-4A71-8D84-DF6F0D791A1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What were some of the first changes in your life after the war started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75F6-5CF4-4EAE-A7F8-99CA4CAB30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What different responsibilities did you have to take on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1FA1-18E8-424F-87A1-3A76FA3815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What social activities were you involved in at school or after school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A0B6-1DF9-4DB6-BBAC-6266AA61B1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20:57:17Z</dcterms:created>
  <dc:creator>ME</dc:creator>
  <dc:description/>
  <dc:language>en-US</dc:language>
  <cp:lastModifiedBy>Lois</cp:lastModifiedBy>
  <cp:lastPrinted>2011-03-02T20:15:24Z</cp:lastPrinted>
  <dcterms:modified xsi:type="dcterms:W3CDTF">2011-03-02T20:18:33Z</dcterms:modified>
  <cp:revision>7</cp:revision>
  <dc:subject/>
  <dc:title>How did you feel about the war?</dc:title>
</cp:coreProperties>
</file>