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AEA4-B1DB-4453-9955-80030D4F9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BC06-7415-4001-9A95-1EF8BD72D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E7D4D-50FE-4ED4-A283-732AAB264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40AB-17BD-41CC-A6AE-771CEDAA6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39CF-98A0-48DC-8B88-FD965DEC1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41CE-14B9-4460-95ED-C54DE81E5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2039-0254-4F8C-B47E-8B6072521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DCB7-8F28-4543-B9DE-036147CA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3A8B-7CF2-473E-84DB-0DC4A57AD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0A29-0DA2-425C-863A-F872A5AA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8846-6E2E-43F4-9473-BD10B1C5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BE4E-5437-476D-82CC-DDFA9A9E0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AA2FB-C18C-4EF8-9A80-DD8D9B645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424720" cy="1470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3366ff"/>
                </a:solidFill>
                <a:latin typeface="Ravie"/>
              </a:rPr>
              <a:t>Mathematics</a:t>
            </a:r>
            <a:br>
              <a:rPr sz="6000"/>
            </a:br>
            <a:br>
              <a:rPr sz="4000"/>
            </a:br>
            <a:r>
              <a:rPr b="1" lang="en-NZ" sz="4800" spc="-1" strike="noStrike">
                <a:solidFill>
                  <a:srgbClr val="ffffff"/>
                </a:solidFill>
                <a:latin typeface="Arial"/>
              </a:rPr>
              <a:t>Diagnostic - Number Knowledge</a:t>
            </a:r>
            <a:br>
              <a:rPr sz="4000"/>
            </a:br>
            <a:br>
              <a:rPr sz="4000"/>
            </a:br>
            <a:r>
              <a:rPr b="1" lang="en-NZ" sz="7200" spc="-1" strike="noStrike">
                <a:solidFill>
                  <a:srgbClr val="ff3300"/>
                </a:solidFill>
                <a:latin typeface="Arial"/>
              </a:rPr>
              <a:t>Numbers 1-10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unts Forward 0-100 (5’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242100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9640" y="148428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9280" y="1484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27280" y="148428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08360" y="148428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788000" y="1484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148428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48360" y="148428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28000" y="1484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48360" y="537372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59280" y="537372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5373720"/>
            <a:ext cx="108108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19280" y="537372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00360" y="537372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80000" y="537372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8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0360" y="537372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28000" y="2421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028000" y="537372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6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28000" y="436572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28000" y="3429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335772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71640" y="2852640"/>
            <a:ext cx="43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3300"/>
                </a:solidFill>
                <a:latin typeface="Ravie"/>
              </a:rPr>
              <a:t>Yay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unts Backward 100-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242100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148428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19280" y="1484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27280" y="148428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08360" y="148428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88000" y="1484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148428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48360" y="148428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028000" y="1484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48360" y="537372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859280" y="537372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9280" y="5373720"/>
            <a:ext cx="115272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19280" y="537372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00360" y="537372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80000" y="537372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8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940360" y="537372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028000" y="242100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028000" y="537372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6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28000" y="436572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28000" y="342900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335772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84360" y="2276640"/>
            <a:ext cx="432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3300"/>
                </a:solidFill>
                <a:latin typeface="Ravie"/>
              </a:rPr>
              <a:t>Spot on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916360" y="189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roups 2s, 3s &amp; 4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476280"/>
            <a:ext cx="2952720" cy="32400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59280" y="3284640"/>
            <a:ext cx="2952720" cy="32400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08720" y="476280"/>
            <a:ext cx="2952720" cy="32400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981000"/>
            <a:ext cx="433440" cy="43200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63640" y="836640"/>
            <a:ext cx="433440" cy="43164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47640" y="1484280"/>
            <a:ext cx="433440" cy="43200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16000" y="2060640"/>
            <a:ext cx="433440" cy="43164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5640" y="2708280"/>
            <a:ext cx="433440" cy="43164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47640" y="2708280"/>
            <a:ext cx="433440" cy="43164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11280" y="1484280"/>
            <a:ext cx="433440" cy="43200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68360" y="2276640"/>
            <a:ext cx="433440" cy="43164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43280" y="1916280"/>
            <a:ext cx="433440" cy="43164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71640" y="549360"/>
            <a:ext cx="1368360" cy="1439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79640" y="1341360"/>
            <a:ext cx="1368360" cy="144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1280" y="1844640"/>
            <a:ext cx="1511280" cy="158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443640" y="76500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77080" y="76500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96000" y="1484280"/>
            <a:ext cx="35856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27640" y="148428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308720" y="155736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812000" y="155736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940360" y="220500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72360" y="2205000"/>
            <a:ext cx="35856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77080" y="2997360"/>
            <a:ext cx="358920" cy="43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72360" y="2997360"/>
            <a:ext cx="358560" cy="43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812000" y="2276640"/>
            <a:ext cx="358920" cy="43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80360" y="2276640"/>
            <a:ext cx="358560" cy="43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04000" y="170028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27640" y="620640"/>
            <a:ext cx="136872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1341360"/>
            <a:ext cx="115236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64360" y="2133720"/>
            <a:ext cx="122400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24360" y="2060640"/>
            <a:ext cx="136872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56360" y="2852640"/>
            <a:ext cx="136836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236000" y="1413000"/>
            <a:ext cx="115236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492360" y="407664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24360" y="364500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924360" y="450864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427640" y="414972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35280" y="515772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43280" y="486900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211640" y="551664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076720" y="537372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76720" y="443700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08720" y="494172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48000" y="3500280"/>
            <a:ext cx="1368360" cy="144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00720" y="4365720"/>
            <a:ext cx="1368360" cy="144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92360" y="90792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812000" y="3573360"/>
            <a:ext cx="1008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56360" y="537372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kip Counts     2,    3,   4,    5   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16000" y="1413000"/>
            <a:ext cx="64764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835280" y="141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00360" y="141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564000" y="141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27640" y="141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92720" y="141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885080" y="141300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56360" y="141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020000" y="141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95280" y="1413000"/>
            <a:ext cx="64764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116000" y="2492280"/>
            <a:ext cx="64764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835280" y="2492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700360" y="2492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564000" y="2492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427640" y="2492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292720" y="2492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885080" y="249228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56360" y="2492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20000" y="2492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95280" y="2492280"/>
            <a:ext cx="64764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16000" y="3573360"/>
            <a:ext cx="64764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835280" y="357336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700360" y="357336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564000" y="357336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427640" y="357336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292720" y="357336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885080" y="357336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56360" y="357336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3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020000" y="357336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95280" y="3573360"/>
            <a:ext cx="64764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116000" y="465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835280" y="465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700360" y="465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564000" y="465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427640" y="465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92720" y="465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7885080" y="465300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156360" y="465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020000" y="4653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395280" y="4653000"/>
            <a:ext cx="64764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042920" y="5661000"/>
            <a:ext cx="86508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835280" y="5661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700360" y="5661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564000" y="5661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427640" y="5661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292720" y="5661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885080" y="5661000"/>
            <a:ext cx="107964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156360" y="5661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20000" y="5661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79280" y="566100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oubles to tw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24000" y="907920"/>
            <a:ext cx="86328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547640" y="907920"/>
            <a:ext cx="79236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24000" y="1916280"/>
            <a:ext cx="86328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547640" y="3933720"/>
            <a:ext cx="79236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547640" y="29242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547640" y="191628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1547640" y="4941720"/>
            <a:ext cx="79236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4000" y="4941720"/>
            <a:ext cx="86328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24000" y="3933720"/>
            <a:ext cx="86328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000" y="2924280"/>
            <a:ext cx="8632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771640" y="3933720"/>
            <a:ext cx="1079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771640" y="2924280"/>
            <a:ext cx="1079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771640" y="1916280"/>
            <a:ext cx="107964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771640" y="907920"/>
            <a:ext cx="107964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771640" y="4941720"/>
            <a:ext cx="107964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87280" y="981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340000" y="9079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187280" y="1989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87280" y="2997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187280" y="4005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87280" y="501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340000" y="198900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340000" y="2997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340000" y="4005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340000" y="5013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716360" y="907920"/>
            <a:ext cx="86364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940360" y="907920"/>
            <a:ext cx="79236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716360" y="1916280"/>
            <a:ext cx="86364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940360" y="3933720"/>
            <a:ext cx="79236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940360" y="29242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940360" y="191628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940360" y="4941720"/>
            <a:ext cx="79236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716360" y="4941720"/>
            <a:ext cx="86364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716360" y="393372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16360" y="29242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164360" y="3933720"/>
            <a:ext cx="1079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164360" y="2924280"/>
            <a:ext cx="1079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164360" y="1916280"/>
            <a:ext cx="107964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164360" y="907920"/>
            <a:ext cx="1079640" cy="703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164360" y="4941720"/>
            <a:ext cx="107964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580000" y="981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32720" y="9079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580000" y="1989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580000" y="2997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580000" y="4005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80000" y="501336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732720" y="19890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732720" y="2997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732720" y="4005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32720" y="501336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n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79280" y="148428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763640" y="14842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187280" y="1628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700360" y="14842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203640" y="14842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79280" y="573408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763640" y="57340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87280" y="58784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700360" y="57340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03640" y="57340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9280" y="465300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763640" y="465300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187280" y="4797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700360" y="4653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3203640" y="465300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79280" y="357336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763640" y="357336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187280" y="37180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700360" y="3573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03640" y="357336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79280" y="249228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763640" y="24922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187280" y="2637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700360" y="24922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203640" y="24922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932360" y="148428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516720" y="14842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940360" y="1628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453440" y="14842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956720" y="1484280"/>
            <a:ext cx="86328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932360" y="249228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516720" y="24922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40360" y="2637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453440" y="24922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956720" y="2492280"/>
            <a:ext cx="86328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932360" y="357336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516720" y="357336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940360" y="37180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453440" y="357336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7956720" y="3573360"/>
            <a:ext cx="86328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4932360" y="465300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516720" y="465300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940360" y="4797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453440" y="465300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956720" y="4653000"/>
            <a:ext cx="86328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932360" y="573408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516720" y="57340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940360" y="58784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453440" y="57340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956720" y="5734080"/>
            <a:ext cx="86328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8" fill="hold">
                      <p:stCondLst>
                        <p:cond delay="indefinite"/>
                      </p:stCondLst>
                      <p:childTnLst>
                        <p:par>
                          <p:cTn id="1229" fill="hold">
                            <p:stCondLst>
                              <p:cond delay="0"/>
                            </p:stCondLst>
                            <p:childTnLst>
                              <p:par>
                                <p:cTn id="1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raw a picture (Whitebo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780000" y="1197000"/>
            <a:ext cx="107928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547640" y="119700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56360" y="119700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914560" y="1341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219640" y="1341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51280" y="378936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619280" y="378936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227640" y="378936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986200" y="3933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291280" y="3933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547640" y="220500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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564000" y="2205000"/>
            <a:ext cx="15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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825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900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16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32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547640" y="5516640"/>
            <a:ext cx="21780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76364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411280" y="5516640"/>
            <a:ext cx="21780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19564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97964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62728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84328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06072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27672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492360" y="5516640"/>
            <a:ext cx="21780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7083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39243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572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356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41403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788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003640" y="5516640"/>
            <a:ext cx="21780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22144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43708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65308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86908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084720" y="5516640"/>
            <a:ext cx="21780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673272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51672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30072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69483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16292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3803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5963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812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27168E-006 L 0.41354 -0.00277 E">
                                      <p:cBhvr>
                                        <p:cTn id="1285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fill="hold">
                      <p:stCondLst>
                        <p:cond delay="indefinite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27168E-006 L 0.53941 -0.00277 E">
                                      <p:cBhvr>
                                        <p:cTn id="1289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fill="hold">
                      <p:stCondLst>
                        <p:cond delay="indefinite"/>
                      </p:stCondLst>
                      <p:childTnLst>
                        <p:par>
                          <p:cTn id="1291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3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94" dur="20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6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297" dur="20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88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389" dur="2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1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392" dur="2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4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395" dur="2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97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398" dur="2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0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401" dur="2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3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404" dur="2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6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407" dur="2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9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410" dur="2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2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413" dur="2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5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416" dur="2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8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419" dur="2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1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422" dur="2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4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425" dur="2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27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428" dur="2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30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431" dur="2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fill="hold">
                      <p:stCondLst>
                        <p:cond delay="indefinite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5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39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0" dur="500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3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47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1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5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9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0" dur="500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3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4" dur="50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67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1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2" dur="500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5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6" dur="50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79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3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4" dur="50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87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8" dur="50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1" dur="5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Writing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3780000" y="1197000"/>
            <a:ext cx="107928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547640" y="119700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156360" y="119700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914560" y="1341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219640" y="1341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851280" y="378936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619280" y="378936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227640" y="378936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986200" y="3933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291280" y="3933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547640" y="2205000"/>
            <a:ext cx="107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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564000" y="2205000"/>
            <a:ext cx="15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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825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900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116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332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547640" y="5516640"/>
            <a:ext cx="21780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76364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411280" y="5516640"/>
            <a:ext cx="21780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9564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97964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62728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84328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06072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27672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92360" y="5516640"/>
            <a:ext cx="21780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7083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9243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572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356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1403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788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03640" y="5516640"/>
            <a:ext cx="21780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22144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43708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65308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86908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6084720" y="5516640"/>
            <a:ext cx="21780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673272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651672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630072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69483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16292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3803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59636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812000" y="5516640"/>
            <a:ext cx="217440" cy="5047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2" fill="hold">
                      <p:stCondLst>
                        <p:cond delay="indefinite"/>
                      </p:stCondLst>
                      <p:childTnLst>
                        <p:par>
                          <p:cTn id="1513" fill="hold">
                            <p:stCondLst>
                              <p:cond delay="0"/>
                            </p:stCondLst>
                            <p:childTnLst>
                              <p:par>
                                <p:cTn id="1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fill="hold">
                      <p:stCondLst>
                        <p:cond delay="indefinite"/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0" fill="hold">
                      <p:stCondLst>
                        <p:cond delay="indefinite"/>
                      </p:stCondLst>
                      <p:childTnLst>
                        <p:par>
                          <p:cTn id="1521" fill="hold">
                            <p:stCondLst>
                              <p:cond delay="0"/>
                            </p:stCondLst>
                            <p:childTnLst>
                              <p:par>
                                <p:cTn id="1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3854 0 E">
                                      <p:cBhvr>
                                        <p:cTn id="1527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fill="hold">
                      <p:stCondLst>
                        <p:cond delay="indefinite"/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6 -0.00277 L 0.46059 -0.00277 E">
                                      <p:cBhvr>
                                        <p:cTn id="1531" dur="2000" fill="hold"/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5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1536" dur="2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8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33"/>
                                      </p:to>
                                    </p:animClr>
                                    <p:set>
                                      <p:cBhvr>
                                        <p:cTn id="1539" dur="2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fill="hold">
                      <p:stCondLst>
                        <p:cond delay="indefinite"/>
                      </p:stCondLst>
                      <p:childTnLst>
                        <p:par>
                          <p:cTn id="1541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fill="hold">
                      <p:stCondLst>
                        <p:cond delay="indefinite"/>
                      </p:stCondLst>
                      <p:childTnLst>
                        <p:par>
                          <p:cTn id="1545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6" fill="hold">
                      <p:stCondLst>
                        <p:cond delay="indefinite"/>
                      </p:stCondLst>
                      <p:childTnLst>
                        <p:par>
                          <p:cTn id="1627" fill="hold">
                            <p:stCondLst>
                              <p:cond delay="0"/>
                            </p:stCondLst>
                            <p:childTnLst>
                              <p:par>
                                <p:cTn id="1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3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34" dur="2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6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37" dur="2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9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40" dur="2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2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43" dur="2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5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46" dur="2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48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49" dur="2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1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52" dur="2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4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55" dur="2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7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58" dur="20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0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61" dur="20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3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64" dur="2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6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67" dur="2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69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70" dur="2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2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73" dur="20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5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1676" dur="2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0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1" dur="500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4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88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9" dur="500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2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3" dur="500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96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0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1" dur="500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4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5" dur="500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8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2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3" dur="500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6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7" dur="500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0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1" dur="5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4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28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9" dur="500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2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36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7" dur="500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roupings within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692360" y="90792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95280" y="90792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3059280" y="907920"/>
            <a:ext cx="86328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258920" y="1052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556000" y="90792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692360" y="1844640"/>
            <a:ext cx="86364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95280" y="184464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059280" y="1844640"/>
            <a:ext cx="865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258920" y="1989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556000" y="184464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92360" y="278136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5280" y="278136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059280" y="2781360"/>
            <a:ext cx="86508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1258920" y="2925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556000" y="278136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692360" y="3716280"/>
            <a:ext cx="86364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5280" y="3716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059280" y="3716280"/>
            <a:ext cx="865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258920" y="3860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556000" y="371628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692360" y="465300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95280" y="465300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9280" y="4653000"/>
            <a:ext cx="86508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258920" y="4797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556000" y="4653000"/>
            <a:ext cx="28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692360" y="5589720"/>
            <a:ext cx="86364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395280" y="558972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3059280" y="5589720"/>
            <a:ext cx="865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258920" y="57340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556000" y="558972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012000" y="907920"/>
            <a:ext cx="86508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714920" y="90792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308720" y="90792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5578560" y="1052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877080" y="907920"/>
            <a:ext cx="43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012000" y="1844640"/>
            <a:ext cx="865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714920" y="184464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308720" y="1844640"/>
            <a:ext cx="86364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578560" y="1989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6877080" y="1844640"/>
            <a:ext cx="28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6012000" y="2781360"/>
            <a:ext cx="86508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714920" y="278136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308720" y="278136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578560" y="2925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6877080" y="2781360"/>
            <a:ext cx="35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6012000" y="3716280"/>
            <a:ext cx="865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714920" y="3716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308720" y="3716280"/>
            <a:ext cx="86364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578560" y="3860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804000" y="371628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012000" y="4653000"/>
            <a:ext cx="86508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714920" y="465300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308720" y="465300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5578560" y="4797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804000" y="465300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012000" y="5589720"/>
            <a:ext cx="865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500720" y="5589720"/>
            <a:ext cx="10778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308720" y="5589720"/>
            <a:ext cx="863640" cy="7034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578560" y="57340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804000" y="55897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7" dur="indefinite" restart="never" nodeType="tmRoot">
          <p:childTnLst>
            <p:seq>
              <p:cTn id="1748" dur="indefinite" nodeType="mainSeq">
                <p:childTnLst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umber 10 bigger, 30 b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419640" y="1700280"/>
            <a:ext cx="865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755640" y="1700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5940360" y="17002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124000" y="1844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203640" y="112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 b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651640" y="112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30  b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421080" y="27082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55640" y="2708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6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942160" y="27082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2125800" y="28526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421080" y="37162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55640" y="3716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5942160" y="37162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125800" y="38606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3421080" y="47242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55640" y="4724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3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942160" y="47242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2125800" y="486900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421080" y="57340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55640" y="57340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942160" y="57340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2125800" y="58784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7" dur="indefinite" restart="never" nodeType="tmRoot">
          <p:childTnLst>
            <p:seq>
              <p:cTn id="1798" dur="indefinite" nodeType="mainSeq">
                <p:childTnLst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5" fill="hold">
                      <p:stCondLst>
                        <p:cond delay="indefinite"/>
                      </p:stCondLst>
                      <p:childTnLst>
                        <p:par>
                          <p:cTn id="1846" fill="hold">
                            <p:stCondLst>
                              <p:cond delay="0"/>
                            </p:stCondLst>
                            <p:childTnLst>
                              <p:par>
                                <p:cTn id="1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hecklist of Knowledge and Understanding for Numbers 1-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40384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Name: 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Year: _____     Room: 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Reads  Numbers…...…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Writes a Numbers   …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Counts objects to……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Matches Set/Numeral…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Knows Nos 1 Greater…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Knows Nos 1 Less……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Orders numbers…….. 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Counts Forward…….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Counts Backward……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Groups 2’s, 3’s, 4’s,..…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Skip Counts………...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Doubles to Twenty    …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5 Patterns………….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Draw operation ……  .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00360" y="620640"/>
            <a:ext cx="4392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Records Equations ……………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Groupings within 50 ………… .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Names No +1, 10 , 20, 30   …    . 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Names No -1, 10 , 20, 30…… … .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Place Value…………………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Expands …………………… .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Tidy’s Numbers …………….    .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Transfers from number to number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Adds Equally for Subtraction……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No of Tens in Decades …………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Symbols for Fractions ………     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Orders Fractions …………….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Recalls Basic Facts + ………… 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Recalls Basic Facts –   …………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Recalls Basic Facts x………….. 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92280"/>
            <a:ext cx="3889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Date:         ____/___/_______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ested by: 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umber 10 smaller, 40 sm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3419640" y="1700280"/>
            <a:ext cx="865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755640" y="1700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940360" y="17002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2124000" y="1844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203640" y="112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 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651640" y="112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40  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3421080" y="27082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55640" y="2708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5942160" y="27082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2125800" y="28526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3421080" y="37162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55640" y="3716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942160" y="37162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2125800" y="38606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3421080" y="47242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55640" y="4724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6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5942160" y="47242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125800" y="486900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421080" y="57340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55640" y="57340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5942160" y="57340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2125800" y="58784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9" dur="indefinite" restart="never" nodeType="tmRoot">
          <p:childTnLst>
            <p:seq>
              <p:cTn id="1870" dur="indefinite" nodeType="mainSeq">
                <p:childTnLst>
                  <p:par>
                    <p:cTn id="1871" fill="hold">
                      <p:stCondLst>
                        <p:cond delay="indefinite"/>
                      </p:stCondLst>
                      <p:childTnLst>
                        <p:par>
                          <p:cTn id="1872" fill="hold">
                            <p:stCondLst>
                              <p:cond delay="0"/>
                            </p:stCondLst>
                            <p:childTnLst>
                              <p:par>
                                <p:cTn id="1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1" fill="hold">
                      <p:stCondLst>
                        <p:cond delay="indefinite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fill="hold">
                      <p:stCondLst>
                        <p:cond delay="indefinite"/>
                      </p:stCondLst>
                      <p:childTnLst>
                        <p:par>
                          <p:cTn id="1922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fill="hold">
                      <p:stCondLst>
                        <p:cond delay="indefinite"/>
                      </p:stCondLst>
                      <p:childTnLst>
                        <p:par>
                          <p:cTn id="1926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3" fill="hold">
                      <p:stCondLst>
                        <p:cond delay="indefinite"/>
                      </p:stCondLst>
                      <p:childTnLst>
                        <p:par>
                          <p:cTn id="1934" fill="hold">
                            <p:stCondLst>
                              <p:cond delay="0"/>
                            </p:stCondLst>
                            <p:childTnLst>
                              <p:par>
                                <p:cTn id="1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fill="hold">
                      <p:stCondLst>
                        <p:cond delay="indefinite"/>
                      </p:stCondLst>
                      <p:childTnLst>
                        <p:par>
                          <p:cTn id="1938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90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lac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84360" y="90792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684360" y="907920"/>
            <a:ext cx="2158920" cy="1008360"/>
            <a:chOff x="684360" y="907920"/>
            <a:chExt cx="2158920" cy="1008360"/>
          </a:xfrm>
        </p:grpSpPr>
        <p:sp>
          <p:nvSpPr>
            <p:cNvPr id="678" name=""/>
            <p:cNvSpPr/>
            <p:nvPr/>
          </p:nvSpPr>
          <p:spPr>
            <a:xfrm>
              <a:off x="684360" y="907920"/>
              <a:ext cx="2158920" cy="1008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1008360"/>
                <a:gd name="textAreaBottom" fmla="*/ 100836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55640" y="907920"/>
              <a:ext cx="1440000" cy="9169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1258920" y="907920"/>
            <a:ext cx="2160720" cy="1008360"/>
            <a:chOff x="1258920" y="907920"/>
            <a:chExt cx="2160720" cy="1008360"/>
          </a:xfrm>
        </p:grpSpPr>
        <p:sp>
          <p:nvSpPr>
            <p:cNvPr id="681" name=""/>
            <p:cNvSpPr/>
            <p:nvPr/>
          </p:nvSpPr>
          <p:spPr>
            <a:xfrm>
              <a:off x="1258920" y="907920"/>
              <a:ext cx="2160720" cy="1008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332000" y="907920"/>
              <a:ext cx="71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684360" y="2060640"/>
            <a:ext cx="2158920" cy="1008000"/>
            <a:chOff x="684360" y="2060640"/>
            <a:chExt cx="2158920" cy="1008000"/>
          </a:xfrm>
        </p:grpSpPr>
        <p:sp>
          <p:nvSpPr>
            <p:cNvPr id="684" name=""/>
            <p:cNvSpPr/>
            <p:nvPr/>
          </p:nvSpPr>
          <p:spPr>
            <a:xfrm>
              <a:off x="684360" y="2060640"/>
              <a:ext cx="2158920" cy="100800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55640" y="2060640"/>
              <a:ext cx="1440000" cy="9169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1258920" y="2060640"/>
            <a:ext cx="2160720" cy="1008000"/>
            <a:chOff x="1258920" y="2060640"/>
            <a:chExt cx="2160720" cy="1008000"/>
          </a:xfrm>
        </p:grpSpPr>
        <p:sp>
          <p:nvSpPr>
            <p:cNvPr id="687" name=""/>
            <p:cNvSpPr/>
            <p:nvPr/>
          </p:nvSpPr>
          <p:spPr>
            <a:xfrm>
              <a:off x="1258920" y="2060640"/>
              <a:ext cx="2160720" cy="100800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332000" y="2060640"/>
              <a:ext cx="71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9" name=""/>
          <p:cNvGrpSpPr/>
          <p:nvPr/>
        </p:nvGrpSpPr>
        <p:grpSpPr>
          <a:xfrm>
            <a:off x="684360" y="3213000"/>
            <a:ext cx="2158920" cy="1008000"/>
            <a:chOff x="684360" y="3213000"/>
            <a:chExt cx="2158920" cy="1008000"/>
          </a:xfrm>
        </p:grpSpPr>
        <p:sp>
          <p:nvSpPr>
            <p:cNvPr id="690" name=""/>
            <p:cNvSpPr/>
            <p:nvPr/>
          </p:nvSpPr>
          <p:spPr>
            <a:xfrm>
              <a:off x="684360" y="3213000"/>
              <a:ext cx="2158920" cy="100800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55640" y="3213000"/>
              <a:ext cx="1440000" cy="9169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1258920" y="3213000"/>
            <a:ext cx="2160720" cy="1008000"/>
            <a:chOff x="1258920" y="3213000"/>
            <a:chExt cx="2160720" cy="1008000"/>
          </a:xfrm>
        </p:grpSpPr>
        <p:sp>
          <p:nvSpPr>
            <p:cNvPr id="693" name=""/>
            <p:cNvSpPr/>
            <p:nvPr/>
          </p:nvSpPr>
          <p:spPr>
            <a:xfrm>
              <a:off x="1258920" y="3213000"/>
              <a:ext cx="2160720" cy="100800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332000" y="3213000"/>
              <a:ext cx="71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684360" y="4365720"/>
            <a:ext cx="2158920" cy="1008000"/>
            <a:chOff x="684360" y="4365720"/>
            <a:chExt cx="2158920" cy="1008000"/>
          </a:xfrm>
        </p:grpSpPr>
        <p:sp>
          <p:nvSpPr>
            <p:cNvPr id="696" name=""/>
            <p:cNvSpPr/>
            <p:nvPr/>
          </p:nvSpPr>
          <p:spPr>
            <a:xfrm>
              <a:off x="684360" y="4365720"/>
              <a:ext cx="2158920" cy="100800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55640" y="4365720"/>
              <a:ext cx="1440000" cy="9169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1258920" y="4365720"/>
            <a:ext cx="2160720" cy="1008000"/>
            <a:chOff x="1258920" y="4365720"/>
            <a:chExt cx="2160720" cy="1008000"/>
          </a:xfrm>
        </p:grpSpPr>
        <p:sp>
          <p:nvSpPr>
            <p:cNvPr id="699" name=""/>
            <p:cNvSpPr/>
            <p:nvPr/>
          </p:nvSpPr>
          <p:spPr>
            <a:xfrm>
              <a:off x="1258920" y="4365720"/>
              <a:ext cx="2160720" cy="100800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332000" y="4365720"/>
              <a:ext cx="71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684360" y="5516640"/>
            <a:ext cx="2158920" cy="1008000"/>
            <a:chOff x="684360" y="5516640"/>
            <a:chExt cx="2158920" cy="1008000"/>
          </a:xfrm>
        </p:grpSpPr>
        <p:sp>
          <p:nvSpPr>
            <p:cNvPr id="702" name=""/>
            <p:cNvSpPr/>
            <p:nvPr/>
          </p:nvSpPr>
          <p:spPr>
            <a:xfrm>
              <a:off x="684360" y="5516640"/>
              <a:ext cx="2158920" cy="100800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55640" y="5516640"/>
              <a:ext cx="1440000" cy="9169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1258920" y="5516640"/>
            <a:ext cx="2160720" cy="1008000"/>
            <a:chOff x="1258920" y="5516640"/>
            <a:chExt cx="2160720" cy="1008000"/>
          </a:xfrm>
        </p:grpSpPr>
        <p:sp>
          <p:nvSpPr>
            <p:cNvPr id="705" name=""/>
            <p:cNvSpPr/>
            <p:nvPr/>
          </p:nvSpPr>
          <p:spPr>
            <a:xfrm>
              <a:off x="1258920" y="5516640"/>
              <a:ext cx="2160720" cy="100800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332000" y="5516640"/>
              <a:ext cx="71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"/>
          <p:cNvSpPr/>
          <p:nvPr/>
        </p:nvSpPr>
        <p:spPr>
          <a:xfrm>
            <a:off x="3924360" y="333360"/>
            <a:ext cx="22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443640" y="333360"/>
            <a:ext cx="22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1" dur="indefinite" restart="never" nodeType="tmRoot">
          <p:childTnLst>
            <p:seq>
              <p:cTn id="1942" dur="indefinite" nodeType="mainSeq">
                <p:childTnLst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0.00023 L 0.37813 0.00023 E">
                                      <p:cBhvr>
                                        <p:cTn id="1946" dur="2000" fill="hold"/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344 0.00023 L 0.59861 0.00023 E">
                                      <p:cBhvr>
                                        <p:cTn id="1950" dur="2000" fill="hold"/>
                                        <p:tgtEl>
                                          <p:spTgt spid="6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06 0.00023 L 0.37795 0.00023 E">
                                      <p:cBhvr>
                                        <p:cTn id="1954" dur="2000" fill="hold"/>
                                        <p:tgtEl>
                                          <p:spTgt spid="6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823 0.00023 L 0.59861 0.00023 E">
                                      <p:cBhvr>
                                        <p:cTn id="1958" dur="2000" fill="hold"/>
                                        <p:tgtEl>
                                          <p:spTgt spid="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-1.6763E-006 L 0.37813 -1.6763E-006 E">
                                      <p:cBhvr>
                                        <p:cTn id="1962" dur="2000" fill="hold"/>
                                        <p:tgtEl>
                                          <p:spTgt spid="6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319 -1.6763E-006 L 0.59878 -1.6763E-006 E">
                                      <p:cBhvr>
                                        <p:cTn id="1966" dur="2000" fill="hold"/>
                                        <p:tgtEl>
                                          <p:spTgt spid="6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722 -2.94798E-006 L 0.37795 -2.94798E-006 E">
                                      <p:cBhvr>
                                        <p:cTn id="1970" dur="2000" fill="hold"/>
                                        <p:tgtEl>
                                          <p:spTgt spid="6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-2.94798E-006 L 0.59861 -2.94798E-006 E">
                                      <p:cBhvr>
                                        <p:cTn id="1974" dur="2000" fill="hold"/>
                                        <p:tgtEl>
                                          <p:spTgt spid="6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41 0.00023 L 0.37795 0.00023 E">
                                      <p:cBhvr>
                                        <p:cTn id="1978" dur="2000" fill="hold"/>
                                        <p:tgtEl>
                                          <p:spTgt spid="7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21 0.00023 L 0.59861 0.00023 E">
                                      <p:cBhvr>
                                        <p:cTn id="1982" dur="2000" fill="hold"/>
                                        <p:tgtEl>
                                          <p:spTgt spid="7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panding a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39640" y="981000"/>
            <a:ext cx="158436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4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042920" y="98100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042920" y="981000"/>
            <a:ext cx="93528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539640" y="2133720"/>
            <a:ext cx="158436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8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042920" y="2133720"/>
            <a:ext cx="93528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539640" y="3284640"/>
            <a:ext cx="158436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5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042920" y="3284640"/>
            <a:ext cx="93528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539640" y="4437000"/>
            <a:ext cx="158436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7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1042920" y="4437000"/>
            <a:ext cx="93528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539640" y="5589720"/>
            <a:ext cx="158436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9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042920" y="5589720"/>
            <a:ext cx="93528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050920" y="1268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050920" y="2421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050920" y="3573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2050920" y="4797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2050920" y="5877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443640" y="105264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443640" y="220500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443640" y="335772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443640" y="465300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443640" y="566100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3" dur="indefinite" restart="never" nodeType="tmRoot">
          <p:childTnLst>
            <p:seq>
              <p:cTn id="1984" dur="indefinite" nodeType="mainSeq">
                <p:childTnLst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9711E-006 L 0.44878 -4.9711E-006 E">
                                      <p:cBhvr>
                                        <p:cTn id="1988" dur="2000" fill="hold"/>
                                        <p:tgtEl>
                                          <p:spTgt spid="7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1 -4.9711E-006 L 0.67344 -4.9711E-006 E">
                                      <p:cBhvr>
                                        <p:cTn id="1996" dur="2000" fill="hold"/>
                                        <p:tgtEl>
                                          <p:spTgt spid="7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3.75723E-006 L 0.44878 3.75723E-006 E">
                                      <p:cBhvr>
                                        <p:cTn id="2000" dur="2000" fill="hold"/>
                                        <p:tgtEl>
                                          <p:spTgt spid="7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1 3.75723E-006 L 0.67344 3.75723E-006 E">
                                      <p:cBhvr>
                                        <p:cTn id="2008" dur="2000" fill="hold"/>
                                        <p:tgtEl>
                                          <p:spTgt spid="7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0.00023 L 0.44878 0.00023 E">
                                      <p:cBhvr>
                                        <p:cTn id="2012" dur="2000" fill="hold"/>
                                        <p:tgtEl>
                                          <p:spTgt spid="7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1 0.00023 L 0.67344 0.00023 E">
                                      <p:cBhvr>
                                        <p:cTn id="2020" dur="2000" fill="hold"/>
                                        <p:tgtEl>
                                          <p:spTgt spid="7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0.00023 L 0.44878 0.00023 E">
                                      <p:cBhvr>
                                        <p:cTn id="2024" dur="2000" fill="hold"/>
                                        <p:tgtEl>
                                          <p:spTgt spid="7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fill="hold">
                      <p:stCondLst>
                        <p:cond delay="indefinite"/>
                      </p:stCondLst>
                      <p:childTnLst>
                        <p:par>
                          <p:cTn id="2026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1 0.00023 L 0.67344 0.00023 E">
                                      <p:cBhvr>
                                        <p:cTn id="2032" dur="2000" fill="hold"/>
                                        <p:tgtEl>
                                          <p:spTgt spid="7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1.15607E-006 L 0.44878 1.15607E-006 E">
                                      <p:cBhvr>
                                        <p:cTn id="2036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1 1.15607E-006 L 0.67344 1.15607E-006 E">
                                      <p:cBhvr>
                                        <p:cTn id="2044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idy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2" name=""/>
          <p:cNvGrpSpPr/>
          <p:nvPr/>
        </p:nvGrpSpPr>
        <p:grpSpPr>
          <a:xfrm>
            <a:off x="755640" y="765000"/>
            <a:ext cx="2160720" cy="703440"/>
            <a:chOff x="755640" y="765000"/>
            <a:chExt cx="2160720" cy="703440"/>
          </a:xfrm>
        </p:grpSpPr>
        <p:sp>
          <p:nvSpPr>
            <p:cNvPr id="733" name=""/>
            <p:cNvSpPr/>
            <p:nvPr/>
          </p:nvSpPr>
          <p:spPr>
            <a:xfrm>
              <a:off x="755640" y="98100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o tidy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124000" y="765000"/>
              <a:ext cx="79236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5" name=""/>
          <p:cNvSpPr/>
          <p:nvPr/>
        </p:nvSpPr>
        <p:spPr>
          <a:xfrm>
            <a:off x="7524720" y="765000"/>
            <a:ext cx="115092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6" name=""/>
          <p:cNvGrpSpPr/>
          <p:nvPr/>
        </p:nvGrpSpPr>
        <p:grpSpPr>
          <a:xfrm>
            <a:off x="3059280" y="765000"/>
            <a:ext cx="4176720" cy="703440"/>
            <a:chOff x="3059280" y="765000"/>
            <a:chExt cx="4176720" cy="703440"/>
          </a:xfrm>
        </p:grpSpPr>
        <p:sp>
          <p:nvSpPr>
            <p:cNvPr id="737" name=""/>
            <p:cNvSpPr/>
            <p:nvPr/>
          </p:nvSpPr>
          <p:spPr>
            <a:xfrm>
              <a:off x="3059280" y="98100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dd 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788000" y="765000"/>
              <a:ext cx="79200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724360" y="98100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..to make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755640" y="1773360"/>
            <a:ext cx="2160720" cy="703440"/>
            <a:chOff x="755640" y="1773360"/>
            <a:chExt cx="2160720" cy="703440"/>
          </a:xfrm>
        </p:grpSpPr>
        <p:sp>
          <p:nvSpPr>
            <p:cNvPr id="741" name=""/>
            <p:cNvSpPr/>
            <p:nvPr/>
          </p:nvSpPr>
          <p:spPr>
            <a:xfrm>
              <a:off x="755640" y="198900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o tidy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124000" y="1773360"/>
              <a:ext cx="79236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7524720" y="1773360"/>
            <a:ext cx="115092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3059280" y="1773360"/>
            <a:ext cx="4176720" cy="703440"/>
            <a:chOff x="3059280" y="1773360"/>
            <a:chExt cx="4176720" cy="703440"/>
          </a:xfrm>
        </p:grpSpPr>
        <p:sp>
          <p:nvSpPr>
            <p:cNvPr id="745" name=""/>
            <p:cNvSpPr/>
            <p:nvPr/>
          </p:nvSpPr>
          <p:spPr>
            <a:xfrm>
              <a:off x="3059280" y="198900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ake off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788000" y="1773360"/>
              <a:ext cx="79200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724360" y="198900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..to make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8" name=""/>
          <p:cNvGrpSpPr/>
          <p:nvPr/>
        </p:nvGrpSpPr>
        <p:grpSpPr>
          <a:xfrm>
            <a:off x="755640" y="2781360"/>
            <a:ext cx="2160720" cy="703440"/>
            <a:chOff x="755640" y="2781360"/>
            <a:chExt cx="2160720" cy="703440"/>
          </a:xfrm>
        </p:grpSpPr>
        <p:sp>
          <p:nvSpPr>
            <p:cNvPr id="749" name=""/>
            <p:cNvSpPr/>
            <p:nvPr/>
          </p:nvSpPr>
          <p:spPr>
            <a:xfrm>
              <a:off x="755640" y="29973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o tidy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124000" y="2781360"/>
              <a:ext cx="79236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9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7524720" y="2781360"/>
            <a:ext cx="115092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3059280" y="2781360"/>
            <a:ext cx="4176720" cy="703440"/>
            <a:chOff x="3059280" y="2781360"/>
            <a:chExt cx="4176720" cy="703440"/>
          </a:xfrm>
        </p:grpSpPr>
        <p:sp>
          <p:nvSpPr>
            <p:cNvPr id="753" name=""/>
            <p:cNvSpPr/>
            <p:nvPr/>
          </p:nvSpPr>
          <p:spPr>
            <a:xfrm>
              <a:off x="3059280" y="299736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dd 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788000" y="2781360"/>
              <a:ext cx="79200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724360" y="299736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..to make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755640" y="3789360"/>
            <a:ext cx="2160720" cy="703440"/>
            <a:chOff x="755640" y="3789360"/>
            <a:chExt cx="2160720" cy="703440"/>
          </a:xfrm>
        </p:grpSpPr>
        <p:sp>
          <p:nvSpPr>
            <p:cNvPr id="757" name=""/>
            <p:cNvSpPr/>
            <p:nvPr/>
          </p:nvSpPr>
          <p:spPr>
            <a:xfrm>
              <a:off x="755640" y="40053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o tidy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2124000" y="3789360"/>
              <a:ext cx="79236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7524720" y="3789360"/>
            <a:ext cx="115092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59280" y="3789360"/>
            <a:ext cx="4176720" cy="703440"/>
            <a:chOff x="3059280" y="3789360"/>
            <a:chExt cx="4176720" cy="703440"/>
          </a:xfrm>
        </p:grpSpPr>
        <p:sp>
          <p:nvSpPr>
            <p:cNvPr id="761" name=""/>
            <p:cNvSpPr/>
            <p:nvPr/>
          </p:nvSpPr>
          <p:spPr>
            <a:xfrm>
              <a:off x="3059280" y="400536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ake off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88000" y="3789360"/>
              <a:ext cx="79200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5724360" y="400536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..to make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755640" y="4797360"/>
            <a:ext cx="2160720" cy="703440"/>
            <a:chOff x="755640" y="4797360"/>
            <a:chExt cx="2160720" cy="703440"/>
          </a:xfrm>
        </p:grpSpPr>
        <p:sp>
          <p:nvSpPr>
            <p:cNvPr id="765" name=""/>
            <p:cNvSpPr/>
            <p:nvPr/>
          </p:nvSpPr>
          <p:spPr>
            <a:xfrm>
              <a:off x="755640" y="50133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o tidy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124000" y="4797360"/>
              <a:ext cx="79236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78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"/>
          <p:cNvSpPr/>
          <p:nvPr/>
        </p:nvSpPr>
        <p:spPr>
          <a:xfrm>
            <a:off x="7524720" y="4797360"/>
            <a:ext cx="115092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8" name=""/>
          <p:cNvGrpSpPr/>
          <p:nvPr/>
        </p:nvGrpSpPr>
        <p:grpSpPr>
          <a:xfrm>
            <a:off x="3059280" y="4797360"/>
            <a:ext cx="4176720" cy="703440"/>
            <a:chOff x="3059280" y="4797360"/>
            <a:chExt cx="4176720" cy="703440"/>
          </a:xfrm>
        </p:grpSpPr>
        <p:sp>
          <p:nvSpPr>
            <p:cNvPr id="769" name=""/>
            <p:cNvSpPr/>
            <p:nvPr/>
          </p:nvSpPr>
          <p:spPr>
            <a:xfrm>
              <a:off x="3059280" y="501336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……</a:t>
              </a: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add 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788000" y="4797360"/>
              <a:ext cx="79200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24360" y="501336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..to make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755640" y="5805360"/>
            <a:ext cx="2160720" cy="703440"/>
            <a:chOff x="755640" y="5805360"/>
            <a:chExt cx="2160720" cy="703440"/>
          </a:xfrm>
        </p:grpSpPr>
        <p:sp>
          <p:nvSpPr>
            <p:cNvPr id="773" name=""/>
            <p:cNvSpPr/>
            <p:nvPr/>
          </p:nvSpPr>
          <p:spPr>
            <a:xfrm>
              <a:off x="755640" y="6021360"/>
              <a:ext cx="1440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o tidy….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124000" y="5805360"/>
              <a:ext cx="79236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8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7524720" y="5805360"/>
            <a:ext cx="115092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3059280" y="5805360"/>
            <a:ext cx="4176720" cy="703440"/>
            <a:chOff x="3059280" y="5805360"/>
            <a:chExt cx="4176720" cy="703440"/>
          </a:xfrm>
        </p:grpSpPr>
        <p:sp>
          <p:nvSpPr>
            <p:cNvPr id="777" name=""/>
            <p:cNvSpPr/>
            <p:nvPr/>
          </p:nvSpPr>
          <p:spPr>
            <a:xfrm>
              <a:off x="3059280" y="6021360"/>
              <a:ext cx="151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ake off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788000" y="5805360"/>
              <a:ext cx="792000" cy="70344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4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5724360" y="6021360"/>
              <a:ext cx="151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..to make….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5" dur="indefinite" restart="never" nodeType="tmRoot">
          <p:childTnLst>
            <p:seq>
              <p:cTn id="2046" dur="indefinite" nodeType="mainSeq">
                <p:childTnLst>
                  <p:par>
                    <p:cTn id="2047" fill="hold">
                      <p:stCondLst>
                        <p:cond delay="indefinite"/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5" fill="hold">
                      <p:stCondLst>
                        <p:cond delay="indefinite"/>
                      </p:stCondLst>
                      <p:childTnLst>
                        <p:par>
                          <p:cTn id="2056" fill="hold">
                            <p:stCondLst>
                              <p:cond delay="0"/>
                            </p:stCondLst>
                            <p:childTnLst>
                              <p:par>
                                <p:cTn id="2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1" fill="hold">
                      <p:stCondLst>
                        <p:cond delay="indefinite"/>
                      </p:stCondLst>
                      <p:childTnLst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5" fill="hold">
                      <p:stCondLst>
                        <p:cond delay="indefinite"/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9" fill="hold">
                      <p:stCondLst>
                        <p:cond delay="indefinite"/>
                      </p:stCondLst>
                      <p:childTnLst>
                        <p:par>
                          <p:cTn id="2100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3" fill="hold">
                      <p:stCondLst>
                        <p:cond delay="indefinite"/>
                      </p:stCondLst>
                      <p:childTnLst>
                        <p:par>
                          <p:cTn id="2104" fill="hold">
                            <p:stCondLst>
                              <p:cond delay="0"/>
                            </p:stCondLst>
                            <p:childTnLst>
                              <p:par>
                                <p:cTn id="2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ransfers from number to number to tidy numbers when A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1" name=""/>
          <p:cNvGrpSpPr/>
          <p:nvPr/>
        </p:nvGrpSpPr>
        <p:grpSpPr>
          <a:xfrm>
            <a:off x="179280" y="1052640"/>
            <a:ext cx="1584360" cy="581400"/>
            <a:chOff x="179280" y="1052640"/>
            <a:chExt cx="1584360" cy="581400"/>
          </a:xfrm>
        </p:grpSpPr>
        <p:sp>
          <p:nvSpPr>
            <p:cNvPr id="782" name=""/>
            <p:cNvSpPr/>
            <p:nvPr/>
          </p:nvSpPr>
          <p:spPr>
            <a:xfrm>
              <a:off x="179280" y="105264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826920" y="1125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116000" y="105264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5" name=""/>
          <p:cNvGrpSpPr/>
          <p:nvPr/>
        </p:nvGrpSpPr>
        <p:grpSpPr>
          <a:xfrm>
            <a:off x="1763640" y="1052640"/>
            <a:ext cx="1584360" cy="581400"/>
            <a:chOff x="1763640" y="1052640"/>
            <a:chExt cx="1584360" cy="581400"/>
          </a:xfrm>
        </p:grpSpPr>
        <p:sp>
          <p:nvSpPr>
            <p:cNvPr id="786" name=""/>
            <p:cNvSpPr/>
            <p:nvPr/>
          </p:nvSpPr>
          <p:spPr>
            <a:xfrm>
              <a:off x="1763640" y="1125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124000" y="1197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id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700360" y="105264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9" name=""/>
          <p:cNvGrpSpPr/>
          <p:nvPr/>
        </p:nvGrpSpPr>
        <p:grpSpPr>
          <a:xfrm>
            <a:off x="3348000" y="1052640"/>
            <a:ext cx="2664000" cy="581400"/>
            <a:chOff x="3348000" y="1052640"/>
            <a:chExt cx="2664000" cy="581400"/>
          </a:xfrm>
        </p:grpSpPr>
        <p:sp>
          <p:nvSpPr>
            <p:cNvPr id="790" name=""/>
            <p:cNvSpPr/>
            <p:nvPr/>
          </p:nvSpPr>
          <p:spPr>
            <a:xfrm>
              <a:off x="3348000" y="119700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by ta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27640" y="1052640"/>
              <a:ext cx="431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859280" y="11970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292720" y="1052640"/>
              <a:ext cx="71928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4" name=""/>
          <p:cNvGrpSpPr/>
          <p:nvPr/>
        </p:nvGrpSpPr>
        <p:grpSpPr>
          <a:xfrm>
            <a:off x="5940360" y="1052640"/>
            <a:ext cx="1943280" cy="581400"/>
            <a:chOff x="5940360" y="1052640"/>
            <a:chExt cx="1943280" cy="581400"/>
          </a:xfrm>
        </p:grpSpPr>
        <p:sp>
          <p:nvSpPr>
            <p:cNvPr id="795" name=""/>
            <p:cNvSpPr/>
            <p:nvPr/>
          </p:nvSpPr>
          <p:spPr>
            <a:xfrm>
              <a:off x="5940360" y="11253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372360" y="1052640"/>
              <a:ext cx="647640" cy="5814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948360" y="1125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36000" y="1052640"/>
              <a:ext cx="647640" cy="5814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7812000" y="1052640"/>
            <a:ext cx="1152720" cy="581400"/>
            <a:chOff x="7812000" y="1052640"/>
            <a:chExt cx="1152720" cy="581400"/>
          </a:xfrm>
        </p:grpSpPr>
        <p:sp>
          <p:nvSpPr>
            <p:cNvPr id="800" name=""/>
            <p:cNvSpPr/>
            <p:nvPr/>
          </p:nvSpPr>
          <p:spPr>
            <a:xfrm>
              <a:off x="8317080" y="1052640"/>
              <a:ext cx="647640" cy="581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812000" y="11253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179280" y="1989000"/>
            <a:ext cx="1584360" cy="581400"/>
            <a:chOff x="179280" y="1989000"/>
            <a:chExt cx="1584360" cy="581400"/>
          </a:xfrm>
        </p:grpSpPr>
        <p:sp>
          <p:nvSpPr>
            <p:cNvPr id="803" name=""/>
            <p:cNvSpPr/>
            <p:nvPr/>
          </p:nvSpPr>
          <p:spPr>
            <a:xfrm>
              <a:off x="179280" y="198900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26920" y="2062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116000" y="198900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" name=""/>
          <p:cNvGrpSpPr/>
          <p:nvPr/>
        </p:nvGrpSpPr>
        <p:grpSpPr>
          <a:xfrm>
            <a:off x="1763640" y="1989000"/>
            <a:ext cx="1584360" cy="581400"/>
            <a:chOff x="1763640" y="1989000"/>
            <a:chExt cx="1584360" cy="581400"/>
          </a:xfrm>
        </p:grpSpPr>
        <p:sp>
          <p:nvSpPr>
            <p:cNvPr id="807" name=""/>
            <p:cNvSpPr/>
            <p:nvPr/>
          </p:nvSpPr>
          <p:spPr>
            <a:xfrm>
              <a:off x="1763640" y="206208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124000" y="2133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id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700360" y="198900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"/>
          <p:cNvGrpSpPr/>
          <p:nvPr/>
        </p:nvGrpSpPr>
        <p:grpSpPr>
          <a:xfrm>
            <a:off x="3348000" y="1989000"/>
            <a:ext cx="2664000" cy="581400"/>
            <a:chOff x="3348000" y="1989000"/>
            <a:chExt cx="2664000" cy="581400"/>
          </a:xfrm>
        </p:grpSpPr>
        <p:sp>
          <p:nvSpPr>
            <p:cNvPr id="811" name=""/>
            <p:cNvSpPr/>
            <p:nvPr/>
          </p:nvSpPr>
          <p:spPr>
            <a:xfrm>
              <a:off x="3348000" y="21337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by ta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427640" y="1989000"/>
              <a:ext cx="431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859280" y="2133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292720" y="1989000"/>
              <a:ext cx="71928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5" name=""/>
          <p:cNvGrpSpPr/>
          <p:nvPr/>
        </p:nvGrpSpPr>
        <p:grpSpPr>
          <a:xfrm>
            <a:off x="5940360" y="1989000"/>
            <a:ext cx="1943280" cy="581400"/>
            <a:chOff x="5940360" y="1989000"/>
            <a:chExt cx="1943280" cy="581400"/>
          </a:xfrm>
        </p:grpSpPr>
        <p:sp>
          <p:nvSpPr>
            <p:cNvPr id="816" name=""/>
            <p:cNvSpPr/>
            <p:nvPr/>
          </p:nvSpPr>
          <p:spPr>
            <a:xfrm>
              <a:off x="5940360" y="20620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372360" y="1989000"/>
              <a:ext cx="647640" cy="5814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948360" y="206208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36000" y="1989000"/>
              <a:ext cx="647640" cy="5814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7812000" y="1989000"/>
            <a:ext cx="1152720" cy="581400"/>
            <a:chOff x="7812000" y="1989000"/>
            <a:chExt cx="1152720" cy="581400"/>
          </a:xfrm>
        </p:grpSpPr>
        <p:sp>
          <p:nvSpPr>
            <p:cNvPr id="821" name=""/>
            <p:cNvSpPr/>
            <p:nvPr/>
          </p:nvSpPr>
          <p:spPr>
            <a:xfrm>
              <a:off x="8317080" y="1989000"/>
              <a:ext cx="647640" cy="581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7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812000" y="20620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3" name=""/>
          <p:cNvGrpSpPr/>
          <p:nvPr/>
        </p:nvGrpSpPr>
        <p:grpSpPr>
          <a:xfrm>
            <a:off x="179280" y="2924280"/>
            <a:ext cx="1584360" cy="581400"/>
            <a:chOff x="179280" y="2924280"/>
            <a:chExt cx="1584360" cy="581400"/>
          </a:xfrm>
        </p:grpSpPr>
        <p:sp>
          <p:nvSpPr>
            <p:cNvPr id="824" name=""/>
            <p:cNvSpPr/>
            <p:nvPr/>
          </p:nvSpPr>
          <p:spPr>
            <a:xfrm>
              <a:off x="179280" y="292428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26920" y="299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1116000" y="292428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7" name=""/>
          <p:cNvGrpSpPr/>
          <p:nvPr/>
        </p:nvGrpSpPr>
        <p:grpSpPr>
          <a:xfrm>
            <a:off x="1763640" y="2924280"/>
            <a:ext cx="1584360" cy="581400"/>
            <a:chOff x="1763640" y="2924280"/>
            <a:chExt cx="1584360" cy="581400"/>
          </a:xfrm>
        </p:grpSpPr>
        <p:sp>
          <p:nvSpPr>
            <p:cNvPr id="828" name=""/>
            <p:cNvSpPr/>
            <p:nvPr/>
          </p:nvSpPr>
          <p:spPr>
            <a:xfrm>
              <a:off x="1763640" y="2997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124000" y="30686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id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700360" y="292428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1" name=""/>
          <p:cNvGrpSpPr/>
          <p:nvPr/>
        </p:nvGrpSpPr>
        <p:grpSpPr>
          <a:xfrm>
            <a:off x="3348000" y="2924280"/>
            <a:ext cx="2664000" cy="581400"/>
            <a:chOff x="3348000" y="2924280"/>
            <a:chExt cx="2664000" cy="581400"/>
          </a:xfrm>
        </p:grpSpPr>
        <p:sp>
          <p:nvSpPr>
            <p:cNvPr id="832" name=""/>
            <p:cNvSpPr/>
            <p:nvPr/>
          </p:nvSpPr>
          <p:spPr>
            <a:xfrm>
              <a:off x="3348000" y="306864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by ta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427640" y="2924280"/>
              <a:ext cx="431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4859280" y="3068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292720" y="2924280"/>
              <a:ext cx="71928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5940360" y="2924280"/>
            <a:ext cx="1943280" cy="581400"/>
            <a:chOff x="5940360" y="2924280"/>
            <a:chExt cx="1943280" cy="581400"/>
          </a:xfrm>
        </p:grpSpPr>
        <p:sp>
          <p:nvSpPr>
            <p:cNvPr id="837" name=""/>
            <p:cNvSpPr/>
            <p:nvPr/>
          </p:nvSpPr>
          <p:spPr>
            <a:xfrm>
              <a:off x="5940360" y="29973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372360" y="2924280"/>
              <a:ext cx="647640" cy="5814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948360" y="2997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36000" y="2924280"/>
              <a:ext cx="647640" cy="5814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7812000" y="2924280"/>
            <a:ext cx="1152720" cy="581400"/>
            <a:chOff x="7812000" y="2924280"/>
            <a:chExt cx="1152720" cy="581400"/>
          </a:xfrm>
        </p:grpSpPr>
        <p:sp>
          <p:nvSpPr>
            <p:cNvPr id="842" name=""/>
            <p:cNvSpPr/>
            <p:nvPr/>
          </p:nvSpPr>
          <p:spPr>
            <a:xfrm>
              <a:off x="8317080" y="2924280"/>
              <a:ext cx="647640" cy="581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9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812000" y="29973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179280" y="3860640"/>
            <a:ext cx="1584360" cy="581400"/>
            <a:chOff x="179280" y="3860640"/>
            <a:chExt cx="1584360" cy="581400"/>
          </a:xfrm>
        </p:grpSpPr>
        <p:sp>
          <p:nvSpPr>
            <p:cNvPr id="845" name=""/>
            <p:cNvSpPr/>
            <p:nvPr/>
          </p:nvSpPr>
          <p:spPr>
            <a:xfrm>
              <a:off x="179280" y="386064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26920" y="3933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1116000" y="386064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1763640" y="3860640"/>
            <a:ext cx="1584360" cy="581400"/>
            <a:chOff x="1763640" y="3860640"/>
            <a:chExt cx="1584360" cy="581400"/>
          </a:xfrm>
        </p:grpSpPr>
        <p:sp>
          <p:nvSpPr>
            <p:cNvPr id="849" name=""/>
            <p:cNvSpPr/>
            <p:nvPr/>
          </p:nvSpPr>
          <p:spPr>
            <a:xfrm>
              <a:off x="1763640" y="393372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124000" y="400536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id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700360" y="386064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2" name=""/>
          <p:cNvGrpSpPr/>
          <p:nvPr/>
        </p:nvGrpSpPr>
        <p:grpSpPr>
          <a:xfrm>
            <a:off x="3348000" y="3860640"/>
            <a:ext cx="2664000" cy="581400"/>
            <a:chOff x="3348000" y="3860640"/>
            <a:chExt cx="2664000" cy="581400"/>
          </a:xfrm>
        </p:grpSpPr>
        <p:sp>
          <p:nvSpPr>
            <p:cNvPr id="853" name=""/>
            <p:cNvSpPr/>
            <p:nvPr/>
          </p:nvSpPr>
          <p:spPr>
            <a:xfrm>
              <a:off x="3348000" y="400536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by ta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427640" y="3860640"/>
              <a:ext cx="431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859280" y="400536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292720" y="3860640"/>
              <a:ext cx="71928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5940360" y="3860640"/>
            <a:ext cx="1943280" cy="581400"/>
            <a:chOff x="5940360" y="3860640"/>
            <a:chExt cx="1943280" cy="581400"/>
          </a:xfrm>
        </p:grpSpPr>
        <p:sp>
          <p:nvSpPr>
            <p:cNvPr id="858" name=""/>
            <p:cNvSpPr/>
            <p:nvPr/>
          </p:nvSpPr>
          <p:spPr>
            <a:xfrm>
              <a:off x="5940360" y="39337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372360" y="3860640"/>
              <a:ext cx="647640" cy="5814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948360" y="393372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7236000" y="3860640"/>
              <a:ext cx="647640" cy="5814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7812000" y="3860640"/>
            <a:ext cx="1152720" cy="581400"/>
            <a:chOff x="7812000" y="3860640"/>
            <a:chExt cx="1152720" cy="581400"/>
          </a:xfrm>
        </p:grpSpPr>
        <p:sp>
          <p:nvSpPr>
            <p:cNvPr id="863" name=""/>
            <p:cNvSpPr/>
            <p:nvPr/>
          </p:nvSpPr>
          <p:spPr>
            <a:xfrm>
              <a:off x="8317080" y="3860640"/>
              <a:ext cx="647640" cy="581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812000" y="393372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"/>
          <p:cNvGrpSpPr/>
          <p:nvPr/>
        </p:nvGrpSpPr>
        <p:grpSpPr>
          <a:xfrm>
            <a:off x="179280" y="4797360"/>
            <a:ext cx="1584360" cy="581400"/>
            <a:chOff x="179280" y="4797360"/>
            <a:chExt cx="1584360" cy="581400"/>
          </a:xfrm>
        </p:grpSpPr>
        <p:sp>
          <p:nvSpPr>
            <p:cNvPr id="866" name=""/>
            <p:cNvSpPr/>
            <p:nvPr/>
          </p:nvSpPr>
          <p:spPr>
            <a:xfrm>
              <a:off x="179280" y="479736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6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826920" y="4870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116000" y="479736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9" name=""/>
          <p:cNvGrpSpPr/>
          <p:nvPr/>
        </p:nvGrpSpPr>
        <p:grpSpPr>
          <a:xfrm>
            <a:off x="1763640" y="4797360"/>
            <a:ext cx="1584360" cy="581400"/>
            <a:chOff x="1763640" y="4797360"/>
            <a:chExt cx="1584360" cy="581400"/>
          </a:xfrm>
        </p:grpSpPr>
        <p:sp>
          <p:nvSpPr>
            <p:cNvPr id="870" name=""/>
            <p:cNvSpPr/>
            <p:nvPr/>
          </p:nvSpPr>
          <p:spPr>
            <a:xfrm>
              <a:off x="1763640" y="487044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124000" y="494172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id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00360" y="479736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69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3" name=""/>
          <p:cNvGrpSpPr/>
          <p:nvPr/>
        </p:nvGrpSpPr>
        <p:grpSpPr>
          <a:xfrm>
            <a:off x="3348000" y="4797360"/>
            <a:ext cx="2664000" cy="581400"/>
            <a:chOff x="3348000" y="4797360"/>
            <a:chExt cx="2664000" cy="581400"/>
          </a:xfrm>
        </p:grpSpPr>
        <p:sp>
          <p:nvSpPr>
            <p:cNvPr id="874" name=""/>
            <p:cNvSpPr/>
            <p:nvPr/>
          </p:nvSpPr>
          <p:spPr>
            <a:xfrm>
              <a:off x="3348000" y="494172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by ta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427640" y="4797360"/>
              <a:ext cx="431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859280" y="494172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292720" y="4797360"/>
              <a:ext cx="71928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5940360" y="4797360"/>
            <a:ext cx="1943280" cy="581400"/>
            <a:chOff x="5940360" y="4797360"/>
            <a:chExt cx="1943280" cy="581400"/>
          </a:xfrm>
        </p:grpSpPr>
        <p:sp>
          <p:nvSpPr>
            <p:cNvPr id="879" name=""/>
            <p:cNvSpPr/>
            <p:nvPr/>
          </p:nvSpPr>
          <p:spPr>
            <a:xfrm>
              <a:off x="5940360" y="48704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372360" y="4797360"/>
              <a:ext cx="647640" cy="5814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48360" y="487044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236000" y="4797360"/>
              <a:ext cx="647640" cy="5814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3" name=""/>
          <p:cNvGrpSpPr/>
          <p:nvPr/>
        </p:nvGrpSpPr>
        <p:grpSpPr>
          <a:xfrm>
            <a:off x="7812000" y="4797360"/>
            <a:ext cx="1152720" cy="581400"/>
            <a:chOff x="7812000" y="4797360"/>
            <a:chExt cx="1152720" cy="581400"/>
          </a:xfrm>
        </p:grpSpPr>
        <p:sp>
          <p:nvSpPr>
            <p:cNvPr id="884" name=""/>
            <p:cNvSpPr/>
            <p:nvPr/>
          </p:nvSpPr>
          <p:spPr>
            <a:xfrm>
              <a:off x="8317080" y="4797360"/>
              <a:ext cx="647640" cy="581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9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812000" y="48704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6" name=""/>
          <p:cNvGrpSpPr/>
          <p:nvPr/>
        </p:nvGrpSpPr>
        <p:grpSpPr>
          <a:xfrm>
            <a:off x="179280" y="5732640"/>
            <a:ext cx="1584360" cy="581400"/>
            <a:chOff x="179280" y="5732640"/>
            <a:chExt cx="1584360" cy="581400"/>
          </a:xfrm>
        </p:grpSpPr>
        <p:sp>
          <p:nvSpPr>
            <p:cNvPr id="887" name=""/>
            <p:cNvSpPr/>
            <p:nvPr/>
          </p:nvSpPr>
          <p:spPr>
            <a:xfrm>
              <a:off x="179280" y="573264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826920" y="5805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1116000" y="573264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1763640" y="5732640"/>
            <a:ext cx="1584360" cy="581400"/>
            <a:chOff x="1763640" y="5732640"/>
            <a:chExt cx="1584360" cy="581400"/>
          </a:xfrm>
        </p:grpSpPr>
        <p:sp>
          <p:nvSpPr>
            <p:cNvPr id="891" name=""/>
            <p:cNvSpPr/>
            <p:nvPr/>
          </p:nvSpPr>
          <p:spPr>
            <a:xfrm>
              <a:off x="1763640" y="5805360"/>
              <a:ext cx="50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124000" y="587700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Tidy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700360" y="5732640"/>
              <a:ext cx="647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3348000" y="5732640"/>
            <a:ext cx="2664000" cy="581400"/>
            <a:chOff x="3348000" y="5732640"/>
            <a:chExt cx="2664000" cy="581400"/>
          </a:xfrm>
        </p:grpSpPr>
        <p:sp>
          <p:nvSpPr>
            <p:cNvPr id="895" name=""/>
            <p:cNvSpPr/>
            <p:nvPr/>
          </p:nvSpPr>
          <p:spPr>
            <a:xfrm>
              <a:off x="3348000" y="5877000"/>
              <a:ext cx="115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by ta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427640" y="5732640"/>
              <a:ext cx="43164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859280" y="587700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18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292720" y="5732640"/>
              <a:ext cx="719280" cy="581400"/>
            </a:xfrm>
            <a:prstGeom prst="rect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5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9" name=""/>
          <p:cNvGrpSpPr/>
          <p:nvPr/>
        </p:nvGrpSpPr>
        <p:grpSpPr>
          <a:xfrm>
            <a:off x="5940360" y="5732640"/>
            <a:ext cx="1943280" cy="581400"/>
            <a:chOff x="5940360" y="5732640"/>
            <a:chExt cx="1943280" cy="581400"/>
          </a:xfrm>
        </p:grpSpPr>
        <p:sp>
          <p:nvSpPr>
            <p:cNvPr id="900" name=""/>
            <p:cNvSpPr/>
            <p:nvPr/>
          </p:nvSpPr>
          <p:spPr>
            <a:xfrm>
              <a:off x="5940360" y="58053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372360" y="5732640"/>
              <a:ext cx="647640" cy="5814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5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6948360" y="5805360"/>
              <a:ext cx="36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236000" y="5732640"/>
              <a:ext cx="647640" cy="581400"/>
            </a:xfrm>
            <a:prstGeom prst="rect">
              <a:avLst/>
            </a:prstGeom>
            <a:solidFill>
              <a:srgbClr val="66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4" name=""/>
          <p:cNvGrpSpPr/>
          <p:nvPr/>
        </p:nvGrpSpPr>
        <p:grpSpPr>
          <a:xfrm>
            <a:off x="7812000" y="5732640"/>
            <a:ext cx="1152720" cy="581400"/>
            <a:chOff x="7812000" y="5732640"/>
            <a:chExt cx="1152720" cy="581400"/>
          </a:xfrm>
        </p:grpSpPr>
        <p:sp>
          <p:nvSpPr>
            <p:cNvPr id="905" name=""/>
            <p:cNvSpPr/>
            <p:nvPr/>
          </p:nvSpPr>
          <p:spPr>
            <a:xfrm>
              <a:off x="8317080" y="5732640"/>
              <a:ext cx="647640" cy="58140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91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812000" y="58053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9" dur="indefinite" restart="never" nodeType="tmRoot">
          <p:childTnLst>
            <p:seq>
              <p:cTn id="2120" dur="indefinite" nodeType="mainSeq">
                <p:childTnLst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9" fill="hold">
                      <p:stCondLst>
                        <p:cond delay="indefinite"/>
                      </p:stCondLst>
                      <p:childTnLst>
                        <p:par>
                          <p:cTn id="2130" fill="hold">
                            <p:stCondLst>
                              <p:cond delay="0"/>
                            </p:stCondLst>
                            <p:childTnLst>
                              <p:par>
                                <p:cTn id="2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3" fill="hold">
                      <p:stCondLst>
                        <p:cond delay="indefinite"/>
                      </p:stCondLst>
                      <p:childTnLst>
                        <p:par>
                          <p:cTn id="2134" fill="hold">
                            <p:stCondLst>
                              <p:cond delay="0"/>
                            </p:stCondLst>
                            <p:childTnLst>
                              <p:par>
                                <p:cTn id="2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9" fill="hold">
                      <p:stCondLst>
                        <p:cond delay="indefinite"/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1" fill="hold">
                      <p:stCondLst>
                        <p:cond delay="indefinite"/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7" fill="hold">
                      <p:stCondLst>
                        <p:cond delay="indefinite"/>
                      </p:stCondLst>
                      <p:childTnLst>
                        <p:par>
                          <p:cTn id="2238" fill="hold">
                            <p:stCondLst>
                              <p:cond delay="0"/>
                            </p:stCondLst>
                            <p:childTnLst>
                              <p:par>
                                <p:cTn id="2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3851280" y="1052640"/>
            <a:ext cx="647640" cy="581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4500720" y="112536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also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5364000" y="1052640"/>
            <a:ext cx="719280" cy="581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6012000" y="112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443640" y="105264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7020000" y="1125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7307280" y="105264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7812000" y="1052640"/>
            <a:ext cx="1152720" cy="581400"/>
            <a:chOff x="7812000" y="1052640"/>
            <a:chExt cx="1152720" cy="581400"/>
          </a:xfrm>
        </p:grpSpPr>
        <p:sp>
          <p:nvSpPr>
            <p:cNvPr id="915" name=""/>
            <p:cNvSpPr/>
            <p:nvPr/>
          </p:nvSpPr>
          <p:spPr>
            <a:xfrm>
              <a:off x="8317080" y="1052640"/>
              <a:ext cx="647640" cy="5814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812000" y="11253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4211640" y="836640"/>
            <a:ext cx="2591640" cy="288720"/>
            <a:chOff x="4211640" y="836640"/>
            <a:chExt cx="2591640" cy="288720"/>
          </a:xfrm>
        </p:grpSpPr>
        <p:grpSp>
          <p:nvGrpSpPr>
            <p:cNvPr id="918" name=""/>
            <p:cNvGrpSpPr/>
            <p:nvPr/>
          </p:nvGrpSpPr>
          <p:grpSpPr>
            <a:xfrm>
              <a:off x="4211640" y="836640"/>
              <a:ext cx="2591640" cy="288720"/>
              <a:chOff x="4211640" y="836640"/>
              <a:chExt cx="2591640" cy="288720"/>
            </a:xfrm>
          </p:grpSpPr>
          <p:sp>
            <p:nvSpPr>
              <p:cNvPr id="919" name=""/>
              <p:cNvSpPr/>
              <p:nvPr/>
            </p:nvSpPr>
            <p:spPr>
              <a:xfrm flipV="1">
                <a:off x="4211640" y="83664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211640" y="836640"/>
                <a:ext cx="25916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6803280" y="836640"/>
                <a:ext cx="0" cy="288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2" name=""/>
            <p:cNvSpPr/>
            <p:nvPr/>
          </p:nvSpPr>
          <p:spPr>
            <a:xfrm>
              <a:off x="5724360" y="83664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3059280" y="1628640"/>
            <a:ext cx="4608000" cy="216000"/>
            <a:chOff x="3059280" y="1628640"/>
            <a:chExt cx="4608000" cy="216000"/>
          </a:xfrm>
        </p:grpSpPr>
        <p:grpSp>
          <p:nvGrpSpPr>
            <p:cNvPr id="924" name=""/>
            <p:cNvGrpSpPr/>
            <p:nvPr/>
          </p:nvGrpSpPr>
          <p:grpSpPr>
            <a:xfrm>
              <a:off x="3059280" y="1628640"/>
              <a:ext cx="4608000" cy="216000"/>
              <a:chOff x="3059280" y="1628640"/>
              <a:chExt cx="4608000" cy="216000"/>
            </a:xfrm>
          </p:grpSpPr>
          <p:sp>
            <p:nvSpPr>
              <p:cNvPr id="925" name=""/>
              <p:cNvSpPr/>
              <p:nvPr/>
            </p:nvSpPr>
            <p:spPr>
              <a:xfrm>
                <a:off x="3059280" y="162864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059280" y="1844640"/>
                <a:ext cx="4608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7667280" y="162864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8" name=""/>
            <p:cNvSpPr/>
            <p:nvPr/>
          </p:nvSpPr>
          <p:spPr>
            <a:xfrm>
              <a:off x="4211640" y="162864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9" name=""/>
          <p:cNvSpPr/>
          <p:nvPr/>
        </p:nvSpPr>
        <p:spPr>
          <a:xfrm>
            <a:off x="3348000" y="1197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179280" y="1052640"/>
            <a:ext cx="6494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826920" y="981000"/>
            <a:ext cx="2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1116000" y="105264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1692360" y="1125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2124000" y="1197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i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2700360" y="105264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3851280" y="2565360"/>
            <a:ext cx="647640" cy="581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4500720" y="263844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also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5364000" y="2565360"/>
            <a:ext cx="719280" cy="581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6012000" y="2638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6443640" y="256536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7020000" y="26384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7307280" y="256536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"/>
          <p:cNvGrpSpPr/>
          <p:nvPr/>
        </p:nvGrpSpPr>
        <p:grpSpPr>
          <a:xfrm>
            <a:off x="7812000" y="2565360"/>
            <a:ext cx="1152720" cy="581400"/>
            <a:chOff x="7812000" y="2565360"/>
            <a:chExt cx="1152720" cy="581400"/>
          </a:xfrm>
        </p:grpSpPr>
        <p:sp>
          <p:nvSpPr>
            <p:cNvPr id="944" name=""/>
            <p:cNvSpPr/>
            <p:nvPr/>
          </p:nvSpPr>
          <p:spPr>
            <a:xfrm>
              <a:off x="8317080" y="2565360"/>
              <a:ext cx="647640" cy="5814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812000" y="263808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6" name=""/>
          <p:cNvGrpSpPr/>
          <p:nvPr/>
        </p:nvGrpSpPr>
        <p:grpSpPr>
          <a:xfrm>
            <a:off x="4211640" y="2349360"/>
            <a:ext cx="2591640" cy="288720"/>
            <a:chOff x="4211640" y="2349360"/>
            <a:chExt cx="2591640" cy="288720"/>
          </a:xfrm>
        </p:grpSpPr>
        <p:grpSp>
          <p:nvGrpSpPr>
            <p:cNvPr id="947" name=""/>
            <p:cNvGrpSpPr/>
            <p:nvPr/>
          </p:nvGrpSpPr>
          <p:grpSpPr>
            <a:xfrm>
              <a:off x="4211640" y="2349360"/>
              <a:ext cx="2591640" cy="288720"/>
              <a:chOff x="4211640" y="2349360"/>
              <a:chExt cx="2591640" cy="288720"/>
            </a:xfrm>
          </p:grpSpPr>
          <p:sp>
            <p:nvSpPr>
              <p:cNvPr id="948" name=""/>
              <p:cNvSpPr/>
              <p:nvPr/>
            </p:nvSpPr>
            <p:spPr>
              <a:xfrm flipV="1">
                <a:off x="4211640" y="234936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4211640" y="2349360"/>
                <a:ext cx="25916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803280" y="2349360"/>
                <a:ext cx="0" cy="288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1" name=""/>
            <p:cNvSpPr/>
            <p:nvPr/>
          </p:nvSpPr>
          <p:spPr>
            <a:xfrm>
              <a:off x="5724360" y="234936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2" name=""/>
          <p:cNvGrpSpPr/>
          <p:nvPr/>
        </p:nvGrpSpPr>
        <p:grpSpPr>
          <a:xfrm>
            <a:off x="3059280" y="3141720"/>
            <a:ext cx="4608000" cy="216000"/>
            <a:chOff x="3059280" y="3141720"/>
            <a:chExt cx="4608000" cy="216000"/>
          </a:xfrm>
        </p:grpSpPr>
        <p:grpSp>
          <p:nvGrpSpPr>
            <p:cNvPr id="953" name=""/>
            <p:cNvGrpSpPr/>
            <p:nvPr/>
          </p:nvGrpSpPr>
          <p:grpSpPr>
            <a:xfrm>
              <a:off x="3059280" y="3141720"/>
              <a:ext cx="4608000" cy="216000"/>
              <a:chOff x="3059280" y="3141720"/>
              <a:chExt cx="4608000" cy="216000"/>
            </a:xfrm>
          </p:grpSpPr>
          <p:sp>
            <p:nvSpPr>
              <p:cNvPr id="954" name=""/>
              <p:cNvSpPr/>
              <p:nvPr/>
            </p:nvSpPr>
            <p:spPr>
              <a:xfrm>
                <a:off x="3059280" y="314172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3059280" y="3357720"/>
                <a:ext cx="4608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>
                <a:off x="7667280" y="314172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7" name=""/>
            <p:cNvSpPr/>
            <p:nvPr/>
          </p:nvSpPr>
          <p:spPr>
            <a:xfrm>
              <a:off x="4211640" y="314172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8" name=""/>
          <p:cNvSpPr/>
          <p:nvPr/>
        </p:nvSpPr>
        <p:spPr>
          <a:xfrm>
            <a:off x="3348000" y="270972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179280" y="2565360"/>
            <a:ext cx="6494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26920" y="2494080"/>
            <a:ext cx="2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1116000" y="256536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1692360" y="2638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2124000" y="2709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i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700360" y="256536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3851280" y="4076640"/>
            <a:ext cx="647640" cy="581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4500720" y="414972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also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5364000" y="4076640"/>
            <a:ext cx="719280" cy="581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601200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6443640" y="407664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020000" y="414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7307280" y="407664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2" name=""/>
          <p:cNvGrpSpPr/>
          <p:nvPr/>
        </p:nvGrpSpPr>
        <p:grpSpPr>
          <a:xfrm>
            <a:off x="7812000" y="4076640"/>
            <a:ext cx="1152720" cy="581400"/>
            <a:chOff x="7812000" y="4076640"/>
            <a:chExt cx="1152720" cy="581400"/>
          </a:xfrm>
        </p:grpSpPr>
        <p:sp>
          <p:nvSpPr>
            <p:cNvPr id="973" name=""/>
            <p:cNvSpPr/>
            <p:nvPr/>
          </p:nvSpPr>
          <p:spPr>
            <a:xfrm>
              <a:off x="8317080" y="4076640"/>
              <a:ext cx="647640" cy="5814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812000" y="414936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"/>
          <p:cNvGrpSpPr/>
          <p:nvPr/>
        </p:nvGrpSpPr>
        <p:grpSpPr>
          <a:xfrm>
            <a:off x="4211640" y="3860640"/>
            <a:ext cx="2591640" cy="288720"/>
            <a:chOff x="4211640" y="3860640"/>
            <a:chExt cx="2591640" cy="288720"/>
          </a:xfrm>
        </p:grpSpPr>
        <p:grpSp>
          <p:nvGrpSpPr>
            <p:cNvPr id="976" name=""/>
            <p:cNvGrpSpPr/>
            <p:nvPr/>
          </p:nvGrpSpPr>
          <p:grpSpPr>
            <a:xfrm>
              <a:off x="4211640" y="3860640"/>
              <a:ext cx="2591640" cy="288720"/>
              <a:chOff x="4211640" y="3860640"/>
              <a:chExt cx="2591640" cy="288720"/>
            </a:xfrm>
          </p:grpSpPr>
          <p:sp>
            <p:nvSpPr>
              <p:cNvPr id="977" name=""/>
              <p:cNvSpPr/>
              <p:nvPr/>
            </p:nvSpPr>
            <p:spPr>
              <a:xfrm flipV="1">
                <a:off x="4211640" y="386064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4211640" y="3860640"/>
                <a:ext cx="25916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6803280" y="3860640"/>
                <a:ext cx="0" cy="288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0" name=""/>
            <p:cNvSpPr/>
            <p:nvPr/>
          </p:nvSpPr>
          <p:spPr>
            <a:xfrm>
              <a:off x="5724360" y="386064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1" name=""/>
          <p:cNvGrpSpPr/>
          <p:nvPr/>
        </p:nvGrpSpPr>
        <p:grpSpPr>
          <a:xfrm>
            <a:off x="3059280" y="4653000"/>
            <a:ext cx="4608000" cy="216000"/>
            <a:chOff x="3059280" y="4653000"/>
            <a:chExt cx="4608000" cy="216000"/>
          </a:xfrm>
        </p:grpSpPr>
        <p:grpSp>
          <p:nvGrpSpPr>
            <p:cNvPr id="982" name=""/>
            <p:cNvGrpSpPr/>
            <p:nvPr/>
          </p:nvGrpSpPr>
          <p:grpSpPr>
            <a:xfrm>
              <a:off x="3059280" y="4653000"/>
              <a:ext cx="4608000" cy="216000"/>
              <a:chOff x="3059280" y="4653000"/>
              <a:chExt cx="4608000" cy="216000"/>
            </a:xfrm>
          </p:grpSpPr>
          <p:sp>
            <p:nvSpPr>
              <p:cNvPr id="983" name=""/>
              <p:cNvSpPr/>
              <p:nvPr/>
            </p:nvSpPr>
            <p:spPr>
              <a:xfrm>
                <a:off x="3059280" y="465300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3059280" y="4869000"/>
                <a:ext cx="4608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V="1">
                <a:off x="7667280" y="465300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6" name=""/>
            <p:cNvSpPr/>
            <p:nvPr/>
          </p:nvSpPr>
          <p:spPr>
            <a:xfrm>
              <a:off x="4211640" y="465300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7" name=""/>
          <p:cNvSpPr/>
          <p:nvPr/>
        </p:nvSpPr>
        <p:spPr>
          <a:xfrm>
            <a:off x="3348000" y="422100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179280" y="4076640"/>
            <a:ext cx="6494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826920" y="4005360"/>
            <a:ext cx="2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1116000" y="407664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692360" y="414972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2124000" y="4221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i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2700360" y="407664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3851280" y="5589720"/>
            <a:ext cx="647640" cy="581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500720" y="566244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also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364000" y="5589720"/>
            <a:ext cx="719280" cy="5814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6012000" y="5662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443640" y="558972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8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7020000" y="56624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7307280" y="558972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7812000" y="5589720"/>
            <a:ext cx="1152720" cy="581400"/>
            <a:chOff x="7812000" y="5589720"/>
            <a:chExt cx="1152720" cy="581400"/>
          </a:xfrm>
        </p:grpSpPr>
        <p:sp>
          <p:nvSpPr>
            <p:cNvPr id="1002" name=""/>
            <p:cNvSpPr/>
            <p:nvPr/>
          </p:nvSpPr>
          <p:spPr>
            <a:xfrm>
              <a:off x="8317080" y="5589720"/>
              <a:ext cx="647640" cy="581400"/>
            </a:xfrm>
            <a:prstGeom prst="rect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NZ" sz="3200" spc="-1" strike="noStrike">
                  <a:solidFill>
                    <a:srgbClr val="000000"/>
                  </a:solidFill>
                  <a:latin typeface="Arial"/>
                </a:rPr>
                <a:t>4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812000" y="5662440"/>
              <a:ext cx="432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24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"/>
          <p:cNvGrpSpPr/>
          <p:nvPr/>
        </p:nvGrpSpPr>
        <p:grpSpPr>
          <a:xfrm>
            <a:off x="4211640" y="5373720"/>
            <a:ext cx="2591640" cy="288720"/>
            <a:chOff x="4211640" y="5373720"/>
            <a:chExt cx="2591640" cy="288720"/>
          </a:xfrm>
        </p:grpSpPr>
        <p:grpSp>
          <p:nvGrpSpPr>
            <p:cNvPr id="1005" name=""/>
            <p:cNvGrpSpPr/>
            <p:nvPr/>
          </p:nvGrpSpPr>
          <p:grpSpPr>
            <a:xfrm>
              <a:off x="4211640" y="5373720"/>
              <a:ext cx="2591640" cy="288720"/>
              <a:chOff x="4211640" y="5373720"/>
              <a:chExt cx="2591640" cy="288720"/>
            </a:xfrm>
          </p:grpSpPr>
          <p:sp>
            <p:nvSpPr>
              <p:cNvPr id="1006" name=""/>
              <p:cNvSpPr/>
              <p:nvPr/>
            </p:nvSpPr>
            <p:spPr>
              <a:xfrm flipV="1">
                <a:off x="4211640" y="537372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4211640" y="5373720"/>
                <a:ext cx="259164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803280" y="5373720"/>
                <a:ext cx="0" cy="2887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9" name=""/>
            <p:cNvSpPr/>
            <p:nvPr/>
          </p:nvSpPr>
          <p:spPr>
            <a:xfrm>
              <a:off x="5724360" y="537372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0" name=""/>
          <p:cNvGrpSpPr/>
          <p:nvPr/>
        </p:nvGrpSpPr>
        <p:grpSpPr>
          <a:xfrm>
            <a:off x="3059280" y="6165720"/>
            <a:ext cx="4608000" cy="216000"/>
            <a:chOff x="3059280" y="6165720"/>
            <a:chExt cx="4608000" cy="216000"/>
          </a:xfrm>
        </p:grpSpPr>
        <p:grpSp>
          <p:nvGrpSpPr>
            <p:cNvPr id="1011" name=""/>
            <p:cNvGrpSpPr/>
            <p:nvPr/>
          </p:nvGrpSpPr>
          <p:grpSpPr>
            <a:xfrm>
              <a:off x="3059280" y="6165720"/>
              <a:ext cx="4608000" cy="216000"/>
              <a:chOff x="3059280" y="6165720"/>
              <a:chExt cx="4608000" cy="216000"/>
            </a:xfrm>
          </p:grpSpPr>
          <p:sp>
            <p:nvSpPr>
              <p:cNvPr id="1012" name=""/>
              <p:cNvSpPr/>
              <p:nvPr/>
            </p:nvSpPr>
            <p:spPr>
              <a:xfrm>
                <a:off x="3059280" y="616572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3059280" y="6381720"/>
                <a:ext cx="4608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V="1">
                <a:off x="7667280" y="6165720"/>
                <a:ext cx="0" cy="21600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5" name=""/>
            <p:cNvSpPr/>
            <p:nvPr/>
          </p:nvSpPr>
          <p:spPr>
            <a:xfrm>
              <a:off x="4211640" y="6165720"/>
              <a:ext cx="0" cy="216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3348000" y="5734080"/>
            <a:ext cx="50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79280" y="5589720"/>
            <a:ext cx="6494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8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826920" y="5518080"/>
            <a:ext cx="2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116000" y="558972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1692360" y="566244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2124000" y="57340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i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2700360" y="5589720"/>
            <a:ext cx="647640" cy="5814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826920" y="260280"/>
            <a:ext cx="77774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Adds equally to make a tidy number for Sub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1" dur="indefinite" restart="never" nodeType="tmRoot">
          <p:childTnLst>
            <p:seq>
              <p:cTn id="2242" dur="indefinite" nodeType="mainSeq">
                <p:childTnLst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9" fill="hold">
                      <p:stCondLst>
                        <p:cond delay="indefinite"/>
                      </p:stCondLst>
                      <p:childTnLst>
                        <p:par>
                          <p:cTn id="2260" fill="hold">
                            <p:stCondLst>
                              <p:cond delay="0"/>
                            </p:stCondLst>
                            <p:childTnLst>
                              <p:par>
                                <p:cTn id="2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9" fill="hold">
                      <p:stCondLst>
                        <p:cond delay="indefinite"/>
                      </p:stCondLst>
                      <p:childTnLst>
                        <p:par>
                          <p:cTn id="2280" fill="hold">
                            <p:stCondLst>
                              <p:cond delay="0"/>
                            </p:stCondLst>
                            <p:childTnLst>
                              <p:par>
                                <p:cTn id="2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1" fill="hold">
                      <p:stCondLst>
                        <p:cond delay="indefinite"/>
                      </p:stCondLst>
                      <p:childTnLst>
                        <p:par>
                          <p:cTn id="2302" fill="hold">
                            <p:stCondLst>
                              <p:cond delay="0"/>
                            </p:stCondLst>
                            <p:childTnLst>
                              <p:par>
                                <p:cTn id="2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7" fill="hold">
                      <p:stCondLst>
                        <p:cond delay="indefinite"/>
                      </p:stCondLst>
                      <p:childTnLst>
                        <p:par>
                          <p:cTn id="2308" fill="hold">
                            <p:stCondLst>
                              <p:cond delay="0"/>
                            </p:stCondLst>
                            <p:childTnLst>
                              <p:par>
                                <p:cTn id="2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3" fill="hold">
                      <p:stCondLst>
                        <p:cond delay="indefinite"/>
                      </p:stCondLst>
                      <p:childTnLst>
                        <p:par>
                          <p:cTn id="2314" fill="hold">
                            <p:stCondLst>
                              <p:cond delay="0"/>
                            </p:stCondLst>
                            <p:childTnLst>
                              <p:par>
                                <p:cTn id="2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9" fill="hold">
                      <p:stCondLst>
                        <p:cond delay="indefinite"/>
                      </p:stCondLst>
                      <p:childTnLst>
                        <p:par>
                          <p:cTn id="2350" fill="hold">
                            <p:stCondLst>
                              <p:cond delay="0"/>
                            </p:stCondLst>
                            <p:childTnLst>
                              <p:par>
                                <p:cTn id="2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5" fill="hold">
                      <p:stCondLst>
                        <p:cond delay="indefinite"/>
                      </p:stCondLst>
                      <p:childTnLst>
                        <p:par>
                          <p:cTn id="2356" fill="hold">
                            <p:stCondLst>
                              <p:cond delay="0"/>
                            </p:stCondLst>
                            <p:childTnLst>
                              <p:par>
                                <p:cTn id="2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5" fill="hold">
                      <p:stCondLst>
                        <p:cond delay="indefinite"/>
                      </p:stCondLst>
                      <p:childTnLst>
                        <p:par>
                          <p:cTn id="2376" fill="hold">
                            <p:stCondLst>
                              <p:cond delay="0"/>
                            </p:stCondLst>
                            <p:childTnLst>
                              <p:par>
                                <p:cTn id="2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3" fill="hold">
                      <p:stCondLst>
                        <p:cond delay="indefinite"/>
                      </p:stCondLst>
                      <p:childTnLst>
                        <p:par>
                          <p:cTn id="2424" fill="hold">
                            <p:stCondLst>
                              <p:cond delay="0"/>
                            </p:stCondLst>
                            <p:childTnLst>
                              <p:par>
                                <p:cTn id="2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1" fill="hold">
                      <p:stCondLst>
                        <p:cond delay="indefinite"/>
                      </p:stCondLst>
                      <p:childTnLst>
                        <p:par>
                          <p:cTn id="2432" fill="hold">
                            <p:stCondLst>
                              <p:cond delay="0"/>
                            </p:stCondLst>
                            <p:childTnLst>
                              <p:par>
                                <p:cTn id="2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umber of tens in dec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611280" y="836640"/>
            <a:ext cx="115236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1979640" y="1125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.is made of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4859280" y="836640"/>
            <a:ext cx="266400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7 te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611280" y="2060640"/>
            <a:ext cx="115236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1979640" y="2349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.is made of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4859280" y="2060640"/>
            <a:ext cx="266400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4 te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611280" y="3284640"/>
            <a:ext cx="115236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1979640" y="357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.is made of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4859280" y="3284640"/>
            <a:ext cx="266400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9 te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11280" y="4508640"/>
            <a:ext cx="115236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1979640" y="4797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.is made of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859280" y="4508640"/>
            <a:ext cx="266400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2 te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5" dur="indefinite" restart="never" nodeType="tmRoot">
          <p:childTnLst>
            <p:seq>
              <p:cTn id="2436" dur="indefinite" nodeType="mainSeq">
                <p:childTnLst>
                  <p:par>
                    <p:cTn id="2437" fill="hold">
                      <p:stCondLst>
                        <p:cond delay="indefinite"/>
                      </p:stCondLst>
                      <p:childTnLst>
                        <p:par>
                          <p:cTn id="2438" fill="hold">
                            <p:stCondLst>
                              <p:cond delay="0"/>
                            </p:stCondLst>
                            <p:childTnLst>
                              <p:par>
                                <p:cTn id="2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1" fill="hold">
                      <p:stCondLst>
                        <p:cond delay="indefinite"/>
                      </p:stCondLst>
                      <p:childTnLst>
                        <p:par>
                          <p:cTn id="2442" fill="hold">
                            <p:stCondLst>
                              <p:cond delay="0"/>
                            </p:stCondLst>
                            <p:childTnLst>
                              <p:par>
                                <p:cTn id="2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9" fill="hold">
                      <p:stCondLst>
                        <p:cond delay="indefinite"/>
                      </p:stCondLst>
                      <p:childTnLst>
                        <p:par>
                          <p:cTn id="2450" fill="hold">
                            <p:stCondLst>
                              <p:cond delay="0"/>
                            </p:stCondLst>
                            <p:childTnLst>
                              <p:par>
                                <p:cTn id="2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howing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84360" y="981000"/>
            <a:ext cx="863280" cy="1152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1547640" y="981000"/>
            <a:ext cx="863640" cy="1152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 rot="16200000">
            <a:off x="1265040" y="2198160"/>
            <a:ext cx="5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2556000" y="12682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is shape has be cut in 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508720" y="105264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ha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7451640" y="1052640"/>
            <a:ext cx="72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826920" y="2924280"/>
            <a:ext cx="720720" cy="647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1547640" y="2924280"/>
            <a:ext cx="720720" cy="647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826920" y="3573360"/>
            <a:ext cx="720720" cy="647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1547640" y="3573360"/>
            <a:ext cx="720720" cy="647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 rot="16200000">
            <a:off x="1265040" y="4358880"/>
            <a:ext cx="5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2268360" y="328464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bit cut off is called a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5076720" y="292428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four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7451640" y="285264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250920" y="5373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bit left is called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2627280" y="493704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three fourt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7451640" y="472428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 flipV="1">
            <a:off x="2050920" y="4292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3" dur="indefinite" restart="never" nodeType="tmRoot">
          <p:childTnLst>
            <p:seq>
              <p:cTn id="2454" dur="indefinite" nodeType="mainSeq">
                <p:childTnLst>
                  <p:par>
                    <p:cTn id="2455" fill="hold">
                      <p:stCondLst>
                        <p:cond delay="indefinite"/>
                      </p:stCondLst>
                      <p:childTnLst>
                        <p:par>
                          <p:cTn id="2456" fill="hold">
                            <p:stCondLst>
                              <p:cond delay="0"/>
                            </p:stCondLst>
                            <p:childTnLst>
                              <p:par>
                                <p:cTn id="2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1" fill="hold">
                      <p:stCondLst>
                        <p:cond delay="indefinite"/>
                      </p:stCondLst>
                      <p:childTnLst>
                        <p:par>
                          <p:cTn id="2462" fill="hold">
                            <p:stCondLst>
                              <p:cond delay="0"/>
                            </p:stCondLst>
                            <p:childTnLst>
                              <p:par>
                                <p:cTn id="2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5" fill="hold">
                      <p:stCondLst>
                        <p:cond delay="indefinite"/>
                      </p:stCondLst>
                      <p:childTnLst>
                        <p:par>
                          <p:cTn id="2466" fill="hold">
                            <p:stCondLst>
                              <p:cond delay="0"/>
                            </p:stCondLst>
                            <p:childTnLst>
                              <p:par>
                                <p:cTn id="24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-0.0474 L 0.0033 -0.54035 E">
                                      <p:cBhvr>
                                        <p:cTn id="2468" dur="2000" fill="hold"/>
                                        <p:tgtEl>
                                          <p:spTgt spid="10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8.09249E-007 L -0.03941 -8.09249E-007 E">
                                      <p:cBhvr>
                                        <p:cTn id="2472" dur="2000" fill="hold"/>
                                        <p:tgtEl>
                                          <p:spTgt spid="1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7" fill="hold">
                      <p:stCondLst>
                        <p:cond delay="indefinite"/>
                      </p:stCondLst>
                      <p:childTnLst>
                        <p:par>
                          <p:cTn id="2478" fill="hold">
                            <p:stCondLst>
                              <p:cond delay="0"/>
                            </p:stCondLst>
                            <p:childTnLst>
                              <p:par>
                                <p:cTn id="2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1" fill="hold">
                      <p:stCondLst>
                        <p:cond delay="indefinite"/>
                      </p:stCondLst>
                      <p:childTnLst>
                        <p:par>
                          <p:cTn id="2482" fill="hold">
                            <p:stCondLst>
                              <p:cond delay="0"/>
                            </p:stCondLst>
                            <p:childTnLst>
                              <p:par>
                                <p:cTn id="2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5" fill="hold">
                      <p:stCondLst>
                        <p:cond delay="indefinite"/>
                      </p:stCondLst>
                      <p:childTnLst>
                        <p:par>
                          <p:cTn id="2486" fill="hold">
                            <p:stCondLst>
                              <p:cond delay="0"/>
                            </p:stCondLst>
                            <p:childTnLst>
                              <p:par>
                                <p:cTn id="2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9" fill="hold">
                      <p:stCondLst>
                        <p:cond delay="indefinite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508 L 0.0007 -0.14428 L -0.33732 -0.15491 E">
                                      <p:cBhvr>
                                        <p:cTn id="2502" dur="2000" fill="hold"/>
                                        <p:tgtEl>
                                          <p:spTgt spid="10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3" fill="hold">
                      <p:stCondLst>
                        <p:cond delay="indefinite"/>
                      </p:stCondLst>
                      <p:childTnLst>
                        <p:par>
                          <p:cTn id="2504" fill="hold">
                            <p:stCondLst>
                              <p:cond delay="0"/>
                            </p:stCondLst>
                            <p:childTnLst>
                              <p:par>
                                <p:cTn id="25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36994E-006 L -0.04722 0.03144 E">
                                      <p:cBhvr>
                                        <p:cTn id="2506" dur="2000" fill="hold"/>
                                        <p:tgtEl>
                                          <p:spTgt spid="10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1" fill="hold">
                      <p:stCondLst>
                        <p:cond delay="indefinite"/>
                      </p:stCondLst>
                      <p:childTnLst>
                        <p:par>
                          <p:cTn id="2512" fill="hold">
                            <p:stCondLst>
                              <p:cond delay="0"/>
                            </p:stCondLst>
                            <p:childTnLst>
                              <p:par>
                                <p:cTn id="2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5" fill="hold">
                      <p:stCondLst>
                        <p:cond delay="indefinite"/>
                      </p:stCondLst>
                      <p:childTnLst>
                        <p:par>
                          <p:cTn id="2516" fill="hold">
                            <p:stCondLst>
                              <p:cond delay="0"/>
                            </p:stCondLst>
                            <p:childTnLst>
                              <p:par>
                                <p:cTn id="2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7" fill="hold">
                      <p:stCondLst>
                        <p:cond delay="indefinite"/>
                      </p:stCondLst>
                      <p:childTnLst>
                        <p:par>
                          <p:cTn id="2528" fill="hold">
                            <p:stCondLst>
                              <p:cond delay="0"/>
                            </p:stCondLst>
                            <p:childTnLst>
                              <p:par>
                                <p:cTn id="2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fill="hold">
                      <p:stCondLst>
                        <p:cond delay="indefinite"/>
                      </p:stCondLst>
                      <p:childTnLst>
                        <p:par>
                          <p:cTn id="2532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rders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395280" y="13413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ut these fractions in order from little to b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1476360" y="1989000"/>
            <a:ext cx="1150920" cy="1557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3995640" y="2060640"/>
            <a:ext cx="1152720" cy="1557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372360" y="2060640"/>
            <a:ext cx="1152360" cy="155700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3635280" y="4076640"/>
            <a:ext cx="1727280" cy="245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iddle s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1116000" y="4076640"/>
            <a:ext cx="1727280" cy="245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ittl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156360" y="4076640"/>
            <a:ext cx="1727280" cy="245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bigg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5" dur="indefinite" restart="never" nodeType="tmRoot">
          <p:childTnLst>
            <p:seq>
              <p:cTn id="2536" dur="indefinite" nodeType="mainSeq">
                <p:childTnLst>
                  <p:par>
                    <p:cTn id="2537" fill="hold">
                      <p:stCondLst>
                        <p:cond delay="indefinite"/>
                      </p:stCondLst>
                      <p:childTnLst>
                        <p:par>
                          <p:cTn id="2538" fill="hold">
                            <p:stCondLst>
                              <p:cond delay="0"/>
                            </p:stCondLst>
                            <p:childTnLst>
                              <p:par>
                                <p:cTn id="25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71676E-006 L -0.54341 0.32509 E">
                                      <p:cBhvr>
                                        <p:cTn id="2540" dur="2000" fill="hold"/>
                                        <p:tgtEl>
                                          <p:spTgt spid="10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1" fill="hold">
                      <p:stCondLst>
                        <p:cond delay="indefinite"/>
                      </p:stCondLst>
                      <p:childTnLst>
                        <p:par>
                          <p:cTn id="2542" fill="hold">
                            <p:stCondLst>
                              <p:cond delay="0"/>
                            </p:stCondLst>
                            <p:childTnLst>
                              <p:par>
                                <p:cTn id="25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9.24855E-007 L 0.26788 0.34612 E">
                                      <p:cBhvr>
                                        <p:cTn id="2544" dur="2000" fill="hold"/>
                                        <p:tgtEl>
                                          <p:spTgt spid="10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5" fill="hold">
                      <p:stCondLst>
                        <p:cond delay="indefinite"/>
                      </p:stCondLst>
                      <p:childTnLst>
                        <p:par>
                          <p:cTn id="2546" fill="hold">
                            <p:stCondLst>
                              <p:cond delay="0"/>
                            </p:stCondLst>
                            <p:childTnLst>
                              <p:par>
                                <p:cTn id="25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24855E-007 L 0.26771 0.33572 E">
                                      <p:cBhvr>
                                        <p:cTn id="2548" dur="2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asic facts – adding to 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395280" y="98100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1258920" y="98100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"/>
          <p:cNvSpPr/>
          <p:nvPr/>
        </p:nvSpPr>
        <p:spPr>
          <a:xfrm>
            <a:off x="2627280" y="98100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"/>
          <p:cNvSpPr/>
          <p:nvPr/>
        </p:nvSpPr>
        <p:spPr>
          <a:xfrm>
            <a:off x="3276720" y="981000"/>
            <a:ext cx="86364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"/>
          <p:cNvSpPr/>
          <p:nvPr/>
        </p:nvSpPr>
        <p:spPr>
          <a:xfrm>
            <a:off x="1835280" y="90792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"/>
          <p:cNvSpPr/>
          <p:nvPr/>
        </p:nvSpPr>
        <p:spPr>
          <a:xfrm>
            <a:off x="1908000" y="981000"/>
            <a:ext cx="505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"/>
          <p:cNvSpPr/>
          <p:nvPr/>
        </p:nvSpPr>
        <p:spPr>
          <a:xfrm>
            <a:off x="395280" y="18446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"/>
          <p:cNvSpPr/>
          <p:nvPr/>
        </p:nvSpPr>
        <p:spPr>
          <a:xfrm>
            <a:off x="1258920" y="18446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"/>
          <p:cNvSpPr/>
          <p:nvPr/>
        </p:nvSpPr>
        <p:spPr>
          <a:xfrm>
            <a:off x="2627280" y="18446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"/>
          <p:cNvSpPr/>
          <p:nvPr/>
        </p:nvSpPr>
        <p:spPr>
          <a:xfrm>
            <a:off x="1835280" y="18446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"/>
          <p:cNvSpPr/>
          <p:nvPr/>
        </p:nvSpPr>
        <p:spPr>
          <a:xfrm>
            <a:off x="3276720" y="1773360"/>
            <a:ext cx="934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3348000" y="1844640"/>
            <a:ext cx="792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276720" y="2708280"/>
            <a:ext cx="86364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1258920" y="27082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627280" y="27082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"/>
          <p:cNvSpPr/>
          <p:nvPr/>
        </p:nvSpPr>
        <p:spPr>
          <a:xfrm>
            <a:off x="1835280" y="27082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"/>
          <p:cNvSpPr/>
          <p:nvPr/>
        </p:nvSpPr>
        <p:spPr>
          <a:xfrm>
            <a:off x="395280" y="2637000"/>
            <a:ext cx="71928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"/>
          <p:cNvSpPr/>
          <p:nvPr/>
        </p:nvSpPr>
        <p:spPr>
          <a:xfrm>
            <a:off x="468360" y="2708280"/>
            <a:ext cx="57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"/>
          <p:cNvSpPr/>
          <p:nvPr/>
        </p:nvSpPr>
        <p:spPr>
          <a:xfrm>
            <a:off x="395280" y="36464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"/>
          <p:cNvSpPr/>
          <p:nvPr/>
        </p:nvSpPr>
        <p:spPr>
          <a:xfrm>
            <a:off x="1258920" y="36464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"/>
          <p:cNvSpPr/>
          <p:nvPr/>
        </p:nvSpPr>
        <p:spPr>
          <a:xfrm>
            <a:off x="2627280" y="36464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"/>
          <p:cNvSpPr/>
          <p:nvPr/>
        </p:nvSpPr>
        <p:spPr>
          <a:xfrm>
            <a:off x="3276720" y="3646440"/>
            <a:ext cx="86364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1835280" y="357336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"/>
          <p:cNvSpPr/>
          <p:nvPr/>
        </p:nvSpPr>
        <p:spPr>
          <a:xfrm>
            <a:off x="1908000" y="3646440"/>
            <a:ext cx="505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"/>
          <p:cNvSpPr/>
          <p:nvPr/>
        </p:nvSpPr>
        <p:spPr>
          <a:xfrm>
            <a:off x="395280" y="45100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1258920" y="45100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"/>
          <p:cNvSpPr/>
          <p:nvPr/>
        </p:nvSpPr>
        <p:spPr>
          <a:xfrm>
            <a:off x="2627280" y="45100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"/>
          <p:cNvSpPr/>
          <p:nvPr/>
        </p:nvSpPr>
        <p:spPr>
          <a:xfrm>
            <a:off x="1835280" y="45100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"/>
          <p:cNvSpPr/>
          <p:nvPr/>
        </p:nvSpPr>
        <p:spPr>
          <a:xfrm>
            <a:off x="3276720" y="4438800"/>
            <a:ext cx="934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"/>
          <p:cNvSpPr/>
          <p:nvPr/>
        </p:nvSpPr>
        <p:spPr>
          <a:xfrm>
            <a:off x="3348000" y="4510080"/>
            <a:ext cx="792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"/>
          <p:cNvSpPr/>
          <p:nvPr/>
        </p:nvSpPr>
        <p:spPr>
          <a:xfrm>
            <a:off x="3276720" y="5373720"/>
            <a:ext cx="86364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"/>
          <p:cNvSpPr/>
          <p:nvPr/>
        </p:nvSpPr>
        <p:spPr>
          <a:xfrm>
            <a:off x="1258920" y="537372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2627280" y="537372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835280" y="537372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395280" y="5302080"/>
            <a:ext cx="7192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"/>
          <p:cNvSpPr/>
          <p:nvPr/>
        </p:nvSpPr>
        <p:spPr>
          <a:xfrm>
            <a:off x="468360" y="5373720"/>
            <a:ext cx="57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4861080" y="98100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5724360" y="98100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7093080" y="98100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7742160" y="981000"/>
            <a:ext cx="86220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6300720" y="90792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6373800" y="981000"/>
            <a:ext cx="504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4861080" y="18446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5724360" y="184464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7093080" y="18446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>
            <a:off x="6300720" y="18446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7742160" y="1773360"/>
            <a:ext cx="93348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>
            <a:off x="7813800" y="1844640"/>
            <a:ext cx="7905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7742160" y="2708280"/>
            <a:ext cx="86220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724360" y="270828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7093080" y="27082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6300720" y="27082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861080" y="263700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4933800" y="2708280"/>
            <a:ext cx="57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861080" y="36464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"/>
          <p:cNvSpPr/>
          <p:nvPr/>
        </p:nvSpPr>
        <p:spPr>
          <a:xfrm>
            <a:off x="5724360" y="364644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7093080" y="36464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7742160" y="3646440"/>
            <a:ext cx="86220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6300720" y="357336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6373800" y="3646440"/>
            <a:ext cx="504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4859280" y="45100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5722920" y="45100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7091280" y="451008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6299280" y="45100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740720" y="4437000"/>
            <a:ext cx="934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7813800" y="4510080"/>
            <a:ext cx="7905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7742160" y="5373720"/>
            <a:ext cx="86220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5724360" y="537372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7093080" y="537372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6300720" y="537372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861080" y="530208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4933800" y="5373720"/>
            <a:ext cx="57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9" dur="indefinite" restart="never" nodeType="tmRoot">
          <p:childTnLst>
            <p:seq>
              <p:cTn id="2550" dur="indefinite" nodeType="mainSeq">
                <p:childTnLst>
                  <p:par>
                    <p:cTn id="2551" fill="hold">
                      <p:stCondLst>
                        <p:cond delay="indefinite"/>
                      </p:stCondLst>
                      <p:childTnLst>
                        <p:par>
                          <p:cTn id="2552" fill="hold">
                            <p:stCondLst>
                              <p:cond delay="0"/>
                            </p:stCondLst>
                            <p:childTnLst>
                              <p:par>
                                <p:cTn id="2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3" fill="hold">
                      <p:stCondLst>
                        <p:cond delay="indefinite"/>
                      </p:stCondLst>
                      <p:childTnLst>
                        <p:par>
                          <p:cTn id="2564" fill="hold">
                            <p:stCondLst>
                              <p:cond delay="0"/>
                            </p:stCondLst>
                            <p:childTnLst>
                              <p:par>
                                <p:cTn id="2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1" fill="hold">
                      <p:stCondLst>
                        <p:cond delay="indefinite"/>
                      </p:stCondLst>
                      <p:childTnLst>
                        <p:par>
                          <p:cTn id="2612" fill="hold">
                            <p:stCondLst>
                              <p:cond delay="0"/>
                            </p:stCondLst>
                            <p:childTnLst>
                              <p:par>
                                <p:cTn id="2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5" fill="hold">
                      <p:stCondLst>
                        <p:cond delay="indefinite"/>
                      </p:stCondLst>
                      <p:childTnLst>
                        <p:par>
                          <p:cTn id="2616" fill="hold">
                            <p:stCondLst>
                              <p:cond delay="0"/>
                            </p:stCondLst>
                            <p:childTnLst>
                              <p:par>
                                <p:cTn id="2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7" fill="hold">
                      <p:stCondLst>
                        <p:cond delay="indefinite"/>
                      </p:stCondLst>
                      <p:childTnLst>
                        <p:par>
                          <p:cTn id="2628" fill="hold">
                            <p:stCondLst>
                              <p:cond delay="0"/>
                            </p:stCondLst>
                            <p:childTnLst>
                              <p:par>
                                <p:cTn id="2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7" fill="hold">
                      <p:stCondLst>
                        <p:cond delay="indefinite"/>
                      </p:stCondLst>
                      <p:childTnLst>
                        <p:par>
                          <p:cTn id="2648" fill="hold">
                            <p:stCondLst>
                              <p:cond delay="0"/>
                            </p:stCondLst>
                            <p:childTnLst>
                              <p:par>
                                <p:cTn id="2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9" fill="hold">
                      <p:stCondLst>
                        <p:cond delay="indefinite"/>
                      </p:stCondLst>
                      <p:childTnLst>
                        <p:par>
                          <p:cTn id="2660" fill="hold">
                            <p:stCondLst>
                              <p:cond delay="0"/>
                            </p:stCondLst>
                            <p:childTnLst>
                              <p:par>
                                <p:cTn id="2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3" fill="hold">
                      <p:stCondLst>
                        <p:cond delay="indefinite"/>
                      </p:stCondLst>
                      <p:childTnLst>
                        <p:par>
                          <p:cTn id="2664" fill="hold">
                            <p:stCondLst>
                              <p:cond delay="0"/>
                            </p:stCondLst>
                            <p:childTnLst>
                              <p:par>
                                <p:cTn id="2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1" fill="hold">
                      <p:stCondLst>
                        <p:cond delay="indefinite"/>
                      </p:stCondLst>
                      <p:childTnLst>
                        <p:par>
                          <p:cTn id="2692" fill="hold">
                            <p:stCondLst>
                              <p:cond delay="0"/>
                            </p:stCondLst>
                            <p:childTnLst>
                              <p:par>
                                <p:cTn id="2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fill="hold">
                      <p:stCondLst>
                        <p:cond delay="indefinite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7" fill="hold">
                      <p:stCondLst>
                        <p:cond delay="indefinite"/>
                      </p:stCondLst>
                      <p:childTnLst>
                        <p:par>
                          <p:cTn id="2708" fill="hold">
                            <p:stCondLst>
                              <p:cond delay="0"/>
                            </p:stCondLst>
                            <p:childTnLst>
                              <p:par>
                                <p:cTn id="2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1" fill="hold">
                      <p:stCondLst>
                        <p:cond delay="indefinite"/>
                      </p:stCondLst>
                      <p:childTnLst>
                        <p:par>
                          <p:cTn id="2712" fill="hold">
                            <p:stCondLst>
                              <p:cond delay="0"/>
                            </p:stCondLst>
                            <p:childTnLst>
                              <p:par>
                                <p:cTn id="2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9" fill="hold">
                      <p:stCondLst>
                        <p:cond delay="indefinite"/>
                      </p:stCondLst>
                      <p:childTnLst>
                        <p:par>
                          <p:cTn id="2740" fill="hold">
                            <p:stCondLst>
                              <p:cond delay="0"/>
                            </p:stCondLst>
                            <p:childTnLst>
                              <p:par>
                                <p:cTn id="2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ads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05264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162864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285264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59280" y="1052640"/>
            <a:ext cx="649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278136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14172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386064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4581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465300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58972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558972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407664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88000" y="170028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0000" y="292428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227640" y="429264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524720" y="278136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08720" y="573408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155736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67640" y="544500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740720" y="105264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24720" y="4005360"/>
            <a:ext cx="11509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asic facts – subtracting up to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324000" y="98100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125892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262728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3276720" y="98100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1835280" y="90792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1908000" y="981000"/>
            <a:ext cx="5050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324000" y="184464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125892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262728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183528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3276720" y="177336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348000" y="184464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327672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1332000" y="2708280"/>
            <a:ext cx="4316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2627280" y="2708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183528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250920" y="2637000"/>
            <a:ext cx="10080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324000" y="2708280"/>
            <a:ext cx="8632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324000" y="364644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125892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262728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27672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835280" y="357336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1908000" y="3646440"/>
            <a:ext cx="5050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324000" y="451008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125892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262728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1835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3276720" y="4438800"/>
            <a:ext cx="934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3348000" y="4510080"/>
            <a:ext cx="792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327672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125892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262728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83528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250920" y="530208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324000" y="5373720"/>
            <a:ext cx="720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4788000" y="981000"/>
            <a:ext cx="7938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5724360" y="98100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709308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7742160" y="98100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6300720" y="90792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373800" y="98100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4788000" y="1844640"/>
            <a:ext cx="7938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5724360" y="18446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709308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630072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7742160" y="1773360"/>
            <a:ext cx="71928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7813800" y="1844640"/>
            <a:ext cx="576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774216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5724360" y="27082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7093080" y="2708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630072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716360" y="2637000"/>
            <a:ext cx="86364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4788000" y="2708280"/>
            <a:ext cx="7221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4788000" y="3646440"/>
            <a:ext cx="7938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724360" y="36464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709308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774216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300720" y="357336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6373800" y="364644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788000" y="451008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572292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7091280" y="45100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6299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7740720" y="443700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7813800" y="4510080"/>
            <a:ext cx="576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774216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5724360" y="537372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709308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630072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4716360" y="530208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788000" y="5373720"/>
            <a:ext cx="7221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3" dur="indefinite" restart="never" nodeType="tmRoot">
          <p:childTnLst>
            <p:seq>
              <p:cTn id="2744" dur="indefinite" nodeType="mainSeq">
                <p:childTnLst>
                  <p:par>
                    <p:cTn id="2745" fill="hold">
                      <p:stCondLst>
                        <p:cond delay="indefinite"/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3" fill="hold">
                      <p:stCondLst>
                        <p:cond delay="indefinite"/>
                      </p:stCondLst>
                      <p:childTnLst>
                        <p:par>
                          <p:cTn id="2774" fill="hold">
                            <p:stCondLst>
                              <p:cond delay="0"/>
                            </p:stCondLst>
                            <p:childTnLst>
                              <p:par>
                                <p:cTn id="2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7" fill="hold">
                      <p:stCondLst>
                        <p:cond delay="indefinite"/>
                      </p:stCondLst>
                      <p:childTnLst>
                        <p:par>
                          <p:cTn id="2778" fill="hold">
                            <p:stCondLst>
                              <p:cond delay="0"/>
                            </p:stCondLst>
                            <p:childTnLst>
                              <p:par>
                                <p:cTn id="2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3" fill="hold">
                      <p:stCondLst>
                        <p:cond delay="indefinite"/>
                      </p:stCondLst>
                      <p:childTnLst>
                        <p:par>
                          <p:cTn id="2794" fill="hold">
                            <p:stCondLst>
                              <p:cond delay="0"/>
                            </p:stCondLst>
                            <p:childTnLst>
                              <p:par>
                                <p:cTn id="2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5" fill="hold">
                      <p:stCondLst>
                        <p:cond delay="indefinite"/>
                      </p:stCondLst>
                      <p:childTnLst>
                        <p:par>
                          <p:cTn id="2806" fill="hold">
                            <p:stCondLst>
                              <p:cond delay="0"/>
                            </p:stCondLst>
                            <p:childTnLst>
                              <p:par>
                                <p:cTn id="2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9" fill="hold">
                      <p:stCondLst>
                        <p:cond delay="indefinite"/>
                      </p:stCondLst>
                      <p:childTnLst>
                        <p:par>
                          <p:cTn id="2810" fill="hold">
                            <p:stCondLst>
                              <p:cond delay="0"/>
                            </p:stCondLst>
                            <p:childTnLst>
                              <p:par>
                                <p:cTn id="2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5" fill="hold">
                      <p:stCondLst>
                        <p:cond delay="indefinite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7" fill="hold">
                      <p:stCondLst>
                        <p:cond delay="indefinite"/>
                      </p:stCondLst>
                      <p:childTnLst>
                        <p:par>
                          <p:cTn id="2838" fill="hold">
                            <p:stCondLst>
                              <p:cond delay="0"/>
                            </p:stCondLst>
                            <p:childTnLst>
                              <p:par>
                                <p:cTn id="2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1" fill="hold">
                      <p:stCondLst>
                        <p:cond delay="indefinite"/>
                      </p:stCondLst>
                      <p:childTnLst>
                        <p:par>
                          <p:cTn id="2842" fill="hold">
                            <p:stCondLst>
                              <p:cond delay="0"/>
                            </p:stCondLst>
                            <p:childTnLst>
                              <p:par>
                                <p:cTn id="2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fill="hold">
                      <p:stCondLst>
                        <p:cond delay="indefinite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3" fill="hold">
                      <p:stCondLst>
                        <p:cond delay="indefinite"/>
                      </p:stCondLst>
                      <p:childTnLst>
                        <p:par>
                          <p:cTn id="2874" fill="hold">
                            <p:stCondLst>
                              <p:cond delay="0"/>
                            </p:stCondLst>
                            <p:childTnLst>
                              <p:par>
                                <p:cTn id="2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9" fill="hold">
                      <p:stCondLst>
                        <p:cond delay="indefinite"/>
                      </p:stCondLst>
                      <p:childTnLst>
                        <p:par>
                          <p:cTn id="2890" fill="hold">
                            <p:stCondLst>
                              <p:cond delay="0"/>
                            </p:stCondLst>
                            <p:childTnLst>
                              <p:par>
                                <p:cTn id="2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1" fill="hold">
                      <p:stCondLst>
                        <p:cond delay="indefinite"/>
                      </p:stCondLst>
                      <p:childTnLst>
                        <p:par>
                          <p:cTn id="2902" fill="hold">
                            <p:stCondLst>
                              <p:cond delay="0"/>
                            </p:stCondLst>
                            <p:childTnLst>
                              <p:par>
                                <p:cTn id="2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5" fill="hold">
                      <p:stCondLst>
                        <p:cond delay="indefinite"/>
                      </p:stCondLst>
                      <p:childTnLst>
                        <p:par>
                          <p:cTn id="2906" fill="hold">
                            <p:stCondLst>
                              <p:cond delay="0"/>
                            </p:stCondLst>
                            <p:childTnLst>
                              <p:par>
                                <p:cTn id="2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7" fill="hold">
                      <p:stCondLst>
                        <p:cond delay="indefinite"/>
                      </p:stCondLst>
                      <p:childTnLst>
                        <p:par>
                          <p:cTn id="2918" fill="hold">
                            <p:stCondLst>
                              <p:cond delay="0"/>
                            </p:stCondLst>
                            <p:childTnLst>
                              <p:par>
                                <p:cTn id="2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1" fill="hold">
                      <p:stCondLst>
                        <p:cond delay="indefinite"/>
                      </p:stCondLst>
                      <p:childTnLst>
                        <p:par>
                          <p:cTn id="2922" fill="hold">
                            <p:stCondLst>
                              <p:cond delay="0"/>
                            </p:stCondLst>
                            <p:childTnLst>
                              <p:par>
                                <p:cTn id="2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3" fill="hold">
                      <p:stCondLst>
                        <p:cond delay="indefinite"/>
                      </p:stCondLst>
                      <p:childTnLst>
                        <p:par>
                          <p:cTn id="2934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asic facts – groups of 2, 3, 4, 5, 1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684360" y="98100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547640" y="98100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91636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3565440" y="981000"/>
            <a:ext cx="79056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124000" y="90792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2197080" y="98100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68256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154620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2914560" y="18446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212256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3564000" y="177156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3637080" y="1844640"/>
            <a:ext cx="7189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3564000" y="2708280"/>
            <a:ext cx="79200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1547640" y="27082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2916360" y="2708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212400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684360" y="263700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757080" y="270828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68436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547640" y="36464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291636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3565440" y="3646440"/>
            <a:ext cx="79056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2124000" y="357336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2197080" y="364644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8256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154620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914560" y="45100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212256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3564000" y="443700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3637080" y="4510080"/>
            <a:ext cx="7189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3565440" y="5373720"/>
            <a:ext cx="79056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1547640" y="537372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291636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12400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84360" y="530208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757080" y="537372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5078520" y="1052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5942160" y="1052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7451640" y="1052640"/>
            <a:ext cx="4334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7959600" y="1052640"/>
            <a:ext cx="7891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6518160" y="979560"/>
            <a:ext cx="8622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591240" y="1052640"/>
            <a:ext cx="7174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076720" y="1916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5940360" y="1916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7308720" y="19162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516720" y="1916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7958160" y="1843200"/>
            <a:ext cx="86184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8031240" y="1916280"/>
            <a:ext cx="7174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7959600" y="277956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5942160" y="277956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7310520" y="277956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518160" y="277956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5078520" y="270828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5151600" y="2779560"/>
            <a:ext cx="576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507672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594036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7308720" y="36464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795816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"/>
          <p:cNvSpPr/>
          <p:nvPr/>
        </p:nvSpPr>
        <p:spPr>
          <a:xfrm>
            <a:off x="6516720" y="357336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"/>
          <p:cNvSpPr/>
          <p:nvPr/>
        </p:nvSpPr>
        <p:spPr>
          <a:xfrm>
            <a:off x="6589800" y="364644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"/>
          <p:cNvSpPr/>
          <p:nvPr/>
        </p:nvSpPr>
        <p:spPr>
          <a:xfrm>
            <a:off x="5075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"/>
          <p:cNvSpPr/>
          <p:nvPr/>
        </p:nvSpPr>
        <p:spPr>
          <a:xfrm>
            <a:off x="593892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"/>
          <p:cNvSpPr/>
          <p:nvPr/>
        </p:nvSpPr>
        <p:spPr>
          <a:xfrm>
            <a:off x="730728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"/>
          <p:cNvSpPr/>
          <p:nvPr/>
        </p:nvSpPr>
        <p:spPr>
          <a:xfrm>
            <a:off x="6515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7956720" y="4437000"/>
            <a:ext cx="8632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8029440" y="4510080"/>
            <a:ext cx="7192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795816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>
            <a:off x="594036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"/>
          <p:cNvSpPr/>
          <p:nvPr/>
        </p:nvSpPr>
        <p:spPr>
          <a:xfrm>
            <a:off x="7308720" y="537372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"/>
          <p:cNvSpPr/>
          <p:nvPr/>
        </p:nvSpPr>
        <p:spPr>
          <a:xfrm>
            <a:off x="651672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"/>
          <p:cNvSpPr/>
          <p:nvPr/>
        </p:nvSpPr>
        <p:spPr>
          <a:xfrm>
            <a:off x="5076720" y="5302080"/>
            <a:ext cx="7192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"/>
          <p:cNvSpPr/>
          <p:nvPr/>
        </p:nvSpPr>
        <p:spPr>
          <a:xfrm>
            <a:off x="5149800" y="537372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7" dur="indefinite" restart="never" nodeType="tmRoot">
          <p:childTnLst>
            <p:seq>
              <p:cTn id="2938" dur="indefinite" nodeType="mainSeq">
                <p:childTnLst>
                  <p:par>
                    <p:cTn id="2939" fill="hold">
                      <p:stCondLst>
                        <p:cond delay="indefinite"/>
                      </p:stCondLst>
                      <p:childTnLst>
                        <p:par>
                          <p:cTn id="2940" fill="hold">
                            <p:stCondLst>
                              <p:cond delay="0"/>
                            </p:stCondLst>
                            <p:childTnLst>
                              <p:par>
                                <p:cTn id="2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1" fill="hold">
                      <p:stCondLst>
                        <p:cond delay="indefinite"/>
                      </p:stCondLst>
                      <p:childTnLst>
                        <p:par>
                          <p:cTn id="2952" fill="hold">
                            <p:stCondLst>
                              <p:cond delay="0"/>
                            </p:stCondLst>
                            <p:childTnLst>
                              <p:par>
                                <p:cTn id="2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5" fill="hold">
                      <p:stCondLst>
                        <p:cond delay="indefinite"/>
                      </p:stCondLst>
                      <p:childTnLst>
                        <p:par>
                          <p:cTn id="2956" fill="hold">
                            <p:stCondLst>
                              <p:cond delay="0"/>
                            </p:stCondLst>
                            <p:childTnLst>
                              <p:par>
                                <p:cTn id="2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7" fill="hold">
                      <p:stCondLst>
                        <p:cond delay="indefinite"/>
                      </p:stCondLst>
                      <p:childTnLst>
                        <p:par>
                          <p:cTn id="2968" fill="hold">
                            <p:stCondLst>
                              <p:cond delay="0"/>
                            </p:stCondLst>
                            <p:childTnLst>
                              <p:par>
                                <p:cTn id="2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1" fill="hold">
                      <p:stCondLst>
                        <p:cond delay="indefinite"/>
                      </p:stCondLst>
                      <p:childTnLst>
                        <p:par>
                          <p:cTn id="2972" fill="hold">
                            <p:stCondLst>
                              <p:cond delay="0"/>
                            </p:stCondLst>
                            <p:childTnLst>
                              <p:par>
                                <p:cTn id="2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3" fill="hold">
                      <p:stCondLst>
                        <p:cond delay="indefinite"/>
                      </p:stCondLst>
                      <p:childTnLst>
                        <p:par>
                          <p:cTn id="2984" fill="hold">
                            <p:stCondLst>
                              <p:cond delay="0"/>
                            </p:stCondLst>
                            <p:childTnLst>
                              <p:par>
                                <p:cTn id="2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7" fill="hold">
                      <p:stCondLst>
                        <p:cond delay="indefinite"/>
                      </p:stCondLst>
                      <p:childTnLst>
                        <p:par>
                          <p:cTn id="2988" fill="hold">
                            <p:stCondLst>
                              <p:cond delay="0"/>
                            </p:stCondLst>
                            <p:childTnLst>
                              <p:par>
                                <p:cTn id="2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3" fill="hold">
                      <p:stCondLst>
                        <p:cond delay="indefinite"/>
                      </p:stCondLst>
                      <p:childTnLst>
                        <p:par>
                          <p:cTn id="3004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fill="hold">
                      <p:stCondLst>
                        <p:cond delay="indefinite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fill="hold">
                      <p:stCondLst>
                        <p:cond delay="indefinite"/>
                      </p:stCondLst>
                      <p:childTnLst>
                        <p:par>
                          <p:cTn id="3020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5" fill="hold">
                      <p:stCondLst>
                        <p:cond delay="indefinite"/>
                      </p:stCondLst>
                      <p:childTnLst>
                        <p:par>
                          <p:cTn id="3036" fill="hold">
                            <p:stCondLst>
                              <p:cond delay="0"/>
                            </p:stCondLst>
                            <p:childTnLst>
                              <p:par>
                                <p:cTn id="3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fill="hold">
                      <p:stCondLst>
                        <p:cond delay="indefinite"/>
                      </p:stCondLst>
                      <p:childTnLst>
                        <p:par>
                          <p:cTn id="3048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1" fill="hold">
                      <p:stCondLst>
                        <p:cond delay="indefinite"/>
                      </p:stCondLst>
                      <p:childTnLst>
                        <p:par>
                          <p:cTn id="3052" fill="hold">
                            <p:stCondLst>
                              <p:cond delay="0"/>
                            </p:stCondLst>
                            <p:childTnLst>
                              <p:par>
                                <p:cTn id="3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3" fill="hold">
                      <p:stCondLst>
                        <p:cond delay="indefinite"/>
                      </p:stCondLst>
                      <p:childTnLst>
                        <p:par>
                          <p:cTn id="3064" fill="hold">
                            <p:stCondLst>
                              <p:cond delay="0"/>
                            </p:stCondLst>
                            <p:childTnLst>
                              <p:par>
                                <p:cTn id="3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fill="hold">
                      <p:stCondLst>
                        <p:cond delay="indefinite"/>
                      </p:stCondLst>
                      <p:childTnLst>
                        <p:par>
                          <p:cTn id="3068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9" fill="hold">
                      <p:stCondLst>
                        <p:cond delay="indefinite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3" fill="hold">
                      <p:stCondLst>
                        <p:cond delay="indefinite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fill="hold">
                      <p:stCondLst>
                        <p:cond delay="indefinite"/>
                      </p:stCondLst>
                      <p:childTnLst>
                        <p:par>
                          <p:cTn id="3096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9" fill="hold">
                      <p:stCondLst>
                        <p:cond delay="indefinite"/>
                      </p:stCondLst>
                      <p:childTnLst>
                        <p:par>
                          <p:cTn id="3100" fill="hold">
                            <p:stCondLst>
                              <p:cond delay="0"/>
                            </p:stCondLst>
                            <p:childTnLst>
                              <p:par>
                                <p:cTn id="3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1" fill="hold">
                      <p:stCondLst>
                        <p:cond delay="indefinite"/>
                      </p:stCondLst>
                      <p:childTnLst>
                        <p:par>
                          <p:cTn id="3112" fill="hold">
                            <p:stCondLst>
                              <p:cond delay="0"/>
                            </p:stCondLst>
                            <p:childTnLst>
                              <p:par>
                                <p:cTn id="3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5" fill="hold">
                      <p:stCondLst>
                        <p:cond delay="indefinite"/>
                      </p:stCondLst>
                      <p:childTnLst>
                        <p:par>
                          <p:cTn id="3116" fill="hold">
                            <p:stCondLst>
                              <p:cond delay="0"/>
                            </p:stCondLst>
                            <p:childTnLst>
                              <p:par>
                                <p:cTn id="3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7" fill="hold">
                      <p:stCondLst>
                        <p:cond delay="indefinite"/>
                      </p:stCondLst>
                      <p:childTnLst>
                        <p:par>
                          <p:cTn id="3128" fill="hold">
                            <p:stCondLst>
                              <p:cond delay="0"/>
                            </p:stCondLst>
                            <p:childTnLst>
                              <p:par>
                                <p:cTn id="3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solidFill>
            <a:srgbClr val="99cc00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ffffff"/>
                </a:solidFill>
                <a:latin typeface="Arial"/>
              </a:rPr>
              <a:t>Ripper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ffffff"/>
                </a:solidFill>
                <a:latin typeface="Arial"/>
              </a:rPr>
              <a:t>On to the next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ffffff"/>
                </a:solidFill>
                <a:latin typeface="Arial"/>
              </a:rPr>
              <a:t>level !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rite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83664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( Write these numbers on the whiteboard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27640" y="3068640"/>
            <a:ext cx="3816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seven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87280" y="3933720"/>
            <a:ext cx="3240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eighty-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3068640"/>
            <a:ext cx="27367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forty-n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92360" y="2276640"/>
            <a:ext cx="25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sixty-f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341360"/>
            <a:ext cx="31687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thirty-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16360" y="1268280"/>
            <a:ext cx="2519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fif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5877000"/>
            <a:ext cx="31687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seventy-si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84720" y="4941720"/>
            <a:ext cx="35272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one hundr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79280" y="4797360"/>
            <a:ext cx="36007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twenty-s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148360" y="3933720"/>
            <a:ext cx="3600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fifty-e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80000" y="2133720"/>
            <a:ext cx="3024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ninety-n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76720" y="5805360"/>
            <a:ext cx="33829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el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unts Groups of Objects to fif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98100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35640" y="836640"/>
            <a:ext cx="3240000" cy="13136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87280" y="4005360"/>
            <a:ext cx="3097440" cy="1923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76360" y="907920"/>
            <a:ext cx="2664000" cy="10688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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2637000"/>
            <a:ext cx="2663640" cy="947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00720" y="4581360"/>
            <a:ext cx="22320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</a:t>
            </a:r>
            <a:r>
              <a:rPr b="0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76720" y="2565360"/>
            <a:ext cx="3672000" cy="9169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</a:t>
            </a:r>
            <a:r>
              <a:rPr b="0" lang="en-NZ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</a:t>
            </a: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</a:t>
            </a:r>
            <a:r>
              <a:rPr b="0" lang="en-NZ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</a:t>
            </a: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</a:t>
            </a:r>
            <a:r>
              <a:rPr b="0" lang="en-NZ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</a:t>
            </a: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</a:t>
            </a:r>
            <a:r>
              <a:rPr b="0" lang="en-NZ" sz="1800" spc="-1" strike="noStrike">
                <a:solidFill>
                  <a:srgbClr val="000000"/>
                </a:solidFill>
                <a:latin typeface="Webdings"/>
                <a:ea typeface="Webdings"/>
              </a:rPr>
              <a:t></a:t>
            </a:r>
            <a:r>
              <a:rPr b="0" lang="en-NZ" sz="1800" spc="-1" strike="noStrike">
                <a:solidFill>
                  <a:srgbClr val="3366ff"/>
                </a:solidFill>
                <a:latin typeface="Webdings"/>
                <a:ea typeface="Webdings"/>
              </a:rPr>
              <a:t>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125360"/>
            <a:ext cx="792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2781360"/>
            <a:ext cx="79200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4653000"/>
            <a:ext cx="79200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5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5013360"/>
            <a:ext cx="792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211640" y="2924280"/>
            <a:ext cx="79200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27640" y="1197000"/>
            <a:ext cx="79200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3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9640" y="98100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atches Numerals and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98100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765000"/>
            <a:ext cx="2663640" cy="192276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508640"/>
            <a:ext cx="2520720" cy="192348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907920"/>
            <a:ext cx="2017440" cy="1556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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2852640"/>
            <a:ext cx="2663640" cy="947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940360" y="4581360"/>
            <a:ext cx="2808360" cy="1159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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3141720"/>
            <a:ext cx="266400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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2708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67280" y="2708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3640" y="2708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443700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67280" y="443700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3640" y="443700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2360" y="357336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67280" y="357336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357336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8.67052E-007 L -0.26372 -0.20832 E">
                                      <p:cBhvr>
                                        <p:cTn id="19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71676E-006 L 0.31493 -0.03168 E">
                                      <p:cBhvr>
                                        <p:cTn id="204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71676E-006 L -0.43316 0.22011 E">
                                      <p:cBhvr>
                                        <p:cTn id="212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71676E-006 L -0.41736 -0.22035 E">
                                      <p:cBhvr>
                                        <p:cTn id="220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4509E-006 L 0.33073 -0.42982 E">
                                      <p:cBhvr>
                                        <p:cTn id="22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71676E-006 L 0.33854 0.35653 E">
                                      <p:cBhvr>
                                        <p:cTn id="23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ames number 1 gr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62064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162864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2708280"/>
            <a:ext cx="8632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1052640"/>
            <a:ext cx="649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2421000"/>
            <a:ext cx="7905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3429000"/>
            <a:ext cx="648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789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00360" y="4581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79640" y="5805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4941720"/>
            <a:ext cx="865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587700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407664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3280" y="177336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292428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88000" y="494172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93080" y="292428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00720" y="4941720"/>
            <a:ext cx="8632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90792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51640" y="595008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08720" y="177336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020000" y="4005360"/>
            <a:ext cx="9367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92360" y="162864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27082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3789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40720" y="292428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101080" y="177336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35640" y="177336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59640" y="90792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08360" y="105264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62064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242100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4581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16000" y="4941720"/>
            <a:ext cx="115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56720" y="4005360"/>
            <a:ext cx="1008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172360" y="59500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342900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494172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494172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587700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5805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9640" y="407664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292428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ames number 1 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47628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162864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2708280"/>
            <a:ext cx="8632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3280" y="1052640"/>
            <a:ext cx="865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42100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11280" y="3429000"/>
            <a:ext cx="648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3789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4581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79640" y="5805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4941720"/>
            <a:ext cx="8985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587700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407664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177336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292428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88000" y="494172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77080" y="292428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494172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67280" y="90792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51640" y="595008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08720" y="177336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236000" y="4005360"/>
            <a:ext cx="936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2360" y="162864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27082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3789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740720" y="292428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101080" y="177336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35640" y="177336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59640" y="90792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08360" y="1052640"/>
            <a:ext cx="1008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1640" y="47628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242100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4581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87280" y="4941720"/>
            <a:ext cx="1081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172360" y="4005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72360" y="59500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59280" y="342900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64000" y="494172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08720" y="494172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3280" y="587700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71640" y="5805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19640" y="407664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1640" y="292428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rders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5734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mallest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48360" y="5661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biggest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95640" y="206064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1773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08000" y="62064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96360" y="90792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35002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92720" y="328464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40360" y="148428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342900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96360" y="342900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56360" y="206064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5661000"/>
          <a:ext cx="8229600" cy="465120"/>
        </p:xfrm>
        <a:graphic>
          <a:graphicData uri="http://schemas.openxmlformats.org/drawingml/2006/table"/>
        </a:graphic>
      </p:graphicFrame>
      <p:sp>
        <p:nvSpPr>
          <p:cNvPr id="215" name=""/>
          <p:cNvSpPr/>
          <p:nvPr/>
        </p:nvSpPr>
        <p:spPr>
          <a:xfrm>
            <a:off x="611280" y="4724280"/>
            <a:ext cx="79200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64000" y="4724280"/>
            <a:ext cx="79236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4724280"/>
            <a:ext cx="79200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5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80000" y="4724280"/>
            <a:ext cx="79200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4724280"/>
            <a:ext cx="79236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3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4724280"/>
            <a:ext cx="79200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03280" y="4724280"/>
            <a:ext cx="79236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56360" y="4724280"/>
            <a:ext cx="79200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7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740720" y="4724280"/>
            <a:ext cx="79200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9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48360" y="4724280"/>
            <a:ext cx="79236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8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0:56:15Z</dcterms:created>
  <dc:creator>Ministry of Education</dc:creator>
  <dc:description/>
  <dc:language>en-US</dc:language>
  <cp:lastModifiedBy>Ministry of Education</cp:lastModifiedBy>
  <dcterms:modified xsi:type="dcterms:W3CDTF">2008-05-03T00:00:41Z</dcterms:modified>
  <cp:revision>20</cp:revision>
  <dc:subject/>
  <dc:title>Mathematics  Diagnostic Number Knowledge  Numbers 1-20</dc:title>
</cp:coreProperties>
</file>