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C3586-E2DB-42C8-9A32-303A0685F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55C77-3508-465A-AD40-5630AB237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D52A5-2909-4B99-8E0D-005AA69ED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BFBAF-69B9-4D61-8219-98EF22954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492FA-BC75-4E44-8C36-D8FDFB6D1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166F6-C357-40D8-8284-A4D4CEB33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48EF5-193B-4F6C-A747-4D7A7E7F7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A1D00-A719-42C8-93D1-EDD3803B9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A3733-E72B-481C-99DD-377838EF7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D5834-1E00-4ED4-BC35-64E8EE548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09864-88A1-40B4-8407-A2212C165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21106-0886-4E02-AB71-DAA9399C7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B7B64-4A34-45B2-B53C-FB3BCA5789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907560"/>
            <a:ext cx="7772400" cy="27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7200" spc="-1" strike="noStrike">
                <a:solidFill>
                  <a:srgbClr val="000000"/>
                </a:solidFill>
                <a:latin typeface="Arial"/>
              </a:rPr>
              <a:t>What the heck does that mean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St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Emergent - Diagno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73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What comes befo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556000" y="1125360"/>
            <a:ext cx="863640" cy="1557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96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732720" y="4724280"/>
            <a:ext cx="863640" cy="1557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96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4932360" y="1125360"/>
            <a:ext cx="863640" cy="1557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96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84360" y="4653000"/>
            <a:ext cx="863280" cy="1557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96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3851280" y="4653000"/>
            <a:ext cx="863640" cy="1557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96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7020000" y="1125360"/>
            <a:ext cx="863640" cy="1557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96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95280" y="1125360"/>
            <a:ext cx="863640" cy="1557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96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6156360" y="2852640"/>
            <a:ext cx="863640" cy="1557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96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3851280" y="2924280"/>
            <a:ext cx="863640" cy="1557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96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1547640" y="2924280"/>
            <a:ext cx="863640" cy="1557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96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1332000" y="1125360"/>
            <a:ext cx="863640" cy="155700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9600" spc="-1" strike="noStrike">
                <a:solidFill>
                  <a:srgbClr val="ffff00"/>
                </a:solidFill>
                <a:latin typeface="Arial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492360" y="1125360"/>
            <a:ext cx="863640" cy="155700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9600" spc="-1" strike="noStrike">
                <a:solidFill>
                  <a:srgbClr val="ffff00"/>
                </a:solidFill>
                <a:latin typeface="Arial"/>
              </a:rPr>
              <a:t>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867280" y="1125360"/>
            <a:ext cx="863640" cy="155700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9600" spc="-1" strike="noStrike">
                <a:solidFill>
                  <a:srgbClr val="ffff00"/>
                </a:solidFill>
                <a:latin typeface="Arial"/>
              </a:rPr>
              <a:t>5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7093080" y="2852640"/>
            <a:ext cx="1726920" cy="155700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9600" spc="-1" strike="noStrike">
                <a:solidFill>
                  <a:srgbClr val="ffff00"/>
                </a:solidFill>
                <a:latin typeface="Arial"/>
              </a:rPr>
              <a:t>1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2484360" y="2924280"/>
            <a:ext cx="863640" cy="155700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9600" spc="-1" strike="noStrike">
                <a:solidFill>
                  <a:srgbClr val="ffff00"/>
                </a:solidFill>
                <a:latin typeface="Arial"/>
              </a:rPr>
              <a:t>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4788000" y="2924280"/>
            <a:ext cx="863640" cy="155700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9600" spc="-1" strike="noStrike">
                <a:solidFill>
                  <a:srgbClr val="ffff00"/>
                </a:solidFill>
                <a:latin typeface="Arial"/>
              </a:rPr>
              <a:t>6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956720" y="1125360"/>
            <a:ext cx="863280" cy="155700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9600" spc="-1" strike="noStrike">
                <a:solidFill>
                  <a:srgbClr val="ffff00"/>
                </a:solidFill>
                <a:latin typeface="Arial"/>
              </a:rPr>
              <a:t>8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1619280" y="4653000"/>
            <a:ext cx="863640" cy="155700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9600" spc="-1" strike="noStrike">
                <a:solidFill>
                  <a:srgbClr val="ffff00"/>
                </a:solidFill>
                <a:latin typeface="Arial"/>
              </a:rPr>
              <a:t>9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4788000" y="4653000"/>
            <a:ext cx="863640" cy="155700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9600" spc="-1" strike="noStrike">
                <a:solidFill>
                  <a:srgbClr val="ffff00"/>
                </a:solidFill>
                <a:latin typeface="Arial"/>
              </a:rPr>
              <a:t>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4724280"/>
            <a:ext cx="863640" cy="155700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9600" spc="-1" strike="noStrike">
                <a:solidFill>
                  <a:srgbClr val="ffff00"/>
                </a:solidFill>
                <a:latin typeface="Arial"/>
              </a:rPr>
              <a:t>7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5" dur="indefinite" restart="never" nodeType="tmRoot">
          <p:childTnLst>
            <p:seq>
              <p:cTn id="726" dur="indefinite" nodeType="mainSeq">
                <p:childTnLst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73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Counts backwar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39640" y="1916280"/>
            <a:ext cx="863640" cy="1557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96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5148360" y="2276640"/>
            <a:ext cx="863640" cy="1557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96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132000" y="3933720"/>
            <a:ext cx="863640" cy="1557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96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164360" y="2349360"/>
            <a:ext cx="863640" cy="1557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96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124000" y="4653000"/>
            <a:ext cx="863640" cy="1557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96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6156360" y="1844640"/>
            <a:ext cx="863640" cy="1557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96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179280" y="189000"/>
            <a:ext cx="863640" cy="1557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96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8101080" y="3573360"/>
            <a:ext cx="863640" cy="1557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96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140360" y="3068640"/>
            <a:ext cx="863280" cy="1557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96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1116000" y="3573360"/>
            <a:ext cx="863640" cy="1557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96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" descr=""/>
          <p:cNvPicPr/>
          <p:nvPr/>
        </p:nvPicPr>
        <p:blipFill>
          <a:blip r:embed="rId1"/>
          <a:stretch/>
        </p:blipFill>
        <p:spPr>
          <a:xfrm flipH="1">
            <a:off x="2340000" y="7461360"/>
            <a:ext cx="1200240" cy="214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7" dur="indefinite" restart="never" nodeType="tmRoot">
          <p:childTnLst>
            <p:seq>
              <p:cTn id="768" dur="indefinite" nodeType="mainSeq">
                <p:childTnLst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6041 -0.14613 L 0.58003 -1.45688 E">
                                      <p:cBhvr>
                                        <p:cTn id="812" dur="5000" fill="hold"/>
                                        <p:tgtEl>
                                          <p:spTgt spid="3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826920" y="765000"/>
            <a:ext cx="7561440" cy="5616720"/>
          </a:xfrm>
          <a:prstGeom prst="rect">
            <a:avLst/>
          </a:prstGeom>
          <a:solidFill>
            <a:srgbClr val="bbe0e3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1763640" y="4653000"/>
            <a:ext cx="863640" cy="1612800"/>
          </a:xfrm>
          <a:prstGeom prst="rect">
            <a:avLst/>
          </a:prstGeom>
          <a:solidFill>
            <a:srgbClr val="ccff33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2916360" y="4653000"/>
            <a:ext cx="863640" cy="1612800"/>
          </a:xfrm>
          <a:prstGeom prst="rect">
            <a:avLst/>
          </a:prstGeom>
          <a:solidFill>
            <a:srgbClr val="ccff33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4067280" y="4653000"/>
            <a:ext cx="863640" cy="1612800"/>
          </a:xfrm>
          <a:prstGeom prst="rect">
            <a:avLst/>
          </a:prstGeom>
          <a:solidFill>
            <a:srgbClr val="ccff33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219640" y="4653000"/>
            <a:ext cx="863640" cy="1612800"/>
          </a:xfrm>
          <a:prstGeom prst="rect">
            <a:avLst/>
          </a:prstGeom>
          <a:solidFill>
            <a:srgbClr val="ccff33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372360" y="4653000"/>
            <a:ext cx="863640" cy="1612800"/>
          </a:xfrm>
          <a:prstGeom prst="rect">
            <a:avLst/>
          </a:prstGeom>
          <a:solidFill>
            <a:srgbClr val="ccff33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5" name=""/>
          <p:cNvGrpSpPr/>
          <p:nvPr/>
        </p:nvGrpSpPr>
        <p:grpSpPr>
          <a:xfrm>
            <a:off x="2843280" y="3429000"/>
            <a:ext cx="1224000" cy="2409480"/>
            <a:chOff x="2843280" y="3429000"/>
            <a:chExt cx="1224000" cy="2409480"/>
          </a:xfrm>
        </p:grpSpPr>
        <p:grpSp>
          <p:nvGrpSpPr>
            <p:cNvPr id="386" name=""/>
            <p:cNvGrpSpPr/>
            <p:nvPr/>
          </p:nvGrpSpPr>
          <p:grpSpPr>
            <a:xfrm>
              <a:off x="2843280" y="3429000"/>
              <a:ext cx="1224000" cy="2409480"/>
              <a:chOff x="2843280" y="3429000"/>
              <a:chExt cx="1224000" cy="2409480"/>
            </a:xfrm>
          </p:grpSpPr>
          <p:sp>
            <p:nvSpPr>
              <p:cNvPr id="387" name=""/>
              <p:cNvSpPr/>
              <p:nvPr/>
            </p:nvSpPr>
            <p:spPr>
              <a:xfrm>
                <a:off x="2843280" y="3429000"/>
                <a:ext cx="122400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NZ" sz="4000" spc="-1" strike="noStrike">
                    <a:solidFill>
                      <a:srgbClr val="000000"/>
                    </a:solidFill>
                    <a:latin typeface="Arial"/>
                  </a:rPr>
                  <a:t>joi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3059280" y="5013360"/>
                <a:ext cx="57600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9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NZ" sz="4800" spc="-1" strike="noStrike">
                    <a:solidFill>
                      <a:srgbClr val="000000"/>
                    </a:solidFill>
                    <a:latin typeface="Arial"/>
                  </a:rPr>
                  <a:t>+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9" name=""/>
            <p:cNvSpPr/>
            <p:nvPr/>
          </p:nvSpPr>
          <p:spPr>
            <a:xfrm>
              <a:off x="3276720" y="4076640"/>
              <a:ext cx="0" cy="4320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0" name=""/>
          <p:cNvGrpSpPr/>
          <p:nvPr/>
        </p:nvGrpSpPr>
        <p:grpSpPr>
          <a:xfrm>
            <a:off x="4859280" y="3429000"/>
            <a:ext cx="1871280" cy="2409480"/>
            <a:chOff x="4859280" y="3429000"/>
            <a:chExt cx="1871280" cy="2409480"/>
          </a:xfrm>
        </p:grpSpPr>
        <p:grpSp>
          <p:nvGrpSpPr>
            <p:cNvPr id="391" name=""/>
            <p:cNvGrpSpPr/>
            <p:nvPr/>
          </p:nvGrpSpPr>
          <p:grpSpPr>
            <a:xfrm>
              <a:off x="4859280" y="3429000"/>
              <a:ext cx="1871280" cy="2409480"/>
              <a:chOff x="4859280" y="3429000"/>
              <a:chExt cx="1871280" cy="2409480"/>
            </a:xfrm>
          </p:grpSpPr>
          <p:sp>
            <p:nvSpPr>
              <p:cNvPr id="392" name=""/>
              <p:cNvSpPr/>
              <p:nvPr/>
            </p:nvSpPr>
            <p:spPr>
              <a:xfrm>
                <a:off x="4859280" y="3429000"/>
                <a:ext cx="18712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NZ" sz="4000" spc="-1" strike="noStrike">
                    <a:solidFill>
                      <a:srgbClr val="000000"/>
                    </a:solidFill>
                    <a:latin typeface="Arial"/>
                  </a:rPr>
                  <a:t>makes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5189400" y="5013360"/>
                <a:ext cx="88056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9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NZ" sz="4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NZ" sz="4800" spc="-1" strike="noStrike">
                    <a:solidFill>
                      <a:srgbClr val="000000"/>
                    </a:solidFill>
                    <a:latin typeface="Arial"/>
                  </a:rPr>
                  <a:t>=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4" name=""/>
            <p:cNvSpPr/>
            <p:nvPr/>
          </p:nvSpPr>
          <p:spPr>
            <a:xfrm>
              <a:off x="5651640" y="4076640"/>
              <a:ext cx="0" cy="4320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5" name=""/>
          <p:cNvSpPr/>
          <p:nvPr/>
        </p:nvSpPr>
        <p:spPr>
          <a:xfrm>
            <a:off x="1476360" y="1197000"/>
            <a:ext cx="6481800" cy="2376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6443640" y="4941720"/>
            <a:ext cx="720720" cy="100836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6000" spc="-1" strike="noStrike">
                <a:solidFill>
                  <a:srgbClr val="9966ff"/>
                </a:solidFill>
                <a:latin typeface="Arial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4140360" y="4941720"/>
            <a:ext cx="720720" cy="100836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6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1835280" y="4941720"/>
            <a:ext cx="720720" cy="100836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6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 flipH="1">
            <a:off x="4572000" y="2565360"/>
            <a:ext cx="2232000" cy="18716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0" name=""/>
          <p:cNvGrpSpPr/>
          <p:nvPr/>
        </p:nvGrpSpPr>
        <p:grpSpPr>
          <a:xfrm>
            <a:off x="6804000" y="1557360"/>
            <a:ext cx="720720" cy="1870200"/>
            <a:chOff x="6804000" y="1557360"/>
            <a:chExt cx="720720" cy="1870200"/>
          </a:xfrm>
        </p:grpSpPr>
        <p:sp>
          <p:nvSpPr>
            <p:cNvPr id="401" name=""/>
            <p:cNvSpPr/>
            <p:nvPr/>
          </p:nvSpPr>
          <p:spPr>
            <a:xfrm>
              <a:off x="6804000" y="1557360"/>
              <a:ext cx="720720" cy="790560"/>
            </a:xfrm>
            <a:custGeom>
              <a:avLst/>
              <a:gdLst>
                <a:gd name="textAreaLeft" fmla="*/ 169200 w 720720"/>
                <a:gd name="textAreaRight" fmla="*/ 550800 w 720720"/>
                <a:gd name="textAreaTop" fmla="*/ 92880 h 790560"/>
                <a:gd name="textAreaBottom" fmla="*/ 496080 h 79056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04000" y="2637000"/>
              <a:ext cx="720720" cy="790560"/>
            </a:xfrm>
            <a:custGeom>
              <a:avLst/>
              <a:gdLst>
                <a:gd name="textAreaLeft" fmla="*/ 169200 w 720720"/>
                <a:gd name="textAreaRight" fmla="*/ 550800 w 720720"/>
                <a:gd name="textAreaTop" fmla="*/ 92880 h 790560"/>
                <a:gd name="textAreaBottom" fmla="*/ 496080 h 79056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3" name=""/>
          <p:cNvGrpSpPr/>
          <p:nvPr/>
        </p:nvGrpSpPr>
        <p:grpSpPr>
          <a:xfrm>
            <a:off x="1908000" y="1341360"/>
            <a:ext cx="1297080" cy="1941480"/>
            <a:chOff x="1908000" y="1341360"/>
            <a:chExt cx="1297080" cy="1941480"/>
          </a:xfrm>
        </p:grpSpPr>
        <p:sp>
          <p:nvSpPr>
            <p:cNvPr id="404" name=""/>
            <p:cNvSpPr/>
            <p:nvPr/>
          </p:nvSpPr>
          <p:spPr>
            <a:xfrm>
              <a:off x="1908000" y="1341360"/>
              <a:ext cx="721080" cy="790560"/>
            </a:xfrm>
            <a:custGeom>
              <a:avLst/>
              <a:gdLst>
                <a:gd name="textAreaLeft" fmla="*/ 169200 w 721080"/>
                <a:gd name="textAreaRight" fmla="*/ 551160 w 721080"/>
                <a:gd name="textAreaTop" fmla="*/ 92880 h 790560"/>
                <a:gd name="textAreaBottom" fmla="*/ 496080 h 79056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1908000" y="2492280"/>
              <a:ext cx="721080" cy="790560"/>
            </a:xfrm>
            <a:custGeom>
              <a:avLst/>
              <a:gdLst>
                <a:gd name="textAreaLeft" fmla="*/ 169200 w 721080"/>
                <a:gd name="textAreaRight" fmla="*/ 551160 w 721080"/>
                <a:gd name="textAreaTop" fmla="*/ 92880 h 790560"/>
                <a:gd name="textAreaBottom" fmla="*/ 496080 h 79056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484360" y="1916280"/>
              <a:ext cx="720720" cy="790560"/>
            </a:xfrm>
            <a:custGeom>
              <a:avLst/>
              <a:gdLst>
                <a:gd name="textAreaLeft" fmla="*/ 169200 w 720720"/>
                <a:gd name="textAreaRight" fmla="*/ 550800 w 720720"/>
                <a:gd name="textAreaTop" fmla="*/ 92880 h 790560"/>
                <a:gd name="textAreaBottom" fmla="*/ 496080 h 79056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7" name=""/>
          <p:cNvSpPr/>
          <p:nvPr/>
        </p:nvSpPr>
        <p:spPr>
          <a:xfrm>
            <a:off x="468360" y="0"/>
            <a:ext cx="822960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Adds numbers to 5 with mater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2124000" y="3357720"/>
            <a:ext cx="0" cy="11509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5076720" y="2637000"/>
            <a:ext cx="1582920" cy="1800000"/>
          </a:xfrm>
          <a:prstGeom prst="line">
            <a:avLst/>
          </a:prstGeom>
          <a:ln w="57240">
            <a:solidFill>
              <a:srgbClr val="99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3" dur="indefinite" restart="never" nodeType="tmRoot">
          <p:childTnLst>
            <p:seq>
              <p:cTn id="814" dur="indefinite" nodeType="mainSeq">
                <p:childTnLst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854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6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857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-3.2948E-006 L 0.19688 -3.2948E-006 E">
                                      <p:cBhvr>
                                        <p:cTn id="866" dur="2000" fill="hold"/>
                                        <p:tgtEl>
                                          <p:spTgt spid="4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7.5E-006 1.7341E-007 L -0.18126 1.7341E-007 E">
                                      <p:cBhvr>
                                        <p:cTn id="870" dur="2000" fill="hold"/>
                                        <p:tgtEl>
                                          <p:spTgt spid="4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/>
          <p:nvPr/>
        </p:nvSpPr>
        <p:spPr>
          <a:xfrm>
            <a:off x="468360" y="189000"/>
            <a:ext cx="822960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Adds numbers to 5 with mater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611280" y="1197000"/>
            <a:ext cx="863640" cy="1557000"/>
          </a:xfrm>
          <a:prstGeom prst="rect">
            <a:avLst/>
          </a:prstGeom>
          <a:solidFill>
            <a:srgbClr val="ccff33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96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763640" y="1197000"/>
            <a:ext cx="863640" cy="1557000"/>
          </a:xfrm>
          <a:prstGeom prst="rect">
            <a:avLst/>
          </a:prstGeom>
          <a:solidFill>
            <a:srgbClr val="ccff33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9600" spc="-1" strike="noStrike">
                <a:solidFill>
                  <a:srgbClr val="ff0000"/>
                </a:solidFill>
                <a:latin typeface="Arial"/>
              </a:rPr>
              <a:t>+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2914560" y="1197000"/>
            <a:ext cx="863640" cy="1557000"/>
          </a:xfrm>
          <a:prstGeom prst="rect">
            <a:avLst/>
          </a:prstGeom>
          <a:solidFill>
            <a:srgbClr val="ccff33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96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4067280" y="1197000"/>
            <a:ext cx="863640" cy="1557000"/>
          </a:xfrm>
          <a:prstGeom prst="rect">
            <a:avLst/>
          </a:prstGeom>
          <a:solidFill>
            <a:srgbClr val="ccff33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9600" spc="-1" strike="noStrike">
                <a:solidFill>
                  <a:srgbClr val="ff0000"/>
                </a:solidFill>
                <a:latin typeface="Arial"/>
              </a:rPr>
              <a:t>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5219640" y="1197000"/>
            <a:ext cx="863640" cy="1557000"/>
          </a:xfrm>
          <a:prstGeom prst="rect">
            <a:avLst/>
          </a:prstGeom>
          <a:solidFill>
            <a:srgbClr val="ccff33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96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611280" y="3068640"/>
            <a:ext cx="863640" cy="1557000"/>
          </a:xfrm>
          <a:prstGeom prst="rect">
            <a:avLst/>
          </a:prstGeom>
          <a:solidFill>
            <a:srgbClr val="ccff33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96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763640" y="3068640"/>
            <a:ext cx="863640" cy="1557000"/>
          </a:xfrm>
          <a:prstGeom prst="rect">
            <a:avLst/>
          </a:prstGeom>
          <a:solidFill>
            <a:srgbClr val="ccff33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9600" spc="-1" strike="noStrike">
                <a:solidFill>
                  <a:srgbClr val="ff0000"/>
                </a:solidFill>
                <a:latin typeface="Arial"/>
              </a:rPr>
              <a:t>+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2914560" y="3068640"/>
            <a:ext cx="863640" cy="1557000"/>
          </a:xfrm>
          <a:prstGeom prst="rect">
            <a:avLst/>
          </a:prstGeom>
          <a:solidFill>
            <a:srgbClr val="ccff33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96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4067280" y="3068640"/>
            <a:ext cx="863640" cy="1557000"/>
          </a:xfrm>
          <a:prstGeom prst="rect">
            <a:avLst/>
          </a:prstGeom>
          <a:solidFill>
            <a:srgbClr val="ccff33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9600" spc="-1" strike="noStrike">
                <a:solidFill>
                  <a:srgbClr val="ff0000"/>
                </a:solidFill>
                <a:latin typeface="Arial"/>
              </a:rPr>
              <a:t>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5219640" y="3068640"/>
            <a:ext cx="863640" cy="1557000"/>
          </a:xfrm>
          <a:prstGeom prst="rect">
            <a:avLst/>
          </a:prstGeom>
          <a:solidFill>
            <a:srgbClr val="ccff33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96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611280" y="4869000"/>
            <a:ext cx="863640" cy="1557000"/>
          </a:xfrm>
          <a:prstGeom prst="rect">
            <a:avLst/>
          </a:prstGeom>
          <a:solidFill>
            <a:srgbClr val="ccff33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96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1763640" y="4869000"/>
            <a:ext cx="863640" cy="1557000"/>
          </a:xfrm>
          <a:prstGeom prst="rect">
            <a:avLst/>
          </a:prstGeom>
          <a:solidFill>
            <a:srgbClr val="ccff33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9600" spc="-1" strike="noStrike">
                <a:solidFill>
                  <a:srgbClr val="ff0000"/>
                </a:solidFill>
                <a:latin typeface="Arial"/>
              </a:rPr>
              <a:t>+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2914560" y="4869000"/>
            <a:ext cx="863640" cy="1557000"/>
          </a:xfrm>
          <a:prstGeom prst="rect">
            <a:avLst/>
          </a:prstGeom>
          <a:solidFill>
            <a:srgbClr val="ccff33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96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4067280" y="4869000"/>
            <a:ext cx="863640" cy="1557000"/>
          </a:xfrm>
          <a:prstGeom prst="rect">
            <a:avLst/>
          </a:prstGeom>
          <a:solidFill>
            <a:srgbClr val="ccff33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9600" spc="-1" strike="noStrike">
                <a:solidFill>
                  <a:srgbClr val="ff0000"/>
                </a:solidFill>
                <a:latin typeface="Arial"/>
              </a:rPr>
              <a:t>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5219640" y="4869000"/>
            <a:ext cx="863640" cy="1557000"/>
          </a:xfrm>
          <a:prstGeom prst="rect">
            <a:avLst/>
          </a:prstGeom>
          <a:solidFill>
            <a:srgbClr val="ccff33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96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6300720" y="1341360"/>
            <a:ext cx="719280" cy="71928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7236000" y="1341360"/>
            <a:ext cx="718920" cy="71928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8101080" y="1341360"/>
            <a:ext cx="718920" cy="71928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6443640" y="3068640"/>
            <a:ext cx="576360" cy="50328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164360" y="3068640"/>
            <a:ext cx="576360" cy="50328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6443640" y="3933720"/>
            <a:ext cx="576360" cy="50328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7164360" y="3933720"/>
            <a:ext cx="576360" cy="50328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8101080" y="3429000"/>
            <a:ext cx="576360" cy="50328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6659640" y="5013360"/>
            <a:ext cx="504720" cy="576360"/>
          </a:xfrm>
          <a:prstGeom prst="ellipse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6659640" y="5734080"/>
            <a:ext cx="504720" cy="576360"/>
          </a:xfrm>
          <a:prstGeom prst="ellipse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7524720" y="5013360"/>
            <a:ext cx="504720" cy="576360"/>
          </a:xfrm>
          <a:prstGeom prst="ellipse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7524720" y="5734080"/>
            <a:ext cx="504720" cy="576360"/>
          </a:xfrm>
          <a:prstGeom prst="ellipse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3" dur="indefinite" restart="never" nodeType="tmRoot">
          <p:childTnLst>
            <p:seq>
              <p:cTn id="884" dur="indefinite" nodeType="mainSeq">
                <p:childTnLst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fill="hold">
                      <p:stCondLst>
                        <p:cond delay="indefinite"/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/>
          <p:nvPr/>
        </p:nvSpPr>
        <p:spPr>
          <a:xfrm>
            <a:off x="468360" y="0"/>
            <a:ext cx="822960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Takes away numbers to 5 with mater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826920" y="765000"/>
            <a:ext cx="7561440" cy="5616720"/>
          </a:xfrm>
          <a:prstGeom prst="rect">
            <a:avLst/>
          </a:prstGeom>
          <a:solidFill>
            <a:srgbClr val="bbe0e3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1763640" y="4653000"/>
            <a:ext cx="863640" cy="1612800"/>
          </a:xfrm>
          <a:prstGeom prst="rect">
            <a:avLst/>
          </a:prstGeom>
          <a:solidFill>
            <a:srgbClr val="ccff33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916360" y="4653000"/>
            <a:ext cx="863640" cy="1612800"/>
          </a:xfrm>
          <a:prstGeom prst="rect">
            <a:avLst/>
          </a:prstGeom>
          <a:solidFill>
            <a:srgbClr val="ccff33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4067280" y="4653000"/>
            <a:ext cx="863640" cy="1612800"/>
          </a:xfrm>
          <a:prstGeom prst="rect">
            <a:avLst/>
          </a:prstGeom>
          <a:solidFill>
            <a:srgbClr val="ccff33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5219640" y="4653000"/>
            <a:ext cx="863640" cy="1612800"/>
          </a:xfrm>
          <a:prstGeom prst="rect">
            <a:avLst/>
          </a:prstGeom>
          <a:solidFill>
            <a:srgbClr val="ccff33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6372360" y="4653000"/>
            <a:ext cx="863640" cy="1612800"/>
          </a:xfrm>
          <a:prstGeom prst="rect">
            <a:avLst/>
          </a:prstGeom>
          <a:solidFill>
            <a:srgbClr val="ccff33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5" name=""/>
          <p:cNvGrpSpPr/>
          <p:nvPr/>
        </p:nvGrpSpPr>
        <p:grpSpPr>
          <a:xfrm>
            <a:off x="2627280" y="3429000"/>
            <a:ext cx="1728000" cy="2409480"/>
            <a:chOff x="2627280" y="3429000"/>
            <a:chExt cx="1728000" cy="2409480"/>
          </a:xfrm>
        </p:grpSpPr>
        <p:grpSp>
          <p:nvGrpSpPr>
            <p:cNvPr id="446" name=""/>
            <p:cNvGrpSpPr/>
            <p:nvPr/>
          </p:nvGrpSpPr>
          <p:grpSpPr>
            <a:xfrm>
              <a:off x="2627280" y="3429000"/>
              <a:ext cx="1728000" cy="2409480"/>
              <a:chOff x="2627280" y="3429000"/>
              <a:chExt cx="1728000" cy="2409480"/>
            </a:xfrm>
          </p:grpSpPr>
          <p:sp>
            <p:nvSpPr>
              <p:cNvPr id="447" name=""/>
              <p:cNvSpPr/>
              <p:nvPr/>
            </p:nvSpPr>
            <p:spPr>
              <a:xfrm>
                <a:off x="2627280" y="3429000"/>
                <a:ext cx="1728000" cy="649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NZ" sz="2000" spc="-1" strike="noStrike">
                    <a:solidFill>
                      <a:srgbClr val="000000"/>
                    </a:solidFill>
                    <a:latin typeface="Arial"/>
                  </a:rPr>
                  <a:t>Take away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2932200" y="5013360"/>
                <a:ext cx="81324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9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NZ" sz="48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9" name=""/>
            <p:cNvSpPr/>
            <p:nvPr/>
          </p:nvSpPr>
          <p:spPr>
            <a:xfrm>
              <a:off x="3239280" y="4076640"/>
              <a:ext cx="0" cy="4320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0" name=""/>
          <p:cNvGrpSpPr/>
          <p:nvPr/>
        </p:nvGrpSpPr>
        <p:grpSpPr>
          <a:xfrm>
            <a:off x="4859280" y="3429000"/>
            <a:ext cx="1871280" cy="2409480"/>
            <a:chOff x="4859280" y="3429000"/>
            <a:chExt cx="1871280" cy="2409480"/>
          </a:xfrm>
        </p:grpSpPr>
        <p:grpSp>
          <p:nvGrpSpPr>
            <p:cNvPr id="451" name=""/>
            <p:cNvGrpSpPr/>
            <p:nvPr/>
          </p:nvGrpSpPr>
          <p:grpSpPr>
            <a:xfrm>
              <a:off x="4859280" y="3429000"/>
              <a:ext cx="1871280" cy="2409480"/>
              <a:chOff x="4859280" y="3429000"/>
              <a:chExt cx="1871280" cy="2409480"/>
            </a:xfrm>
          </p:grpSpPr>
          <p:sp>
            <p:nvSpPr>
              <p:cNvPr id="452" name=""/>
              <p:cNvSpPr/>
              <p:nvPr/>
            </p:nvSpPr>
            <p:spPr>
              <a:xfrm>
                <a:off x="4859280" y="3429000"/>
                <a:ext cx="1871280" cy="633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31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NZ" sz="2000" spc="-1" strike="noStrike">
                    <a:solidFill>
                      <a:srgbClr val="000000"/>
                    </a:solidFill>
                    <a:latin typeface="Arial"/>
                  </a:rPr>
                  <a:t>leave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5189400" y="5013360"/>
                <a:ext cx="880560" cy="825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9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NZ" sz="4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NZ" sz="4800" spc="-1" strike="noStrike">
                    <a:solidFill>
                      <a:srgbClr val="000000"/>
                    </a:solidFill>
                    <a:latin typeface="Arial"/>
                  </a:rPr>
                  <a:t>=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4" name=""/>
            <p:cNvSpPr/>
            <p:nvPr/>
          </p:nvSpPr>
          <p:spPr>
            <a:xfrm>
              <a:off x="5651640" y="4076640"/>
              <a:ext cx="0" cy="4320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1476360" y="1197000"/>
            <a:ext cx="6481800" cy="2376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835280" y="4941720"/>
            <a:ext cx="720720" cy="100836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60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4140360" y="4941720"/>
            <a:ext cx="720720" cy="100836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60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6443640" y="4941720"/>
            <a:ext cx="720720" cy="100836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60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5508720" y="1844640"/>
            <a:ext cx="1152360" cy="1149480"/>
          </a:xfrm>
          <a:custGeom>
            <a:avLst/>
            <a:gdLst>
              <a:gd name="textAreaLeft" fmla="*/ 270720 w 1152360"/>
              <a:gd name="textAreaRight" fmla="*/ 880920 w 1152360"/>
              <a:gd name="textAreaTop" fmla="*/ 135000 h 1149480"/>
              <a:gd name="textAreaBottom" fmla="*/ 721080 h 11494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24000" y="3357720"/>
            <a:ext cx="0" cy="11509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5076720" y="2637000"/>
            <a:ext cx="1582920" cy="1800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6732720" y="1844640"/>
            <a:ext cx="1152360" cy="1149480"/>
          </a:xfrm>
          <a:custGeom>
            <a:avLst/>
            <a:gdLst>
              <a:gd name="textAreaLeft" fmla="*/ 270720 w 1152360"/>
              <a:gd name="textAreaRight" fmla="*/ 880920 w 1152360"/>
              <a:gd name="textAreaTop" fmla="*/ 135000 h 1149480"/>
              <a:gd name="textAreaBottom" fmla="*/ 721080 h 11494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4211640" y="1773360"/>
            <a:ext cx="1152360" cy="1149120"/>
          </a:xfrm>
          <a:custGeom>
            <a:avLst/>
            <a:gdLst>
              <a:gd name="textAreaLeft" fmla="*/ 270720 w 1152360"/>
              <a:gd name="textAreaRight" fmla="*/ 880920 w 1152360"/>
              <a:gd name="textAreaTop" fmla="*/ 135000 h 1149120"/>
              <a:gd name="textAreaBottom" fmla="*/ 720720 h 114912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6360" y="1773360"/>
            <a:ext cx="1152360" cy="1149120"/>
          </a:xfrm>
          <a:custGeom>
            <a:avLst/>
            <a:gdLst>
              <a:gd name="textAreaLeft" fmla="*/ 270720 w 1152360"/>
              <a:gd name="textAreaRight" fmla="*/ 880920 w 1152360"/>
              <a:gd name="textAreaTop" fmla="*/ 135000 h 1149120"/>
              <a:gd name="textAreaBottom" fmla="*/ 720720 h 114912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1692360" y="1773360"/>
            <a:ext cx="1152360" cy="1149120"/>
          </a:xfrm>
          <a:custGeom>
            <a:avLst/>
            <a:gdLst>
              <a:gd name="textAreaLeft" fmla="*/ 270720 w 1152360"/>
              <a:gd name="textAreaRight" fmla="*/ 880920 w 1152360"/>
              <a:gd name="textAreaTop" fmla="*/ 135000 h 1149120"/>
              <a:gd name="textAreaBottom" fmla="*/ 720720 h 114912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 flipV="1">
            <a:off x="4500720" y="2852640"/>
            <a:ext cx="1223640" cy="1728720"/>
          </a:xfrm>
          <a:prstGeom prst="line">
            <a:avLst/>
          </a:prstGeom>
          <a:ln w="572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1" dur="indefinite" restart="never" nodeType="tmRoot">
          <p:childTnLst>
            <p:seq>
              <p:cTn id="972" dur="indefinite" nodeType="mainSeq">
                <p:childTnLst>
                  <p:par>
                    <p:cTn id="973" fill="hold">
                      <p:stCondLst>
                        <p:cond delay="indefinite"/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fill="hold">
                      <p:stCondLst>
                        <p:cond delay="indefinite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012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029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4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5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6" dur="200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7" dur="200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8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9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44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5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6" dur="200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7" dur="200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8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9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9" fill="hold">
                      <p:stCondLst>
                        <p:cond delay="indefinite"/>
                      </p:stCondLst>
                      <p:childTnLst>
                        <p:par>
                          <p:cTn id="1060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468360" y="189000"/>
            <a:ext cx="8229600" cy="76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000000"/>
                </a:solidFill>
                <a:latin typeface="Arial"/>
              </a:rPr>
              <a:t>Subtracts numbers to 5 with materia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611280" y="1197000"/>
            <a:ext cx="863640" cy="1557000"/>
          </a:xfrm>
          <a:prstGeom prst="rect">
            <a:avLst/>
          </a:prstGeom>
          <a:solidFill>
            <a:srgbClr val="ccff33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96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1763640" y="1197000"/>
            <a:ext cx="863640" cy="1557000"/>
          </a:xfrm>
          <a:prstGeom prst="rect">
            <a:avLst/>
          </a:prstGeom>
          <a:solidFill>
            <a:srgbClr val="ccff33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9600" spc="-1" strike="noStrike">
                <a:solidFill>
                  <a:srgbClr val="ff0000"/>
                </a:solidFill>
                <a:latin typeface="Arial"/>
              </a:rPr>
              <a:t>-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914560" y="1197000"/>
            <a:ext cx="863640" cy="1557000"/>
          </a:xfrm>
          <a:prstGeom prst="rect">
            <a:avLst/>
          </a:prstGeom>
          <a:solidFill>
            <a:srgbClr val="ccff33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96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4067280" y="1197000"/>
            <a:ext cx="863640" cy="1557000"/>
          </a:xfrm>
          <a:prstGeom prst="rect">
            <a:avLst/>
          </a:prstGeom>
          <a:solidFill>
            <a:srgbClr val="ccff33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9600" spc="-1" strike="noStrike">
                <a:solidFill>
                  <a:srgbClr val="ff0000"/>
                </a:solidFill>
                <a:latin typeface="Arial"/>
              </a:rPr>
              <a:t>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5219640" y="1197000"/>
            <a:ext cx="863640" cy="1557000"/>
          </a:xfrm>
          <a:prstGeom prst="rect">
            <a:avLst/>
          </a:prstGeom>
          <a:solidFill>
            <a:srgbClr val="ccff33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96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611280" y="3068640"/>
            <a:ext cx="863640" cy="1557000"/>
          </a:xfrm>
          <a:prstGeom prst="rect">
            <a:avLst/>
          </a:prstGeom>
          <a:solidFill>
            <a:srgbClr val="ccff33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96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1763640" y="3068640"/>
            <a:ext cx="863640" cy="1557000"/>
          </a:xfrm>
          <a:prstGeom prst="rect">
            <a:avLst/>
          </a:prstGeom>
          <a:solidFill>
            <a:srgbClr val="ccff33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9600" spc="-1" strike="noStrike">
                <a:solidFill>
                  <a:srgbClr val="ff0000"/>
                </a:solidFill>
                <a:latin typeface="Arial"/>
              </a:rPr>
              <a:t>-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2914560" y="3068640"/>
            <a:ext cx="863640" cy="1557000"/>
          </a:xfrm>
          <a:prstGeom prst="rect">
            <a:avLst/>
          </a:prstGeom>
          <a:solidFill>
            <a:srgbClr val="ccff33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96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4067280" y="3068640"/>
            <a:ext cx="863640" cy="1557000"/>
          </a:xfrm>
          <a:prstGeom prst="rect">
            <a:avLst/>
          </a:prstGeom>
          <a:solidFill>
            <a:srgbClr val="ccff33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9600" spc="-1" strike="noStrike">
                <a:solidFill>
                  <a:srgbClr val="ff0000"/>
                </a:solidFill>
                <a:latin typeface="Arial"/>
              </a:rPr>
              <a:t>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5219640" y="3068640"/>
            <a:ext cx="863640" cy="1557000"/>
          </a:xfrm>
          <a:prstGeom prst="rect">
            <a:avLst/>
          </a:prstGeom>
          <a:solidFill>
            <a:srgbClr val="ccff33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96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11280" y="4941720"/>
            <a:ext cx="863640" cy="1557000"/>
          </a:xfrm>
          <a:prstGeom prst="rect">
            <a:avLst/>
          </a:prstGeom>
          <a:solidFill>
            <a:srgbClr val="ccff33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96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1763640" y="4941720"/>
            <a:ext cx="863640" cy="1557000"/>
          </a:xfrm>
          <a:prstGeom prst="rect">
            <a:avLst/>
          </a:prstGeom>
          <a:solidFill>
            <a:srgbClr val="ccff33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9600" spc="-1" strike="noStrike">
                <a:solidFill>
                  <a:srgbClr val="ff0000"/>
                </a:solidFill>
                <a:latin typeface="Arial"/>
              </a:rPr>
              <a:t>-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14560" y="4941720"/>
            <a:ext cx="863640" cy="1557000"/>
          </a:xfrm>
          <a:prstGeom prst="rect">
            <a:avLst/>
          </a:prstGeom>
          <a:solidFill>
            <a:srgbClr val="ccff33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96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067280" y="4941720"/>
            <a:ext cx="863640" cy="1557000"/>
          </a:xfrm>
          <a:prstGeom prst="rect">
            <a:avLst/>
          </a:prstGeom>
          <a:solidFill>
            <a:srgbClr val="ccff33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9600" spc="-1" strike="noStrike">
                <a:solidFill>
                  <a:srgbClr val="ff0000"/>
                </a:solidFill>
                <a:latin typeface="Arial"/>
              </a:rPr>
              <a:t>=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5219640" y="4941720"/>
            <a:ext cx="863640" cy="1557000"/>
          </a:xfrm>
          <a:prstGeom prst="rect">
            <a:avLst/>
          </a:prstGeom>
          <a:solidFill>
            <a:srgbClr val="ccff33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96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6732720" y="1268280"/>
            <a:ext cx="576000" cy="57636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667640" y="1268280"/>
            <a:ext cx="576360" cy="57636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6732720" y="1989000"/>
            <a:ext cx="576000" cy="57636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7667640" y="1989000"/>
            <a:ext cx="576360" cy="57636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6732720" y="3141720"/>
            <a:ext cx="647640" cy="718920"/>
          </a:xfrm>
          <a:custGeom>
            <a:avLst/>
            <a:gdLst>
              <a:gd name="textAreaLeft" fmla="*/ 152280 w 647640"/>
              <a:gd name="textAreaRight" fmla="*/ 495000 w 647640"/>
              <a:gd name="textAreaTop" fmla="*/ 84240 h 718920"/>
              <a:gd name="textAreaBottom" fmla="*/ 451080 h 71892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308720" y="3645000"/>
            <a:ext cx="648000" cy="718920"/>
          </a:xfrm>
          <a:custGeom>
            <a:avLst/>
            <a:gdLst>
              <a:gd name="textAreaLeft" fmla="*/ 152280 w 648000"/>
              <a:gd name="textAreaRight" fmla="*/ 495360 w 648000"/>
              <a:gd name="textAreaTop" fmla="*/ 84240 h 718920"/>
              <a:gd name="textAreaBottom" fmla="*/ 451080 h 71892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7885080" y="4005360"/>
            <a:ext cx="647640" cy="718920"/>
          </a:xfrm>
          <a:custGeom>
            <a:avLst/>
            <a:gdLst>
              <a:gd name="textAreaLeft" fmla="*/ 152280 w 647640"/>
              <a:gd name="textAreaRight" fmla="*/ 495000 w 647640"/>
              <a:gd name="textAreaTop" fmla="*/ 84240 h 718920"/>
              <a:gd name="textAreaBottom" fmla="*/ 451080 h 71892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7885080" y="3141720"/>
            <a:ext cx="647640" cy="718920"/>
          </a:xfrm>
          <a:custGeom>
            <a:avLst/>
            <a:gdLst>
              <a:gd name="textAreaLeft" fmla="*/ 152280 w 647640"/>
              <a:gd name="textAreaRight" fmla="*/ 495000 w 647640"/>
              <a:gd name="textAreaTop" fmla="*/ 84240 h 718920"/>
              <a:gd name="textAreaBottom" fmla="*/ 451080 h 71892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6732720" y="4005360"/>
            <a:ext cx="647640" cy="718920"/>
          </a:xfrm>
          <a:custGeom>
            <a:avLst/>
            <a:gdLst>
              <a:gd name="textAreaLeft" fmla="*/ 152280 w 647640"/>
              <a:gd name="textAreaRight" fmla="*/ 495000 w 647640"/>
              <a:gd name="textAreaTop" fmla="*/ 84240 h 718920"/>
              <a:gd name="textAreaBottom" fmla="*/ 451080 h 71892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6804000" y="5300640"/>
            <a:ext cx="360360" cy="1008000"/>
          </a:xfrm>
          <a:prstGeom prst="can">
            <a:avLst>
              <a:gd name="adj" fmla="val 2500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7451640" y="5300640"/>
            <a:ext cx="360360" cy="1008000"/>
          </a:xfrm>
          <a:prstGeom prst="can">
            <a:avLst>
              <a:gd name="adj" fmla="val 2500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8101080" y="5300640"/>
            <a:ext cx="360360" cy="1008000"/>
          </a:xfrm>
          <a:prstGeom prst="can">
            <a:avLst>
              <a:gd name="adj" fmla="val 25000"/>
            </a:avLst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3" dur="indefinite" restart="never" nodeType="tmRoot">
          <p:childTnLst>
            <p:seq>
              <p:cTn id="1064" dur="indefinite" nodeType="mainSeq">
                <p:childTnLst>
                  <p:par>
                    <p:cTn id="1065" fill="hold">
                      <p:stCondLst>
                        <p:cond delay="indefinite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5" fill="hold">
                      <p:stCondLst>
                        <p:cond delay="indefinite"/>
                      </p:stCondLst>
                      <p:childTnLst>
                        <p:par>
                          <p:cTn id="1086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088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0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5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96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97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9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9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0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0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0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0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5" fill="hold">
                      <p:stCondLst>
                        <p:cond delay="indefinite"/>
                      </p:stCondLst>
                      <p:childTnLst>
                        <p:par>
                          <p:cTn id="1106" fill="hold">
                            <p:stCondLst>
                              <p:cond delay="0"/>
                            </p:stCondLst>
                            <p:childTnLst>
                              <p:par>
                                <p:cTn id="1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9" fill="hold">
                      <p:stCondLst>
                        <p:cond delay="indefinite"/>
                      </p:stCondLst>
                      <p:childTnLst>
                        <p:par>
                          <p:cTn id="1120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1" fill="hold">
                      <p:stCondLst>
                        <p:cond delay="indefinite"/>
                      </p:stCondLst>
                      <p:childTnLst>
                        <p:par>
                          <p:cTn id="1132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4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5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6" dur="200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7" dur="200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8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9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1" nodeType="with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2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3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4" dur="200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5" dur="200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6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7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9" nodeType="with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50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1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2" dur="200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3" dur="200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4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5" dur="800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7" fill="hold">
                      <p:stCondLst>
                        <p:cond delay="indefinite"/>
                      </p:stCondLst>
                      <p:childTnLst>
                        <p:par>
                          <p:cTn id="1158" fill="hold">
                            <p:stCondLst>
                              <p:cond delay="0"/>
                            </p:stCondLst>
                            <p:childTnLst>
                              <p:par>
                                <p:cTn id="1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1" fill="hold">
                      <p:stCondLst>
                        <p:cond delay="indefinite"/>
                      </p:stCondLst>
                      <p:childTnLst>
                        <p:par>
                          <p:cTn id="1162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4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5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6" dur="1000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8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9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1" nodeType="with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4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5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6" dur="1000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8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1" fill="hold">
                      <p:stCondLst>
                        <p:cond delay="indefinite"/>
                      </p:stCondLst>
                      <p:childTnLst>
                        <p:par>
                          <p:cTn id="1202" fill="hold">
                            <p:stCondLst>
                              <p:cond delay="0"/>
                            </p:stCondLst>
                            <p:childTnLst>
                              <p:par>
                                <p:cTn id="1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0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 algn="ctr">
              <a:spcBef>
                <a:spcPts val="29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1900" spc="-1" strike="noStrike">
                <a:solidFill>
                  <a:srgbClr val="000000"/>
                </a:solidFill>
                <a:latin typeface="Arial"/>
              </a:rPr>
              <a:t>That’s all Folks!</a:t>
            </a:r>
            <a:endParaRPr b="0" lang="en-US" sz="1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000000"/>
                </a:solidFill>
                <a:latin typeface="Arial"/>
              </a:rPr>
              <a:t>Name: ___________   Year: ___</a:t>
            </a:r>
            <a:br>
              <a:rPr sz="2000"/>
            </a:br>
            <a:br>
              <a:rPr sz="2000"/>
            </a:b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Number Knowledge - </a:t>
            </a:r>
            <a:r>
              <a:rPr b="1" lang="en-NZ" sz="2400" spc="-1" strike="noStrike">
                <a:solidFill>
                  <a:srgbClr val="000000"/>
                </a:solidFill>
                <a:latin typeface="Arial"/>
              </a:rPr>
              <a:t>Checking the Follow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0920" y="1915920"/>
            <a:ext cx="864216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Reads Numbers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N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N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n-N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N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N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N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N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en-N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N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N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Writes Numbers 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N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N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N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en-N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N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N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N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N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n-N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N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Counts Groups     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N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N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N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n-N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N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N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N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N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en-N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N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Makes Groups      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N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N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n-N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N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N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N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N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en-N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N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N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Matches Sets       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N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N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N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en-N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N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 6</a:t>
            </a:r>
            <a:r>
              <a:rPr b="0" lang="en-N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N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N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n-N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N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with Numer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Matches word      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N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N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N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en-N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N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en-N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en-N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N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en-N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r>
              <a:rPr b="0" lang="en-NZ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NZ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with numer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Orders 0-9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Yes </a:t>
            </a:r>
            <a:r>
              <a:rPr b="0" lang="en-NZ" sz="18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No </a:t>
            </a:r>
            <a:r>
              <a:rPr b="0" lang="en-NZ" sz="18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Counts Fwd</a:t>
            </a: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NZ" sz="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Yes </a:t>
            </a:r>
            <a:r>
              <a:rPr b="0" lang="en-NZ" sz="18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No </a:t>
            </a:r>
            <a:r>
              <a:rPr b="0" lang="en-NZ" sz="18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Names 1 bigger             Yes </a:t>
            </a:r>
            <a:r>
              <a:rPr b="0" lang="en-NZ" sz="18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No </a:t>
            </a:r>
            <a:r>
              <a:rPr b="0" lang="en-NZ" sz="18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        Names 1 smaller         Yes </a:t>
            </a:r>
            <a:r>
              <a:rPr b="0" lang="en-NZ" sz="18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No </a:t>
            </a:r>
            <a:r>
              <a:rPr b="0" lang="en-NZ" sz="18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Back Counts                  Yes </a:t>
            </a:r>
            <a:r>
              <a:rPr b="0" lang="en-NZ" sz="18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No </a:t>
            </a:r>
            <a:r>
              <a:rPr b="0" lang="en-NZ" sz="18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        Adds Numbers to five  Yes </a:t>
            </a:r>
            <a:r>
              <a:rPr b="0" lang="en-NZ" sz="18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No </a:t>
            </a:r>
            <a:r>
              <a:rPr b="0" lang="en-NZ" sz="18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Subtracts Numbers to 5 Yes </a:t>
            </a:r>
            <a:r>
              <a:rPr b="0" lang="en-NZ" sz="18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No </a:t>
            </a:r>
            <a:r>
              <a:rPr b="0" lang="en-NZ" sz="1800" spc="-1" strike="noStrike">
                <a:solidFill>
                  <a:srgbClr val="000000"/>
                </a:solidFill>
                <a:latin typeface="Wingdings 2"/>
                <a:ea typeface="Wingdings 2"/>
              </a:rPr>
              <a:t></a:t>
            </a:r>
            <a:r>
              <a:rPr b="0" lang="en-N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Reads Nu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971640" y="1125360"/>
            <a:ext cx="863640" cy="1557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96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484360" y="1484280"/>
            <a:ext cx="863640" cy="1557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96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067280" y="1413000"/>
            <a:ext cx="863640" cy="1557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96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11280" y="4076640"/>
            <a:ext cx="863640" cy="1557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96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268360" y="4653000"/>
            <a:ext cx="863640" cy="1557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96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924360" y="4005360"/>
            <a:ext cx="863640" cy="1557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96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508720" y="3933720"/>
            <a:ext cx="863640" cy="1557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96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84720" y="1268280"/>
            <a:ext cx="863640" cy="1557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96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812000" y="1484280"/>
            <a:ext cx="863640" cy="1557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96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380360" y="4076640"/>
            <a:ext cx="863640" cy="1557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96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0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9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8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55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73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8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9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Counts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564000" y="4869000"/>
            <a:ext cx="1368360" cy="1584360"/>
          </a:xfrm>
          <a:prstGeom prst="ellipse">
            <a:avLst/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2771640" y="1700280"/>
            <a:ext cx="1368360" cy="1584360"/>
            <a:chOff x="2771640" y="1700280"/>
            <a:chExt cx="1368360" cy="1584360"/>
          </a:xfrm>
        </p:grpSpPr>
        <p:sp>
          <p:nvSpPr>
            <p:cNvPr id="59" name=""/>
            <p:cNvSpPr/>
            <p:nvPr/>
          </p:nvSpPr>
          <p:spPr>
            <a:xfrm>
              <a:off x="2771640" y="1700280"/>
              <a:ext cx="1368360" cy="1584360"/>
            </a:xfrm>
            <a:prstGeom prst="ellipse">
              <a:avLst/>
            </a:prstGeom>
            <a:solidFill>
              <a:srgbClr val="cc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92360" y="2419200"/>
              <a:ext cx="360360" cy="360360"/>
            </a:xfrm>
            <a:prstGeom prst="smileyFace">
              <a:avLst>
                <a:gd name="adj" fmla="val 9282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16000" y="2419200"/>
              <a:ext cx="360360" cy="360360"/>
            </a:xfrm>
            <a:prstGeom prst="smileyFace">
              <a:avLst>
                <a:gd name="adj" fmla="val 9282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276360" y="1843200"/>
              <a:ext cx="360360" cy="360360"/>
            </a:xfrm>
            <a:prstGeom prst="smileyFace">
              <a:avLst>
                <a:gd name="adj" fmla="val 9282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1116000" y="476280"/>
            <a:ext cx="1584360" cy="1584360"/>
            <a:chOff x="1116000" y="476280"/>
            <a:chExt cx="1584360" cy="1584360"/>
          </a:xfrm>
        </p:grpSpPr>
        <p:sp>
          <p:nvSpPr>
            <p:cNvPr id="64" name=""/>
            <p:cNvSpPr/>
            <p:nvPr/>
          </p:nvSpPr>
          <p:spPr>
            <a:xfrm>
              <a:off x="1116000" y="476280"/>
              <a:ext cx="1584360" cy="1584360"/>
            </a:xfrm>
            <a:prstGeom prst="ellipse">
              <a:avLst/>
            </a:prstGeom>
            <a:solidFill>
              <a:srgbClr val="cc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258920" y="765000"/>
              <a:ext cx="431640" cy="482760"/>
            </a:xfrm>
            <a:prstGeom prst="smileyFace">
              <a:avLst>
                <a:gd name="adj" fmla="val 9282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63640" y="1484280"/>
              <a:ext cx="432000" cy="482760"/>
            </a:xfrm>
            <a:prstGeom prst="smileyFace">
              <a:avLst>
                <a:gd name="adj" fmla="val 9282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763640" y="549360"/>
              <a:ext cx="432000" cy="482400"/>
            </a:xfrm>
            <a:prstGeom prst="smileyFace">
              <a:avLst>
                <a:gd name="adj" fmla="val 9282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24000" y="1052640"/>
              <a:ext cx="432000" cy="482400"/>
            </a:xfrm>
            <a:prstGeom prst="smileyFace">
              <a:avLst>
                <a:gd name="adj" fmla="val 9282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179280" y="4653000"/>
            <a:ext cx="1656000" cy="1873080"/>
            <a:chOff x="179280" y="4653000"/>
            <a:chExt cx="1656000" cy="1873080"/>
          </a:xfrm>
        </p:grpSpPr>
        <p:sp>
          <p:nvSpPr>
            <p:cNvPr id="70" name=""/>
            <p:cNvSpPr/>
            <p:nvPr/>
          </p:nvSpPr>
          <p:spPr>
            <a:xfrm>
              <a:off x="179280" y="4653000"/>
              <a:ext cx="1656000" cy="1873080"/>
            </a:xfrm>
            <a:prstGeom prst="ellipse">
              <a:avLst/>
            </a:prstGeom>
            <a:solidFill>
              <a:srgbClr val="cc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187280" y="4797000"/>
              <a:ext cx="360360" cy="431640"/>
            </a:xfrm>
            <a:prstGeom prst="smileyFace">
              <a:avLst>
                <a:gd name="adj" fmla="val 9282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116000" y="5300280"/>
              <a:ext cx="360360" cy="431640"/>
            </a:xfrm>
            <a:prstGeom prst="smileyFace">
              <a:avLst>
                <a:gd name="adj" fmla="val 9282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84360" y="5876640"/>
              <a:ext cx="360360" cy="431640"/>
            </a:xfrm>
            <a:prstGeom prst="smileyFace">
              <a:avLst>
                <a:gd name="adj" fmla="val 9282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84360" y="4797000"/>
              <a:ext cx="360360" cy="431640"/>
            </a:xfrm>
            <a:prstGeom prst="smileyFace">
              <a:avLst>
                <a:gd name="adj" fmla="val 9282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24000" y="5157360"/>
              <a:ext cx="360360" cy="431640"/>
            </a:xfrm>
            <a:prstGeom prst="smileyFace">
              <a:avLst>
                <a:gd name="adj" fmla="val 9282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187280" y="5876640"/>
              <a:ext cx="360360" cy="431640"/>
            </a:xfrm>
            <a:prstGeom prst="smileyFace">
              <a:avLst>
                <a:gd name="adj" fmla="val 9282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84360" y="5300280"/>
              <a:ext cx="360360" cy="431640"/>
            </a:xfrm>
            <a:prstGeom prst="smileyFace">
              <a:avLst>
                <a:gd name="adj" fmla="val 9282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"/>
          <p:cNvGrpSpPr/>
          <p:nvPr/>
        </p:nvGrpSpPr>
        <p:grpSpPr>
          <a:xfrm>
            <a:off x="0" y="2276640"/>
            <a:ext cx="2016000" cy="2160360"/>
            <a:chOff x="0" y="2276640"/>
            <a:chExt cx="2016000" cy="2160360"/>
          </a:xfrm>
        </p:grpSpPr>
        <p:sp>
          <p:nvSpPr>
            <p:cNvPr id="79" name=""/>
            <p:cNvSpPr/>
            <p:nvPr/>
          </p:nvSpPr>
          <p:spPr>
            <a:xfrm>
              <a:off x="0" y="2276640"/>
              <a:ext cx="2016000" cy="2160360"/>
            </a:xfrm>
            <a:prstGeom prst="ellipse">
              <a:avLst/>
            </a:prstGeom>
            <a:solidFill>
              <a:srgbClr val="cc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280" y="3139920"/>
              <a:ext cx="360000" cy="431640"/>
            </a:xfrm>
            <a:prstGeom prst="smileyFace">
              <a:avLst>
                <a:gd name="adj" fmla="val 9282"/>
              </a:avLst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295280" y="3645000"/>
              <a:ext cx="360000" cy="431280"/>
            </a:xfrm>
            <a:prstGeom prst="smileyFace">
              <a:avLst>
                <a:gd name="adj" fmla="val 9282"/>
              </a:avLst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92000" y="3860640"/>
              <a:ext cx="360000" cy="431640"/>
            </a:xfrm>
            <a:prstGeom prst="smileyFace">
              <a:avLst>
                <a:gd name="adj" fmla="val 9282"/>
              </a:avLst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86920" y="3645000"/>
              <a:ext cx="360000" cy="431280"/>
            </a:xfrm>
            <a:prstGeom prst="smileyFace">
              <a:avLst>
                <a:gd name="adj" fmla="val 9282"/>
              </a:avLst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863280" y="2347920"/>
              <a:ext cx="360000" cy="431280"/>
            </a:xfrm>
            <a:prstGeom prst="smileyFace">
              <a:avLst>
                <a:gd name="adj" fmla="val 9282"/>
              </a:avLst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584000" y="3068640"/>
              <a:ext cx="360000" cy="431280"/>
            </a:xfrm>
            <a:prstGeom prst="smileyFace">
              <a:avLst>
                <a:gd name="adj" fmla="val 9282"/>
              </a:avLst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86920" y="2563920"/>
              <a:ext cx="360000" cy="431280"/>
            </a:xfrm>
            <a:prstGeom prst="smileyFace">
              <a:avLst>
                <a:gd name="adj" fmla="val 9282"/>
              </a:avLst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368000" y="2563920"/>
              <a:ext cx="360000" cy="431280"/>
            </a:xfrm>
            <a:prstGeom prst="smileyFace">
              <a:avLst>
                <a:gd name="adj" fmla="val 9282"/>
              </a:avLst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863280" y="3068640"/>
              <a:ext cx="360000" cy="431280"/>
            </a:xfrm>
            <a:prstGeom prst="smileyFace">
              <a:avLst>
                <a:gd name="adj" fmla="val 9282"/>
              </a:avLst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"/>
          <p:cNvGrpSpPr/>
          <p:nvPr/>
        </p:nvGrpSpPr>
        <p:grpSpPr>
          <a:xfrm>
            <a:off x="4932360" y="1628640"/>
            <a:ext cx="1223640" cy="1440000"/>
            <a:chOff x="4932360" y="1628640"/>
            <a:chExt cx="1223640" cy="1440000"/>
          </a:xfrm>
        </p:grpSpPr>
        <p:sp>
          <p:nvSpPr>
            <p:cNvPr id="90" name=""/>
            <p:cNvSpPr/>
            <p:nvPr/>
          </p:nvSpPr>
          <p:spPr>
            <a:xfrm>
              <a:off x="4932360" y="1628640"/>
              <a:ext cx="1223640" cy="1440000"/>
            </a:xfrm>
            <a:prstGeom prst="ellipse">
              <a:avLst/>
            </a:prstGeom>
            <a:solidFill>
              <a:srgbClr val="cc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437080" y="2203200"/>
              <a:ext cx="361800" cy="430200"/>
            </a:xfrm>
            <a:prstGeom prst="smileyFace">
              <a:avLst>
                <a:gd name="adj" fmla="val 9282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5219640" y="4653000"/>
            <a:ext cx="1656000" cy="1873080"/>
            <a:chOff x="5219640" y="4653000"/>
            <a:chExt cx="1656000" cy="1873080"/>
          </a:xfrm>
        </p:grpSpPr>
        <p:sp>
          <p:nvSpPr>
            <p:cNvPr id="93" name=""/>
            <p:cNvSpPr/>
            <p:nvPr/>
          </p:nvSpPr>
          <p:spPr>
            <a:xfrm>
              <a:off x="5219640" y="4653000"/>
              <a:ext cx="1656000" cy="1873080"/>
            </a:xfrm>
            <a:prstGeom prst="ellipse">
              <a:avLst/>
            </a:prstGeom>
            <a:solidFill>
              <a:srgbClr val="cc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7280" y="5300640"/>
              <a:ext cx="360360" cy="432000"/>
            </a:xfrm>
            <a:prstGeom prst="smileyFace">
              <a:avLst>
                <a:gd name="adj" fmla="val 9282"/>
              </a:avLst>
            </a:prstGeom>
            <a:solidFill>
              <a:srgbClr val="cc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435640" y="4940280"/>
              <a:ext cx="360360" cy="432000"/>
            </a:xfrm>
            <a:prstGeom prst="smileyFace">
              <a:avLst>
                <a:gd name="adj" fmla="val 9282"/>
              </a:avLst>
            </a:prstGeom>
            <a:solidFill>
              <a:srgbClr val="cc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372360" y="5589720"/>
              <a:ext cx="360360" cy="431640"/>
            </a:xfrm>
            <a:prstGeom prst="smileyFace">
              <a:avLst>
                <a:gd name="adj" fmla="val 9282"/>
              </a:avLst>
            </a:prstGeom>
            <a:solidFill>
              <a:srgbClr val="cc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300720" y="5013360"/>
              <a:ext cx="360360" cy="431640"/>
            </a:xfrm>
            <a:prstGeom prst="smileyFace">
              <a:avLst>
                <a:gd name="adj" fmla="val 9282"/>
              </a:avLst>
            </a:prstGeom>
            <a:solidFill>
              <a:srgbClr val="cc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362560" y="5661000"/>
              <a:ext cx="360360" cy="432000"/>
            </a:xfrm>
            <a:prstGeom prst="smileyFace">
              <a:avLst>
                <a:gd name="adj" fmla="val 9282"/>
              </a:avLst>
            </a:prstGeom>
            <a:solidFill>
              <a:srgbClr val="cc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7280" y="4724280"/>
              <a:ext cx="360360" cy="432000"/>
            </a:xfrm>
            <a:prstGeom prst="smileyFace">
              <a:avLst>
                <a:gd name="adj" fmla="val 9282"/>
              </a:avLst>
            </a:prstGeom>
            <a:solidFill>
              <a:srgbClr val="cc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2050920" y="4869000"/>
            <a:ext cx="1295280" cy="1584360"/>
            <a:chOff x="2050920" y="4869000"/>
            <a:chExt cx="1295280" cy="1584360"/>
          </a:xfrm>
        </p:grpSpPr>
        <p:sp>
          <p:nvSpPr>
            <p:cNvPr id="101" name=""/>
            <p:cNvSpPr/>
            <p:nvPr/>
          </p:nvSpPr>
          <p:spPr>
            <a:xfrm>
              <a:off x="2050920" y="4869000"/>
              <a:ext cx="1295280" cy="1584360"/>
            </a:xfrm>
            <a:prstGeom prst="ellipse">
              <a:avLst/>
            </a:prstGeom>
            <a:solidFill>
              <a:srgbClr val="cc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482920" y="5805360"/>
              <a:ext cx="360360" cy="432000"/>
            </a:xfrm>
            <a:prstGeom prst="smileyFace">
              <a:avLst>
                <a:gd name="adj" fmla="val 9282"/>
              </a:avLst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554200" y="5157720"/>
              <a:ext cx="360360" cy="432000"/>
            </a:xfrm>
            <a:prstGeom prst="smileyFace">
              <a:avLst>
                <a:gd name="adj" fmla="val 9282"/>
              </a:avLst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7236000" y="4581360"/>
            <a:ext cx="1655640" cy="1873440"/>
            <a:chOff x="7236000" y="4581360"/>
            <a:chExt cx="1655640" cy="1873440"/>
          </a:xfrm>
        </p:grpSpPr>
        <p:sp>
          <p:nvSpPr>
            <p:cNvPr id="105" name=""/>
            <p:cNvSpPr/>
            <p:nvPr/>
          </p:nvSpPr>
          <p:spPr>
            <a:xfrm>
              <a:off x="7236000" y="4581360"/>
              <a:ext cx="1655640" cy="1873440"/>
            </a:xfrm>
            <a:prstGeom prst="ellipse">
              <a:avLst/>
            </a:prstGeom>
            <a:solidFill>
              <a:srgbClr val="cc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460000" y="5230800"/>
              <a:ext cx="360360" cy="431640"/>
            </a:xfrm>
            <a:prstGeom prst="smileyFace">
              <a:avLst>
                <a:gd name="adj" fmla="val 9282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307280" y="5230800"/>
              <a:ext cx="360360" cy="431640"/>
            </a:xfrm>
            <a:prstGeom prst="smileyFace">
              <a:avLst>
                <a:gd name="adj" fmla="val 9282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883640" y="5878440"/>
              <a:ext cx="360360" cy="431640"/>
            </a:xfrm>
            <a:prstGeom prst="smileyFace">
              <a:avLst>
                <a:gd name="adj" fmla="val 9282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883640" y="4581360"/>
              <a:ext cx="360360" cy="432000"/>
            </a:xfrm>
            <a:prstGeom prst="smileyFace">
              <a:avLst>
                <a:gd name="adj" fmla="val 9282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15280" y="4726080"/>
              <a:ext cx="360360" cy="431640"/>
            </a:xfrm>
            <a:prstGeom prst="smileyFace">
              <a:avLst>
                <a:gd name="adj" fmla="val 9282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8315280" y="5662440"/>
              <a:ext cx="360360" cy="432000"/>
            </a:xfrm>
            <a:prstGeom prst="smileyFace">
              <a:avLst>
                <a:gd name="adj" fmla="val 9282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523280" y="5734080"/>
              <a:ext cx="360360" cy="431640"/>
            </a:xfrm>
            <a:prstGeom prst="smileyFace">
              <a:avLst>
                <a:gd name="adj" fmla="val 9282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523280" y="4726080"/>
              <a:ext cx="360360" cy="431640"/>
            </a:xfrm>
            <a:prstGeom prst="smileyFace">
              <a:avLst>
                <a:gd name="adj" fmla="val 9282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7093080" y="907920"/>
            <a:ext cx="1655640" cy="1873440"/>
            <a:chOff x="7093080" y="907920"/>
            <a:chExt cx="1655640" cy="1873440"/>
          </a:xfrm>
        </p:grpSpPr>
        <p:sp>
          <p:nvSpPr>
            <p:cNvPr id="115" name=""/>
            <p:cNvSpPr/>
            <p:nvPr/>
          </p:nvSpPr>
          <p:spPr>
            <a:xfrm>
              <a:off x="7093080" y="907920"/>
              <a:ext cx="1655640" cy="1873440"/>
            </a:xfrm>
            <a:prstGeom prst="ellipse">
              <a:avLst/>
            </a:prstGeom>
            <a:solidFill>
              <a:srgbClr val="cc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8029440" y="2131920"/>
              <a:ext cx="360000" cy="431640"/>
            </a:xfrm>
            <a:prstGeom prst="smileyFace">
              <a:avLst>
                <a:gd name="adj" fmla="val 9282"/>
              </a:avLst>
            </a:prstGeom>
            <a:solidFill>
              <a:srgbClr val="ff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237440" y="1915920"/>
              <a:ext cx="360000" cy="432000"/>
            </a:xfrm>
            <a:prstGeom prst="smileyFace">
              <a:avLst>
                <a:gd name="adj" fmla="val 9282"/>
              </a:avLst>
            </a:prstGeom>
            <a:solidFill>
              <a:srgbClr val="ff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669080" y="979200"/>
              <a:ext cx="360000" cy="432000"/>
            </a:xfrm>
            <a:prstGeom prst="smileyFace">
              <a:avLst>
                <a:gd name="adj" fmla="val 9282"/>
              </a:avLst>
            </a:prstGeom>
            <a:solidFill>
              <a:srgbClr val="ff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8245440" y="1266840"/>
              <a:ext cx="360000" cy="431640"/>
            </a:xfrm>
            <a:prstGeom prst="smileyFace">
              <a:avLst>
                <a:gd name="adj" fmla="val 9282"/>
              </a:avLst>
            </a:prstGeom>
            <a:solidFill>
              <a:srgbClr val="ff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669080" y="1555560"/>
              <a:ext cx="360000" cy="432000"/>
            </a:xfrm>
            <a:prstGeom prst="smileyFace">
              <a:avLst>
                <a:gd name="adj" fmla="val 9282"/>
              </a:avLst>
            </a:prstGeom>
            <a:solidFill>
              <a:srgbClr val="ff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3995640" y="5229360"/>
            <a:ext cx="57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8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796000" y="5661000"/>
            <a:ext cx="57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8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79280" y="5516640"/>
            <a:ext cx="57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8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812000" y="5013360"/>
            <a:ext cx="57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8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95280" y="2924280"/>
            <a:ext cx="57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8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524720" y="1989000"/>
            <a:ext cx="57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187280" y="1125360"/>
            <a:ext cx="57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132000" y="2492280"/>
            <a:ext cx="57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771640" y="5300640"/>
            <a:ext cx="57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859280" y="1916280"/>
            <a:ext cx="57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Matches Sets with Numer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042920" y="1125360"/>
            <a:ext cx="863640" cy="1557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96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50920" y="1125360"/>
            <a:ext cx="863640" cy="1557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96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059280" y="1125360"/>
            <a:ext cx="863280" cy="1557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96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050920" y="2781360"/>
            <a:ext cx="863640" cy="1557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96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059280" y="2781360"/>
            <a:ext cx="863280" cy="1557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96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042920" y="2781360"/>
            <a:ext cx="863640" cy="1557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96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050920" y="4508640"/>
            <a:ext cx="863640" cy="1557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96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042920" y="4508640"/>
            <a:ext cx="863640" cy="1557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96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059280" y="4508640"/>
            <a:ext cx="863280" cy="1557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96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012000" y="1268280"/>
            <a:ext cx="136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5580000" y="1125360"/>
            <a:ext cx="2592360" cy="4967640"/>
            <a:chOff x="5580000" y="1125360"/>
            <a:chExt cx="2592360" cy="4967640"/>
          </a:xfrm>
        </p:grpSpPr>
        <p:sp>
          <p:nvSpPr>
            <p:cNvPr id="143" name=""/>
            <p:cNvSpPr/>
            <p:nvPr/>
          </p:nvSpPr>
          <p:spPr>
            <a:xfrm>
              <a:off x="5580000" y="1125360"/>
              <a:ext cx="2592360" cy="4967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867280" y="2276640"/>
              <a:ext cx="1008360" cy="1079280"/>
            </a:xfrm>
            <a:custGeom>
              <a:avLst/>
              <a:gdLst>
                <a:gd name="textAreaLeft" fmla="*/ 236880 w 1008360"/>
                <a:gd name="textAreaRight" fmla="*/ 770760 w 1008360"/>
                <a:gd name="textAreaTop" fmla="*/ 126720 h 1079280"/>
                <a:gd name="textAreaBottom" fmla="*/ 677160 h 107928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solidFill>
              <a:srgbClr val="cc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948360" y="1484280"/>
              <a:ext cx="1008360" cy="1079640"/>
            </a:xfrm>
            <a:custGeom>
              <a:avLst/>
              <a:gdLst>
                <a:gd name="textAreaLeft" fmla="*/ 236880 w 1008360"/>
                <a:gd name="textAreaRight" fmla="*/ 770760 w 1008360"/>
                <a:gd name="textAreaTop" fmla="*/ 126720 h 1079640"/>
                <a:gd name="textAreaBottom" fmla="*/ 677160 h 107964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solidFill>
              <a:srgbClr val="cc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877080" y="3284640"/>
              <a:ext cx="1008000" cy="1079280"/>
            </a:xfrm>
            <a:custGeom>
              <a:avLst/>
              <a:gdLst>
                <a:gd name="textAreaLeft" fmla="*/ 236880 w 1008000"/>
                <a:gd name="textAreaRight" fmla="*/ 770400 w 1008000"/>
                <a:gd name="textAreaTop" fmla="*/ 126720 h 1079280"/>
                <a:gd name="textAreaBottom" fmla="*/ 677160 h 107928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solidFill>
              <a:srgbClr val="cc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3059280" y="1125360"/>
            <a:ext cx="863280" cy="1557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96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5580000" y="1125360"/>
            <a:ext cx="2592360" cy="4967640"/>
            <a:chOff x="5580000" y="1125360"/>
            <a:chExt cx="2592360" cy="4967640"/>
          </a:xfrm>
        </p:grpSpPr>
        <p:sp>
          <p:nvSpPr>
            <p:cNvPr id="149" name=""/>
            <p:cNvSpPr/>
            <p:nvPr/>
          </p:nvSpPr>
          <p:spPr>
            <a:xfrm>
              <a:off x="5580000" y="1125360"/>
              <a:ext cx="2592360" cy="4967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451640" y="4149720"/>
              <a:ext cx="576360" cy="719280"/>
            </a:xfrm>
            <a:custGeom>
              <a:avLst/>
              <a:gdLst>
                <a:gd name="textAreaLeft" fmla="*/ 135360 w 576360"/>
                <a:gd name="textAreaRight" fmla="*/ 440640 w 576360"/>
                <a:gd name="textAreaTop" fmla="*/ 84600 h 719280"/>
                <a:gd name="textAreaBottom" fmla="*/ 451080 h 71928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solidFill>
              <a:srgbClr val="cc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867280" y="1413000"/>
              <a:ext cx="576360" cy="718920"/>
            </a:xfrm>
            <a:custGeom>
              <a:avLst/>
              <a:gdLst>
                <a:gd name="textAreaLeft" fmla="*/ 135360 w 576360"/>
                <a:gd name="textAreaRight" fmla="*/ 440640 w 576360"/>
                <a:gd name="textAreaTop" fmla="*/ 84240 h 718920"/>
                <a:gd name="textAreaBottom" fmla="*/ 451080 h 71892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solidFill>
              <a:srgbClr val="cc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451640" y="5084640"/>
              <a:ext cx="576360" cy="719280"/>
            </a:xfrm>
            <a:custGeom>
              <a:avLst/>
              <a:gdLst>
                <a:gd name="textAreaLeft" fmla="*/ 135360 w 576360"/>
                <a:gd name="textAreaRight" fmla="*/ 440640 w 576360"/>
                <a:gd name="textAreaTop" fmla="*/ 84600 h 719280"/>
                <a:gd name="textAreaBottom" fmla="*/ 451080 h 71928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solidFill>
              <a:srgbClr val="cc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588000" y="2852640"/>
              <a:ext cx="576360" cy="719280"/>
            </a:xfrm>
            <a:custGeom>
              <a:avLst/>
              <a:gdLst>
                <a:gd name="textAreaLeft" fmla="*/ 135360 w 576360"/>
                <a:gd name="textAreaRight" fmla="*/ 440640 w 576360"/>
                <a:gd name="textAreaTop" fmla="*/ 84600 h 719280"/>
                <a:gd name="textAreaBottom" fmla="*/ 451080 h 71928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solidFill>
              <a:srgbClr val="cc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867280" y="2421000"/>
              <a:ext cx="576360" cy="718920"/>
            </a:xfrm>
            <a:custGeom>
              <a:avLst/>
              <a:gdLst>
                <a:gd name="textAreaLeft" fmla="*/ 135360 w 576360"/>
                <a:gd name="textAreaRight" fmla="*/ 440640 w 576360"/>
                <a:gd name="textAreaTop" fmla="*/ 84240 h 718920"/>
                <a:gd name="textAreaBottom" fmla="*/ 451080 h 71892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solidFill>
              <a:srgbClr val="cc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451640" y="2276640"/>
              <a:ext cx="576360" cy="718920"/>
            </a:xfrm>
            <a:custGeom>
              <a:avLst/>
              <a:gdLst>
                <a:gd name="textAreaLeft" fmla="*/ 135360 w 576360"/>
                <a:gd name="textAreaRight" fmla="*/ 440640 w 576360"/>
                <a:gd name="textAreaTop" fmla="*/ 84240 h 718920"/>
                <a:gd name="textAreaBottom" fmla="*/ 451080 h 71892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solidFill>
              <a:srgbClr val="cc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588000" y="1844640"/>
              <a:ext cx="576360" cy="719280"/>
            </a:xfrm>
            <a:custGeom>
              <a:avLst/>
              <a:gdLst>
                <a:gd name="textAreaLeft" fmla="*/ 135360 w 576360"/>
                <a:gd name="textAreaRight" fmla="*/ 440640 w 576360"/>
                <a:gd name="textAreaTop" fmla="*/ 84600 h 719280"/>
                <a:gd name="textAreaBottom" fmla="*/ 451080 h 71928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solidFill>
              <a:srgbClr val="cc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451640" y="1413000"/>
              <a:ext cx="576360" cy="718920"/>
            </a:xfrm>
            <a:custGeom>
              <a:avLst/>
              <a:gdLst>
                <a:gd name="textAreaLeft" fmla="*/ 135360 w 576360"/>
                <a:gd name="textAreaRight" fmla="*/ 440640 w 576360"/>
                <a:gd name="textAreaTop" fmla="*/ 84240 h 718920"/>
                <a:gd name="textAreaBottom" fmla="*/ 451080 h 71892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solidFill>
              <a:srgbClr val="cc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451640" y="3213000"/>
              <a:ext cx="576360" cy="719280"/>
            </a:xfrm>
            <a:custGeom>
              <a:avLst/>
              <a:gdLst>
                <a:gd name="textAreaLeft" fmla="*/ 135360 w 576360"/>
                <a:gd name="textAreaRight" fmla="*/ 440640 w 576360"/>
                <a:gd name="textAreaTop" fmla="*/ 84600 h 719280"/>
                <a:gd name="textAreaBottom" fmla="*/ 451080 h 71928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solidFill>
              <a:srgbClr val="cc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3059280" y="4508640"/>
            <a:ext cx="863280" cy="1557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96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580000" y="1125360"/>
            <a:ext cx="2592360" cy="496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867280" y="1413000"/>
            <a:ext cx="576360" cy="718920"/>
          </a:xfrm>
          <a:custGeom>
            <a:avLst/>
            <a:gdLst>
              <a:gd name="textAreaLeft" fmla="*/ 135360 w 576360"/>
              <a:gd name="textAreaRight" fmla="*/ 440640 w 576360"/>
              <a:gd name="textAreaTop" fmla="*/ 84240 h 718920"/>
              <a:gd name="textAreaBottom" fmla="*/ 451080 h 71892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867280" y="2421000"/>
            <a:ext cx="576360" cy="718920"/>
          </a:xfrm>
          <a:custGeom>
            <a:avLst/>
            <a:gdLst>
              <a:gd name="textAreaLeft" fmla="*/ 135360 w 576360"/>
              <a:gd name="textAreaRight" fmla="*/ 440640 w 576360"/>
              <a:gd name="textAreaTop" fmla="*/ 84240 h 718920"/>
              <a:gd name="textAreaBottom" fmla="*/ 451080 h 71892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050920" y="1125360"/>
            <a:ext cx="863640" cy="1557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96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580000" y="1125360"/>
            <a:ext cx="2592360" cy="496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867280" y="1413000"/>
            <a:ext cx="576360" cy="718920"/>
          </a:xfrm>
          <a:custGeom>
            <a:avLst/>
            <a:gdLst>
              <a:gd name="textAreaLeft" fmla="*/ 135360 w 576360"/>
              <a:gd name="textAreaRight" fmla="*/ 440640 w 576360"/>
              <a:gd name="textAreaTop" fmla="*/ 84240 h 718920"/>
              <a:gd name="textAreaBottom" fmla="*/ 451080 h 71892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88000" y="2852640"/>
            <a:ext cx="576360" cy="719280"/>
          </a:xfrm>
          <a:custGeom>
            <a:avLst/>
            <a:gdLst>
              <a:gd name="textAreaLeft" fmla="*/ 135360 w 576360"/>
              <a:gd name="textAreaRight" fmla="*/ 440640 w 576360"/>
              <a:gd name="textAreaTop" fmla="*/ 84600 h 719280"/>
              <a:gd name="textAreaBottom" fmla="*/ 451080 h 7192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867280" y="2421000"/>
            <a:ext cx="576360" cy="718920"/>
          </a:xfrm>
          <a:custGeom>
            <a:avLst/>
            <a:gdLst>
              <a:gd name="textAreaLeft" fmla="*/ 135360 w 576360"/>
              <a:gd name="textAreaRight" fmla="*/ 440640 w 576360"/>
              <a:gd name="textAreaTop" fmla="*/ 84240 h 718920"/>
              <a:gd name="textAreaBottom" fmla="*/ 451080 h 71892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588000" y="1844640"/>
            <a:ext cx="576360" cy="719280"/>
          </a:xfrm>
          <a:custGeom>
            <a:avLst/>
            <a:gdLst>
              <a:gd name="textAreaLeft" fmla="*/ 135360 w 576360"/>
              <a:gd name="textAreaRight" fmla="*/ 440640 w 576360"/>
              <a:gd name="textAreaTop" fmla="*/ 84600 h 719280"/>
              <a:gd name="textAreaBottom" fmla="*/ 451080 h 7192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451640" y="1413000"/>
            <a:ext cx="576360" cy="718920"/>
          </a:xfrm>
          <a:custGeom>
            <a:avLst/>
            <a:gdLst>
              <a:gd name="textAreaLeft" fmla="*/ 135360 w 576360"/>
              <a:gd name="textAreaRight" fmla="*/ 440640 w 576360"/>
              <a:gd name="textAreaTop" fmla="*/ 84240 h 718920"/>
              <a:gd name="textAreaBottom" fmla="*/ 451080 h 71892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050920" y="2781360"/>
            <a:ext cx="863640" cy="1557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96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580000" y="1125360"/>
            <a:ext cx="2592360" cy="496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451640" y="4149720"/>
            <a:ext cx="576360" cy="719280"/>
          </a:xfrm>
          <a:custGeom>
            <a:avLst/>
            <a:gdLst>
              <a:gd name="textAreaLeft" fmla="*/ 135360 w 576360"/>
              <a:gd name="textAreaRight" fmla="*/ 440640 w 576360"/>
              <a:gd name="textAreaTop" fmla="*/ 84600 h 719280"/>
              <a:gd name="textAreaBottom" fmla="*/ 451080 h 7192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867280" y="1413000"/>
            <a:ext cx="576360" cy="718920"/>
          </a:xfrm>
          <a:custGeom>
            <a:avLst/>
            <a:gdLst>
              <a:gd name="textAreaLeft" fmla="*/ 135360 w 576360"/>
              <a:gd name="textAreaRight" fmla="*/ 440640 w 576360"/>
              <a:gd name="textAreaTop" fmla="*/ 84240 h 718920"/>
              <a:gd name="textAreaBottom" fmla="*/ 451080 h 71892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867280" y="2421000"/>
            <a:ext cx="576360" cy="718920"/>
          </a:xfrm>
          <a:custGeom>
            <a:avLst/>
            <a:gdLst>
              <a:gd name="textAreaLeft" fmla="*/ 135360 w 576360"/>
              <a:gd name="textAreaRight" fmla="*/ 440640 w 576360"/>
              <a:gd name="textAreaTop" fmla="*/ 84240 h 718920"/>
              <a:gd name="textAreaBottom" fmla="*/ 451080 h 71892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451640" y="2276640"/>
            <a:ext cx="576360" cy="718920"/>
          </a:xfrm>
          <a:custGeom>
            <a:avLst/>
            <a:gdLst>
              <a:gd name="textAreaLeft" fmla="*/ 135360 w 576360"/>
              <a:gd name="textAreaRight" fmla="*/ 440640 w 576360"/>
              <a:gd name="textAreaTop" fmla="*/ 84240 h 718920"/>
              <a:gd name="textAreaBottom" fmla="*/ 451080 h 71892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588000" y="1844640"/>
            <a:ext cx="576360" cy="719280"/>
          </a:xfrm>
          <a:custGeom>
            <a:avLst/>
            <a:gdLst>
              <a:gd name="textAreaLeft" fmla="*/ 135360 w 576360"/>
              <a:gd name="textAreaRight" fmla="*/ 440640 w 576360"/>
              <a:gd name="textAreaTop" fmla="*/ 84600 h 719280"/>
              <a:gd name="textAreaBottom" fmla="*/ 451080 h 7192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451640" y="1413000"/>
            <a:ext cx="576360" cy="718920"/>
          </a:xfrm>
          <a:custGeom>
            <a:avLst/>
            <a:gdLst>
              <a:gd name="textAreaLeft" fmla="*/ 135360 w 576360"/>
              <a:gd name="textAreaRight" fmla="*/ 440640 w 576360"/>
              <a:gd name="textAreaTop" fmla="*/ 84240 h 718920"/>
              <a:gd name="textAreaBottom" fmla="*/ 451080 h 71892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451640" y="3213000"/>
            <a:ext cx="576360" cy="719280"/>
          </a:xfrm>
          <a:custGeom>
            <a:avLst/>
            <a:gdLst>
              <a:gd name="textAreaLeft" fmla="*/ 135360 w 576360"/>
              <a:gd name="textAreaRight" fmla="*/ 440640 w 576360"/>
              <a:gd name="textAreaTop" fmla="*/ 84600 h 719280"/>
              <a:gd name="textAreaBottom" fmla="*/ 451080 h 7192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042920" y="4508640"/>
            <a:ext cx="863640" cy="1557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96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580000" y="1125360"/>
            <a:ext cx="2592360" cy="496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588000" y="2852640"/>
            <a:ext cx="576360" cy="719280"/>
          </a:xfrm>
          <a:custGeom>
            <a:avLst/>
            <a:gdLst>
              <a:gd name="textAreaLeft" fmla="*/ 135360 w 576360"/>
              <a:gd name="textAreaRight" fmla="*/ 440640 w 576360"/>
              <a:gd name="textAreaTop" fmla="*/ 84600 h 719280"/>
              <a:gd name="textAreaBottom" fmla="*/ 451080 h 7192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042920" y="1125360"/>
            <a:ext cx="863640" cy="1557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96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580000" y="1125360"/>
            <a:ext cx="2592360" cy="496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867280" y="1413000"/>
            <a:ext cx="576360" cy="718920"/>
          </a:xfrm>
          <a:custGeom>
            <a:avLst/>
            <a:gdLst>
              <a:gd name="textAreaLeft" fmla="*/ 135360 w 576360"/>
              <a:gd name="textAreaRight" fmla="*/ 440640 w 576360"/>
              <a:gd name="textAreaTop" fmla="*/ 84240 h 718920"/>
              <a:gd name="textAreaBottom" fmla="*/ 451080 h 71892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588000" y="2852640"/>
            <a:ext cx="576360" cy="719280"/>
          </a:xfrm>
          <a:custGeom>
            <a:avLst/>
            <a:gdLst>
              <a:gd name="textAreaLeft" fmla="*/ 135360 w 576360"/>
              <a:gd name="textAreaRight" fmla="*/ 440640 w 576360"/>
              <a:gd name="textAreaTop" fmla="*/ 84600 h 719280"/>
              <a:gd name="textAreaBottom" fmla="*/ 451080 h 7192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867280" y="2421000"/>
            <a:ext cx="576360" cy="718920"/>
          </a:xfrm>
          <a:custGeom>
            <a:avLst/>
            <a:gdLst>
              <a:gd name="textAreaLeft" fmla="*/ 135360 w 576360"/>
              <a:gd name="textAreaRight" fmla="*/ 440640 w 576360"/>
              <a:gd name="textAreaTop" fmla="*/ 84240 h 718920"/>
              <a:gd name="textAreaBottom" fmla="*/ 451080 h 71892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451640" y="2276640"/>
            <a:ext cx="576360" cy="718920"/>
          </a:xfrm>
          <a:custGeom>
            <a:avLst/>
            <a:gdLst>
              <a:gd name="textAreaLeft" fmla="*/ 135360 w 576360"/>
              <a:gd name="textAreaRight" fmla="*/ 440640 w 576360"/>
              <a:gd name="textAreaTop" fmla="*/ 84240 h 718920"/>
              <a:gd name="textAreaBottom" fmla="*/ 451080 h 71892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88000" y="1844640"/>
            <a:ext cx="576360" cy="719280"/>
          </a:xfrm>
          <a:custGeom>
            <a:avLst/>
            <a:gdLst>
              <a:gd name="textAreaLeft" fmla="*/ 135360 w 576360"/>
              <a:gd name="textAreaRight" fmla="*/ 440640 w 576360"/>
              <a:gd name="textAreaTop" fmla="*/ 84600 h 719280"/>
              <a:gd name="textAreaBottom" fmla="*/ 451080 h 7192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451640" y="1413000"/>
            <a:ext cx="576360" cy="718920"/>
          </a:xfrm>
          <a:custGeom>
            <a:avLst/>
            <a:gdLst>
              <a:gd name="textAreaLeft" fmla="*/ 135360 w 576360"/>
              <a:gd name="textAreaRight" fmla="*/ 440640 w 576360"/>
              <a:gd name="textAreaTop" fmla="*/ 84240 h 718920"/>
              <a:gd name="textAreaBottom" fmla="*/ 451080 h 71892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059280" y="2781360"/>
            <a:ext cx="863280" cy="1557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96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5580000" y="1125360"/>
            <a:ext cx="2592360" cy="4967640"/>
            <a:chOff x="5580000" y="1125360"/>
            <a:chExt cx="2592360" cy="4967640"/>
          </a:xfrm>
        </p:grpSpPr>
        <p:sp>
          <p:nvSpPr>
            <p:cNvPr id="192" name=""/>
            <p:cNvSpPr/>
            <p:nvPr/>
          </p:nvSpPr>
          <p:spPr>
            <a:xfrm>
              <a:off x="5580000" y="1125360"/>
              <a:ext cx="2592360" cy="4967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867280" y="1413000"/>
              <a:ext cx="576360" cy="718920"/>
            </a:xfrm>
            <a:custGeom>
              <a:avLst/>
              <a:gdLst>
                <a:gd name="textAreaLeft" fmla="*/ 135360 w 576360"/>
                <a:gd name="textAreaRight" fmla="*/ 440640 w 576360"/>
                <a:gd name="textAreaTop" fmla="*/ 84240 h 718920"/>
                <a:gd name="textAreaBottom" fmla="*/ 451080 h 71892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solidFill>
              <a:srgbClr val="cc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867280" y="2421000"/>
              <a:ext cx="576360" cy="718920"/>
            </a:xfrm>
            <a:custGeom>
              <a:avLst/>
              <a:gdLst>
                <a:gd name="textAreaLeft" fmla="*/ 135360 w 576360"/>
                <a:gd name="textAreaRight" fmla="*/ 440640 w 576360"/>
                <a:gd name="textAreaTop" fmla="*/ 84240 h 718920"/>
                <a:gd name="textAreaBottom" fmla="*/ 451080 h 71892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solidFill>
              <a:srgbClr val="cc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451640" y="2349360"/>
              <a:ext cx="576360" cy="719280"/>
            </a:xfrm>
            <a:custGeom>
              <a:avLst/>
              <a:gdLst>
                <a:gd name="textAreaLeft" fmla="*/ 135360 w 576360"/>
                <a:gd name="textAreaRight" fmla="*/ 440640 w 576360"/>
                <a:gd name="textAreaTop" fmla="*/ 84600 h 719280"/>
                <a:gd name="textAreaBottom" fmla="*/ 451080 h 71928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solidFill>
              <a:srgbClr val="cc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451640" y="1413000"/>
              <a:ext cx="576360" cy="718920"/>
            </a:xfrm>
            <a:custGeom>
              <a:avLst/>
              <a:gdLst>
                <a:gd name="textAreaLeft" fmla="*/ 135360 w 576360"/>
                <a:gd name="textAreaRight" fmla="*/ 440640 w 576360"/>
                <a:gd name="textAreaTop" fmla="*/ 84240 h 718920"/>
                <a:gd name="textAreaBottom" fmla="*/ 451080 h 718920"/>
              </a:gdLst>
              <a:ahLst/>
              <a:rect l="textAreaLeft" t="textAreaTop" r="textAreaRight" b="textAreaBottom"/>
              <a:pathLst>
                <a:path w="21615" h="21602">
                  <a:moveTo>
                    <a:pt x="10800" y="21599"/>
                  </a:moveTo>
                  <a:lnTo>
                    <a:pt x="321" y="6886"/>
                  </a:lnTo>
                  <a:lnTo>
                    <a:pt x="70" y="6036"/>
                  </a:lnTo>
                  <a:cubicBezTo>
                    <a:pt x="-9" y="5766"/>
                    <a:pt x="-1" y="5474"/>
                    <a:pt x="2" y="5192"/>
                  </a:cubicBezTo>
                  <a:cubicBezTo>
                    <a:pt x="6" y="4918"/>
                    <a:pt x="43" y="4641"/>
                    <a:pt x="101" y="4370"/>
                  </a:cubicBezTo>
                  <a:cubicBezTo>
                    <a:pt x="159" y="4103"/>
                    <a:pt x="245" y="3837"/>
                    <a:pt x="353" y="3582"/>
                  </a:cubicBezTo>
                  <a:cubicBezTo>
                    <a:pt x="460" y="3326"/>
                    <a:pt x="591" y="3077"/>
                    <a:pt x="741" y="2839"/>
                  </a:cubicBezTo>
                  <a:cubicBezTo>
                    <a:pt x="892" y="2598"/>
                    <a:pt x="1066" y="2369"/>
                    <a:pt x="1253" y="2155"/>
                  </a:cubicBezTo>
                  <a:cubicBezTo>
                    <a:pt x="1443" y="1938"/>
                    <a:pt x="1651" y="1732"/>
                    <a:pt x="1874" y="1543"/>
                  </a:cubicBezTo>
                  <a:cubicBezTo>
                    <a:pt x="2097" y="1351"/>
                    <a:pt x="2337" y="1174"/>
                    <a:pt x="2587" y="1014"/>
                  </a:cubicBezTo>
                  <a:cubicBezTo>
                    <a:pt x="2839" y="854"/>
                    <a:pt x="3106" y="708"/>
                    <a:pt x="3380" y="584"/>
                  </a:cubicBezTo>
                  <a:cubicBezTo>
                    <a:pt x="3656" y="459"/>
                    <a:pt x="3945" y="350"/>
                    <a:pt x="4237" y="264"/>
                  </a:cubicBezTo>
                  <a:cubicBezTo>
                    <a:pt x="4533" y="176"/>
                    <a:pt x="4838" y="108"/>
                    <a:pt x="5144" y="66"/>
                  </a:cubicBezTo>
                  <a:cubicBezTo>
                    <a:pt x="5454" y="22"/>
                    <a:pt x="5771" y="1"/>
                    <a:pt x="6086" y="3"/>
                  </a:cubicBezTo>
                  <a:cubicBezTo>
                    <a:pt x="6407" y="7"/>
                    <a:pt x="6731" y="35"/>
                    <a:pt x="7048" y="89"/>
                  </a:cubicBezTo>
                  <a:cubicBezTo>
                    <a:pt x="7374" y="144"/>
                    <a:pt x="7700" y="226"/>
                    <a:pt x="8015" y="335"/>
                  </a:cubicBezTo>
                  <a:cubicBezTo>
                    <a:pt x="8344" y="447"/>
                    <a:pt x="8667" y="590"/>
                    <a:pt x="8972" y="756"/>
                  </a:cubicBezTo>
                  <a:cubicBezTo>
                    <a:pt x="9297" y="932"/>
                    <a:pt x="9613" y="1135"/>
                    <a:pt x="9907" y="1363"/>
                  </a:cubicBezTo>
                  <a:cubicBezTo>
                    <a:pt x="10224" y="1609"/>
                    <a:pt x="10504" y="1900"/>
                    <a:pt x="10802" y="2169"/>
                  </a:cubicBezTo>
                  <a:lnTo>
                    <a:pt x="11697" y="1363"/>
                  </a:lnTo>
                  <a:cubicBezTo>
                    <a:pt x="11971" y="1116"/>
                    <a:pt x="12304" y="934"/>
                    <a:pt x="12630" y="756"/>
                  </a:cubicBezTo>
                  <a:cubicBezTo>
                    <a:pt x="12935" y="590"/>
                    <a:pt x="13528" y="450"/>
                    <a:pt x="13589" y="335"/>
                  </a:cubicBezTo>
                  <a:cubicBezTo>
                    <a:pt x="13901" y="226"/>
                    <a:pt x="14227" y="144"/>
                    <a:pt x="14556" y="89"/>
                  </a:cubicBezTo>
                  <a:cubicBezTo>
                    <a:pt x="14872" y="35"/>
                    <a:pt x="15195" y="7"/>
                    <a:pt x="15517" y="3"/>
                  </a:cubicBezTo>
                  <a:cubicBezTo>
                    <a:pt x="15830" y="0"/>
                    <a:pt x="16147" y="22"/>
                    <a:pt x="16458" y="66"/>
                  </a:cubicBezTo>
                  <a:cubicBezTo>
                    <a:pt x="16764" y="109"/>
                    <a:pt x="17068" y="177"/>
                    <a:pt x="17365" y="264"/>
                  </a:cubicBezTo>
                  <a:cubicBezTo>
                    <a:pt x="17658" y="349"/>
                    <a:pt x="17946" y="458"/>
                    <a:pt x="18222" y="584"/>
                  </a:cubicBezTo>
                  <a:cubicBezTo>
                    <a:pt x="18496" y="708"/>
                    <a:pt x="18762" y="854"/>
                    <a:pt x="19015" y="1014"/>
                  </a:cubicBezTo>
                  <a:cubicBezTo>
                    <a:pt x="19264" y="1172"/>
                    <a:pt x="19504" y="1349"/>
                    <a:pt x="19730" y="1543"/>
                  </a:cubicBezTo>
                  <a:cubicBezTo>
                    <a:pt x="19950" y="1731"/>
                    <a:pt x="20158" y="1937"/>
                    <a:pt x="20350" y="2155"/>
                  </a:cubicBezTo>
                  <a:cubicBezTo>
                    <a:pt x="20536" y="2369"/>
                    <a:pt x="20710" y="2598"/>
                    <a:pt x="20861" y="2839"/>
                  </a:cubicBezTo>
                  <a:cubicBezTo>
                    <a:pt x="21010" y="3074"/>
                    <a:pt x="21143" y="3323"/>
                    <a:pt x="21251" y="3582"/>
                  </a:cubicBezTo>
                  <a:cubicBezTo>
                    <a:pt x="21357" y="3835"/>
                    <a:pt x="21443" y="4099"/>
                    <a:pt x="21502" y="4370"/>
                  </a:cubicBezTo>
                  <a:cubicBezTo>
                    <a:pt x="21561" y="4639"/>
                    <a:pt x="21595" y="4916"/>
                    <a:pt x="21600" y="5192"/>
                  </a:cubicBezTo>
                  <a:cubicBezTo>
                    <a:pt x="21606" y="5474"/>
                    <a:pt x="21584" y="5760"/>
                    <a:pt x="21532" y="6036"/>
                  </a:cubicBezTo>
                  <a:cubicBezTo>
                    <a:pt x="21478" y="6326"/>
                    <a:pt x="21366" y="6603"/>
                    <a:pt x="21282" y="6887"/>
                  </a:cubicBezTo>
                  <a:lnTo>
                    <a:pt x="10802" y="21602"/>
                  </a:lnTo>
                  <a:close/>
                </a:path>
              </a:pathLst>
            </a:custGeom>
            <a:solidFill>
              <a:srgbClr val="cc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" name=""/>
          <p:cNvSpPr/>
          <p:nvPr/>
        </p:nvSpPr>
        <p:spPr>
          <a:xfrm>
            <a:off x="1042920" y="2781360"/>
            <a:ext cx="863640" cy="1557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96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580000" y="1125360"/>
            <a:ext cx="2592360" cy="496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451640" y="4149720"/>
            <a:ext cx="576360" cy="719280"/>
          </a:xfrm>
          <a:custGeom>
            <a:avLst/>
            <a:gdLst>
              <a:gd name="textAreaLeft" fmla="*/ 135360 w 576360"/>
              <a:gd name="textAreaRight" fmla="*/ 440640 w 576360"/>
              <a:gd name="textAreaTop" fmla="*/ 84600 h 719280"/>
              <a:gd name="textAreaBottom" fmla="*/ 451080 h 7192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867280" y="1413000"/>
            <a:ext cx="576360" cy="718920"/>
          </a:xfrm>
          <a:custGeom>
            <a:avLst/>
            <a:gdLst>
              <a:gd name="textAreaLeft" fmla="*/ 135360 w 576360"/>
              <a:gd name="textAreaRight" fmla="*/ 440640 w 576360"/>
              <a:gd name="textAreaTop" fmla="*/ 84240 h 718920"/>
              <a:gd name="textAreaBottom" fmla="*/ 451080 h 71892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588000" y="2852640"/>
            <a:ext cx="576360" cy="719280"/>
          </a:xfrm>
          <a:custGeom>
            <a:avLst/>
            <a:gdLst>
              <a:gd name="textAreaLeft" fmla="*/ 135360 w 576360"/>
              <a:gd name="textAreaRight" fmla="*/ 440640 w 576360"/>
              <a:gd name="textAreaTop" fmla="*/ 84600 h 719280"/>
              <a:gd name="textAreaBottom" fmla="*/ 451080 h 7192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867280" y="2421000"/>
            <a:ext cx="576360" cy="718920"/>
          </a:xfrm>
          <a:custGeom>
            <a:avLst/>
            <a:gdLst>
              <a:gd name="textAreaLeft" fmla="*/ 135360 w 576360"/>
              <a:gd name="textAreaRight" fmla="*/ 440640 w 576360"/>
              <a:gd name="textAreaTop" fmla="*/ 84240 h 718920"/>
              <a:gd name="textAreaBottom" fmla="*/ 451080 h 71892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7451640" y="2276640"/>
            <a:ext cx="576360" cy="718920"/>
          </a:xfrm>
          <a:custGeom>
            <a:avLst/>
            <a:gdLst>
              <a:gd name="textAreaLeft" fmla="*/ 135360 w 576360"/>
              <a:gd name="textAreaRight" fmla="*/ 440640 w 576360"/>
              <a:gd name="textAreaTop" fmla="*/ 84240 h 718920"/>
              <a:gd name="textAreaBottom" fmla="*/ 451080 h 71892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588000" y="1844640"/>
            <a:ext cx="576360" cy="719280"/>
          </a:xfrm>
          <a:custGeom>
            <a:avLst/>
            <a:gdLst>
              <a:gd name="textAreaLeft" fmla="*/ 135360 w 576360"/>
              <a:gd name="textAreaRight" fmla="*/ 440640 w 576360"/>
              <a:gd name="textAreaTop" fmla="*/ 84600 h 719280"/>
              <a:gd name="textAreaBottom" fmla="*/ 451080 h 7192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451640" y="1413000"/>
            <a:ext cx="576360" cy="718920"/>
          </a:xfrm>
          <a:custGeom>
            <a:avLst/>
            <a:gdLst>
              <a:gd name="textAreaLeft" fmla="*/ 135360 w 576360"/>
              <a:gd name="textAreaRight" fmla="*/ 440640 w 576360"/>
              <a:gd name="textAreaTop" fmla="*/ 84240 h 718920"/>
              <a:gd name="textAreaBottom" fmla="*/ 451080 h 71892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451640" y="3213000"/>
            <a:ext cx="576360" cy="719280"/>
          </a:xfrm>
          <a:custGeom>
            <a:avLst/>
            <a:gdLst>
              <a:gd name="textAreaLeft" fmla="*/ 135360 w 576360"/>
              <a:gd name="textAreaRight" fmla="*/ 440640 w 576360"/>
              <a:gd name="textAreaTop" fmla="*/ 84600 h 719280"/>
              <a:gd name="textAreaBottom" fmla="*/ 451080 h 71928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050920" y="4508640"/>
            <a:ext cx="863640" cy="1557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96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3151 0.40902 E">
                                      <p:cBhvr>
                                        <p:cTn id="224" dur="2000" fill="hold"/>
                                        <p:tgtEl>
                                          <p:spTgt spid="1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32275 -0.10474 E">
                                      <p:cBhvr>
                                        <p:cTn id="232" dur="2000" fill="hold"/>
                                        <p:tgtEl>
                                          <p:spTgt spid="1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43299 0.39861 E">
                                      <p:cBhvr>
                                        <p:cTn id="244" dur="2000" fill="hold"/>
                                        <p:tgtEl>
                                          <p:spTgt spid="1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42518 0.13641 E">
                                      <p:cBhvr>
                                        <p:cTn id="262" dur="2000" fill="hold"/>
                                        <p:tgtEl>
                                          <p:spTgt spid="1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54323 -0.12601 E">
                                      <p:cBhvr>
                                        <p:cTn id="284" dur="2000" fill="hold"/>
                                        <p:tgtEl>
                                          <p:spTgt spid="1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52761 0.38798 E">
                                      <p:cBhvr>
                                        <p:cTn id="294" dur="2000" fill="hold"/>
                                        <p:tgtEl>
                                          <p:spTgt spid="1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31494 0.12578 E">
                                      <p:cBhvr>
                                        <p:cTn id="330" dur="2000" fill="hold"/>
                                        <p:tgtEl>
                                          <p:spTgt spid="1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53542 0.13619 E">
                                      <p:cBhvr>
                                        <p:cTn id="338" dur="2000" fill="hold"/>
                                        <p:tgtEl>
                                          <p:spTgt spid="1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42518 -0.12578 E">
                                      <p:cBhvr>
                                        <p:cTn id="362" dur="2000" fill="hold"/>
                                        <p:tgtEl>
                                          <p:spTgt spid="2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Matches Word with Nume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24000" y="4941720"/>
            <a:ext cx="792000" cy="143460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8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187280" y="4941720"/>
            <a:ext cx="792360" cy="143460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8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052720" y="4941720"/>
            <a:ext cx="792000" cy="143460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8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916360" y="4941720"/>
            <a:ext cx="792000" cy="143460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8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780000" y="4941720"/>
            <a:ext cx="792000" cy="143460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8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645080" y="4941720"/>
            <a:ext cx="792000" cy="143460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8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508720" y="4941720"/>
            <a:ext cx="792000" cy="143460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8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372360" y="4941720"/>
            <a:ext cx="792000" cy="143460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8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7237440" y="4941720"/>
            <a:ext cx="792000" cy="143460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8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8101080" y="4941720"/>
            <a:ext cx="792000" cy="143460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8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2340000" y="1628640"/>
            <a:ext cx="4752720" cy="1800360"/>
            <a:chOff x="2340000" y="1628640"/>
            <a:chExt cx="4752720" cy="1800360"/>
          </a:xfrm>
        </p:grpSpPr>
        <p:grpSp>
          <p:nvGrpSpPr>
            <p:cNvPr id="220" name=""/>
            <p:cNvGrpSpPr/>
            <p:nvPr/>
          </p:nvGrpSpPr>
          <p:grpSpPr>
            <a:xfrm>
              <a:off x="3492360" y="1628640"/>
              <a:ext cx="3600360" cy="1798560"/>
              <a:chOff x="3492360" y="1628640"/>
              <a:chExt cx="3600360" cy="1798560"/>
            </a:xfrm>
          </p:grpSpPr>
          <p:sp>
            <p:nvSpPr>
              <p:cNvPr id="221" name=""/>
              <p:cNvSpPr/>
              <p:nvPr/>
            </p:nvSpPr>
            <p:spPr>
              <a:xfrm>
                <a:off x="3492360" y="1628640"/>
                <a:ext cx="3600360" cy="1798560"/>
              </a:xfrm>
              <a:prstGeom prst="rect">
                <a:avLst/>
              </a:prstGeom>
              <a:solidFill>
                <a:srgbClr val="bbe0e3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3563640" y="1852920"/>
                <a:ext cx="3457800" cy="131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50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NZ" sz="8000" spc="-1" strike="noStrike">
                    <a:solidFill>
                      <a:srgbClr val="000000"/>
                    </a:solidFill>
                    <a:latin typeface="Arial"/>
                  </a:rPr>
                  <a:t>one</a:t>
                </a:r>
                <a:endParaRPr b="0" lang="en-US" sz="8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3" name=""/>
            <p:cNvSpPr/>
            <p:nvPr/>
          </p:nvSpPr>
          <p:spPr>
            <a:xfrm>
              <a:off x="2340000" y="1628640"/>
              <a:ext cx="1152360" cy="1800360"/>
            </a:xfrm>
            <a:prstGeom prst="rect">
              <a:avLst/>
            </a:prstGeom>
            <a:solidFill>
              <a:srgbClr val="ccff33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"/>
          <p:cNvSpPr/>
          <p:nvPr/>
        </p:nvSpPr>
        <p:spPr>
          <a:xfrm>
            <a:off x="1187280" y="4941720"/>
            <a:ext cx="792360" cy="143460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8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2340000" y="1628640"/>
            <a:ext cx="4752720" cy="1800360"/>
            <a:chOff x="2340000" y="1628640"/>
            <a:chExt cx="4752720" cy="1800360"/>
          </a:xfrm>
        </p:grpSpPr>
        <p:grpSp>
          <p:nvGrpSpPr>
            <p:cNvPr id="226" name=""/>
            <p:cNvGrpSpPr/>
            <p:nvPr/>
          </p:nvGrpSpPr>
          <p:grpSpPr>
            <a:xfrm>
              <a:off x="3492360" y="1628640"/>
              <a:ext cx="3600360" cy="1798560"/>
              <a:chOff x="3492360" y="1628640"/>
              <a:chExt cx="3600360" cy="1798560"/>
            </a:xfrm>
          </p:grpSpPr>
          <p:sp>
            <p:nvSpPr>
              <p:cNvPr id="227" name=""/>
              <p:cNvSpPr/>
              <p:nvPr/>
            </p:nvSpPr>
            <p:spPr>
              <a:xfrm>
                <a:off x="3492360" y="1628640"/>
                <a:ext cx="3600360" cy="1798560"/>
              </a:xfrm>
              <a:prstGeom prst="rect">
                <a:avLst/>
              </a:prstGeom>
              <a:solidFill>
                <a:srgbClr val="bbe0e3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3563640" y="1852920"/>
                <a:ext cx="3457800" cy="131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50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NZ" sz="8000" spc="-1" strike="noStrike">
                    <a:solidFill>
                      <a:srgbClr val="000000"/>
                    </a:solidFill>
                    <a:latin typeface="Arial"/>
                  </a:rPr>
                  <a:t>six</a:t>
                </a:r>
                <a:endParaRPr b="0" lang="en-US" sz="8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9" name=""/>
            <p:cNvSpPr/>
            <p:nvPr/>
          </p:nvSpPr>
          <p:spPr>
            <a:xfrm>
              <a:off x="2340000" y="1628640"/>
              <a:ext cx="1152360" cy="1800360"/>
            </a:xfrm>
            <a:prstGeom prst="rect">
              <a:avLst/>
            </a:prstGeom>
            <a:solidFill>
              <a:srgbClr val="ccff33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5508720" y="4941720"/>
            <a:ext cx="792000" cy="143460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8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2340000" y="1628640"/>
            <a:ext cx="4752720" cy="1800360"/>
            <a:chOff x="2340000" y="1628640"/>
            <a:chExt cx="4752720" cy="1800360"/>
          </a:xfrm>
        </p:grpSpPr>
        <p:grpSp>
          <p:nvGrpSpPr>
            <p:cNvPr id="232" name=""/>
            <p:cNvGrpSpPr/>
            <p:nvPr/>
          </p:nvGrpSpPr>
          <p:grpSpPr>
            <a:xfrm>
              <a:off x="3492360" y="1628640"/>
              <a:ext cx="3600360" cy="1798560"/>
              <a:chOff x="3492360" y="1628640"/>
              <a:chExt cx="3600360" cy="1798560"/>
            </a:xfrm>
          </p:grpSpPr>
          <p:sp>
            <p:nvSpPr>
              <p:cNvPr id="233" name=""/>
              <p:cNvSpPr/>
              <p:nvPr/>
            </p:nvSpPr>
            <p:spPr>
              <a:xfrm>
                <a:off x="3492360" y="1628640"/>
                <a:ext cx="3600360" cy="1798560"/>
              </a:xfrm>
              <a:prstGeom prst="rect">
                <a:avLst/>
              </a:prstGeom>
              <a:solidFill>
                <a:srgbClr val="bbe0e3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3563640" y="1852920"/>
                <a:ext cx="3457800" cy="131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50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NZ" sz="8000" spc="-1" strike="noStrike">
                    <a:solidFill>
                      <a:srgbClr val="000000"/>
                    </a:solidFill>
                    <a:latin typeface="Arial"/>
                  </a:rPr>
                  <a:t>two</a:t>
                </a:r>
                <a:endParaRPr b="0" lang="en-US" sz="8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5" name=""/>
            <p:cNvSpPr/>
            <p:nvPr/>
          </p:nvSpPr>
          <p:spPr>
            <a:xfrm>
              <a:off x="2340000" y="1628640"/>
              <a:ext cx="1152360" cy="1800360"/>
            </a:xfrm>
            <a:prstGeom prst="rect">
              <a:avLst/>
            </a:prstGeom>
            <a:solidFill>
              <a:srgbClr val="ccff33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6" name=""/>
          <p:cNvSpPr/>
          <p:nvPr/>
        </p:nvSpPr>
        <p:spPr>
          <a:xfrm>
            <a:off x="2052720" y="4941720"/>
            <a:ext cx="792000" cy="143460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8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2340000" y="1628640"/>
            <a:ext cx="4752720" cy="1800360"/>
            <a:chOff x="2340000" y="1628640"/>
            <a:chExt cx="4752720" cy="1800360"/>
          </a:xfrm>
        </p:grpSpPr>
        <p:grpSp>
          <p:nvGrpSpPr>
            <p:cNvPr id="238" name=""/>
            <p:cNvGrpSpPr/>
            <p:nvPr/>
          </p:nvGrpSpPr>
          <p:grpSpPr>
            <a:xfrm>
              <a:off x="3492360" y="1628640"/>
              <a:ext cx="3600360" cy="1798560"/>
              <a:chOff x="3492360" y="1628640"/>
              <a:chExt cx="3600360" cy="1798560"/>
            </a:xfrm>
          </p:grpSpPr>
          <p:sp>
            <p:nvSpPr>
              <p:cNvPr id="239" name=""/>
              <p:cNvSpPr/>
              <p:nvPr/>
            </p:nvSpPr>
            <p:spPr>
              <a:xfrm>
                <a:off x="3492360" y="1628640"/>
                <a:ext cx="3600360" cy="1798560"/>
              </a:xfrm>
              <a:prstGeom prst="rect">
                <a:avLst/>
              </a:prstGeom>
              <a:solidFill>
                <a:srgbClr val="bbe0e3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3563640" y="1852920"/>
                <a:ext cx="3457800" cy="131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50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NZ" sz="8000" spc="-1" strike="noStrike">
                    <a:solidFill>
                      <a:srgbClr val="000000"/>
                    </a:solidFill>
                    <a:latin typeface="Arial"/>
                  </a:rPr>
                  <a:t>eight</a:t>
                </a:r>
                <a:endParaRPr b="0" lang="en-US" sz="8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1" name=""/>
            <p:cNvSpPr/>
            <p:nvPr/>
          </p:nvSpPr>
          <p:spPr>
            <a:xfrm>
              <a:off x="2340000" y="1628640"/>
              <a:ext cx="1152360" cy="1800360"/>
            </a:xfrm>
            <a:prstGeom prst="rect">
              <a:avLst/>
            </a:prstGeom>
            <a:solidFill>
              <a:srgbClr val="ccff33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7237440" y="4941720"/>
            <a:ext cx="792000" cy="143460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8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3" name=""/>
          <p:cNvGrpSpPr/>
          <p:nvPr/>
        </p:nvGrpSpPr>
        <p:grpSpPr>
          <a:xfrm>
            <a:off x="2340000" y="1628640"/>
            <a:ext cx="4752720" cy="1800360"/>
            <a:chOff x="2340000" y="1628640"/>
            <a:chExt cx="4752720" cy="1800360"/>
          </a:xfrm>
        </p:grpSpPr>
        <p:grpSp>
          <p:nvGrpSpPr>
            <p:cNvPr id="244" name=""/>
            <p:cNvGrpSpPr/>
            <p:nvPr/>
          </p:nvGrpSpPr>
          <p:grpSpPr>
            <a:xfrm>
              <a:off x="3492360" y="1628640"/>
              <a:ext cx="3600360" cy="1798560"/>
              <a:chOff x="3492360" y="1628640"/>
              <a:chExt cx="3600360" cy="1798560"/>
            </a:xfrm>
          </p:grpSpPr>
          <p:sp>
            <p:nvSpPr>
              <p:cNvPr id="245" name=""/>
              <p:cNvSpPr/>
              <p:nvPr/>
            </p:nvSpPr>
            <p:spPr>
              <a:xfrm>
                <a:off x="3492360" y="1628640"/>
                <a:ext cx="3600360" cy="1798560"/>
              </a:xfrm>
              <a:prstGeom prst="rect">
                <a:avLst/>
              </a:prstGeom>
              <a:solidFill>
                <a:srgbClr val="bbe0e3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3563640" y="1852920"/>
                <a:ext cx="3457800" cy="131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50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NZ" sz="8000" spc="-1" strike="noStrike">
                    <a:solidFill>
                      <a:srgbClr val="000000"/>
                    </a:solidFill>
                    <a:latin typeface="Arial"/>
                  </a:rPr>
                  <a:t>four</a:t>
                </a:r>
                <a:endParaRPr b="0" lang="en-US" sz="8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7" name=""/>
            <p:cNvSpPr/>
            <p:nvPr/>
          </p:nvSpPr>
          <p:spPr>
            <a:xfrm>
              <a:off x="2340000" y="1628640"/>
              <a:ext cx="1152360" cy="1800360"/>
            </a:xfrm>
            <a:prstGeom prst="rect">
              <a:avLst/>
            </a:prstGeom>
            <a:solidFill>
              <a:srgbClr val="ccff33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3780000" y="4941720"/>
            <a:ext cx="792000" cy="143460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8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9" name=""/>
          <p:cNvGrpSpPr/>
          <p:nvPr/>
        </p:nvGrpSpPr>
        <p:grpSpPr>
          <a:xfrm>
            <a:off x="2340000" y="1628640"/>
            <a:ext cx="4752720" cy="1800360"/>
            <a:chOff x="2340000" y="1628640"/>
            <a:chExt cx="4752720" cy="1800360"/>
          </a:xfrm>
        </p:grpSpPr>
        <p:grpSp>
          <p:nvGrpSpPr>
            <p:cNvPr id="250" name=""/>
            <p:cNvGrpSpPr/>
            <p:nvPr/>
          </p:nvGrpSpPr>
          <p:grpSpPr>
            <a:xfrm>
              <a:off x="3492360" y="1628640"/>
              <a:ext cx="3600360" cy="1798560"/>
              <a:chOff x="3492360" y="1628640"/>
              <a:chExt cx="3600360" cy="1798560"/>
            </a:xfrm>
          </p:grpSpPr>
          <p:sp>
            <p:nvSpPr>
              <p:cNvPr id="251" name=""/>
              <p:cNvSpPr/>
              <p:nvPr/>
            </p:nvSpPr>
            <p:spPr>
              <a:xfrm>
                <a:off x="3492360" y="1628640"/>
                <a:ext cx="3600360" cy="1798560"/>
              </a:xfrm>
              <a:prstGeom prst="rect">
                <a:avLst/>
              </a:prstGeom>
              <a:solidFill>
                <a:srgbClr val="bbe0e3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3563640" y="1852920"/>
                <a:ext cx="3457800" cy="131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50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NZ" sz="8000" spc="-1" strike="noStrike">
                    <a:solidFill>
                      <a:srgbClr val="000000"/>
                    </a:solidFill>
                    <a:latin typeface="Arial"/>
                  </a:rPr>
                  <a:t>nine</a:t>
                </a:r>
                <a:endParaRPr b="0" lang="en-US" sz="8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3" name=""/>
            <p:cNvSpPr/>
            <p:nvPr/>
          </p:nvSpPr>
          <p:spPr>
            <a:xfrm>
              <a:off x="2340000" y="1628640"/>
              <a:ext cx="1152360" cy="1800360"/>
            </a:xfrm>
            <a:prstGeom prst="rect">
              <a:avLst/>
            </a:prstGeom>
            <a:solidFill>
              <a:srgbClr val="ccff33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4" name=""/>
          <p:cNvSpPr/>
          <p:nvPr/>
        </p:nvSpPr>
        <p:spPr>
          <a:xfrm>
            <a:off x="8101080" y="4941720"/>
            <a:ext cx="792000" cy="143460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8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2340000" y="1628640"/>
            <a:ext cx="4752720" cy="1800360"/>
            <a:chOff x="2340000" y="1628640"/>
            <a:chExt cx="4752720" cy="1800360"/>
          </a:xfrm>
        </p:grpSpPr>
        <p:grpSp>
          <p:nvGrpSpPr>
            <p:cNvPr id="256" name=""/>
            <p:cNvGrpSpPr/>
            <p:nvPr/>
          </p:nvGrpSpPr>
          <p:grpSpPr>
            <a:xfrm>
              <a:off x="3492360" y="1628640"/>
              <a:ext cx="3600360" cy="1798560"/>
              <a:chOff x="3492360" y="1628640"/>
              <a:chExt cx="3600360" cy="1798560"/>
            </a:xfrm>
          </p:grpSpPr>
          <p:sp>
            <p:nvSpPr>
              <p:cNvPr id="257" name=""/>
              <p:cNvSpPr/>
              <p:nvPr/>
            </p:nvSpPr>
            <p:spPr>
              <a:xfrm>
                <a:off x="3492360" y="1628640"/>
                <a:ext cx="3600360" cy="1798560"/>
              </a:xfrm>
              <a:prstGeom prst="rect">
                <a:avLst/>
              </a:prstGeom>
              <a:solidFill>
                <a:srgbClr val="bbe0e3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3563640" y="1852920"/>
                <a:ext cx="3457800" cy="131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50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NZ" sz="8000" spc="-1" strike="noStrike">
                    <a:solidFill>
                      <a:srgbClr val="000000"/>
                    </a:solidFill>
                    <a:latin typeface="Arial"/>
                  </a:rPr>
                  <a:t>zero</a:t>
                </a:r>
                <a:endParaRPr b="0" lang="en-US" sz="8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9" name=""/>
            <p:cNvSpPr/>
            <p:nvPr/>
          </p:nvSpPr>
          <p:spPr>
            <a:xfrm>
              <a:off x="2340000" y="1628640"/>
              <a:ext cx="1152360" cy="1800360"/>
            </a:xfrm>
            <a:prstGeom prst="rect">
              <a:avLst/>
            </a:prstGeom>
            <a:solidFill>
              <a:srgbClr val="ccff33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0" name=""/>
          <p:cNvSpPr/>
          <p:nvPr/>
        </p:nvSpPr>
        <p:spPr>
          <a:xfrm>
            <a:off x="324000" y="4941720"/>
            <a:ext cx="792000" cy="143460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8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1" name=""/>
          <p:cNvGrpSpPr/>
          <p:nvPr/>
        </p:nvGrpSpPr>
        <p:grpSpPr>
          <a:xfrm>
            <a:off x="2340000" y="1628640"/>
            <a:ext cx="4752720" cy="1800360"/>
            <a:chOff x="2340000" y="1628640"/>
            <a:chExt cx="4752720" cy="1800360"/>
          </a:xfrm>
        </p:grpSpPr>
        <p:grpSp>
          <p:nvGrpSpPr>
            <p:cNvPr id="262" name=""/>
            <p:cNvGrpSpPr/>
            <p:nvPr/>
          </p:nvGrpSpPr>
          <p:grpSpPr>
            <a:xfrm>
              <a:off x="3492360" y="1628640"/>
              <a:ext cx="3600360" cy="1798560"/>
              <a:chOff x="3492360" y="1628640"/>
              <a:chExt cx="3600360" cy="1798560"/>
            </a:xfrm>
          </p:grpSpPr>
          <p:sp>
            <p:nvSpPr>
              <p:cNvPr id="263" name=""/>
              <p:cNvSpPr/>
              <p:nvPr/>
            </p:nvSpPr>
            <p:spPr>
              <a:xfrm>
                <a:off x="3492360" y="1628640"/>
                <a:ext cx="3600360" cy="1798560"/>
              </a:xfrm>
              <a:prstGeom prst="rect">
                <a:avLst/>
              </a:prstGeom>
              <a:solidFill>
                <a:srgbClr val="bbe0e3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3563640" y="1852920"/>
                <a:ext cx="3457800" cy="131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50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NZ" sz="8000" spc="-1" strike="noStrike">
                    <a:solidFill>
                      <a:srgbClr val="000000"/>
                    </a:solidFill>
                    <a:latin typeface="Arial"/>
                  </a:rPr>
                  <a:t>five</a:t>
                </a:r>
                <a:endParaRPr b="0" lang="en-US" sz="8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5" name=""/>
            <p:cNvSpPr/>
            <p:nvPr/>
          </p:nvSpPr>
          <p:spPr>
            <a:xfrm>
              <a:off x="2340000" y="1628640"/>
              <a:ext cx="1152360" cy="1800360"/>
            </a:xfrm>
            <a:prstGeom prst="rect">
              <a:avLst/>
            </a:prstGeom>
            <a:solidFill>
              <a:srgbClr val="ccff33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6" name=""/>
          <p:cNvSpPr/>
          <p:nvPr/>
        </p:nvSpPr>
        <p:spPr>
          <a:xfrm>
            <a:off x="4645080" y="4941720"/>
            <a:ext cx="792000" cy="143460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8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2340000" y="1628640"/>
            <a:ext cx="4752720" cy="1800360"/>
            <a:chOff x="2340000" y="1628640"/>
            <a:chExt cx="4752720" cy="1800360"/>
          </a:xfrm>
        </p:grpSpPr>
        <p:grpSp>
          <p:nvGrpSpPr>
            <p:cNvPr id="268" name=""/>
            <p:cNvGrpSpPr/>
            <p:nvPr/>
          </p:nvGrpSpPr>
          <p:grpSpPr>
            <a:xfrm>
              <a:off x="3492360" y="1628640"/>
              <a:ext cx="3600360" cy="1798560"/>
              <a:chOff x="3492360" y="1628640"/>
              <a:chExt cx="3600360" cy="1798560"/>
            </a:xfrm>
          </p:grpSpPr>
          <p:sp>
            <p:nvSpPr>
              <p:cNvPr id="269" name=""/>
              <p:cNvSpPr/>
              <p:nvPr/>
            </p:nvSpPr>
            <p:spPr>
              <a:xfrm>
                <a:off x="3492360" y="1628640"/>
                <a:ext cx="3600360" cy="1798560"/>
              </a:xfrm>
              <a:prstGeom prst="rect">
                <a:avLst/>
              </a:prstGeom>
              <a:solidFill>
                <a:srgbClr val="bbe0e3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3563640" y="1852920"/>
                <a:ext cx="3457800" cy="131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50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NZ" sz="8000" spc="-1" strike="noStrike">
                    <a:solidFill>
                      <a:srgbClr val="000000"/>
                    </a:solidFill>
                    <a:latin typeface="Arial"/>
                  </a:rPr>
                  <a:t>seven</a:t>
                </a:r>
                <a:endParaRPr b="0" lang="en-US" sz="8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1" name=""/>
            <p:cNvSpPr/>
            <p:nvPr/>
          </p:nvSpPr>
          <p:spPr>
            <a:xfrm>
              <a:off x="2340000" y="1628640"/>
              <a:ext cx="1152360" cy="1800360"/>
            </a:xfrm>
            <a:prstGeom prst="rect">
              <a:avLst/>
            </a:prstGeom>
            <a:solidFill>
              <a:srgbClr val="ccff33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2" name=""/>
          <p:cNvSpPr/>
          <p:nvPr/>
        </p:nvSpPr>
        <p:spPr>
          <a:xfrm>
            <a:off x="6372360" y="4941720"/>
            <a:ext cx="792000" cy="143460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8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2340000" y="1628640"/>
            <a:ext cx="4752720" cy="1800360"/>
            <a:chOff x="2340000" y="1628640"/>
            <a:chExt cx="4752720" cy="1800360"/>
          </a:xfrm>
        </p:grpSpPr>
        <p:grpSp>
          <p:nvGrpSpPr>
            <p:cNvPr id="274" name=""/>
            <p:cNvGrpSpPr/>
            <p:nvPr/>
          </p:nvGrpSpPr>
          <p:grpSpPr>
            <a:xfrm>
              <a:off x="3492360" y="1628640"/>
              <a:ext cx="3600360" cy="1798560"/>
              <a:chOff x="3492360" y="1628640"/>
              <a:chExt cx="3600360" cy="1798560"/>
            </a:xfrm>
          </p:grpSpPr>
          <p:sp>
            <p:nvSpPr>
              <p:cNvPr id="275" name=""/>
              <p:cNvSpPr/>
              <p:nvPr/>
            </p:nvSpPr>
            <p:spPr>
              <a:xfrm>
                <a:off x="3492360" y="1628640"/>
                <a:ext cx="3600360" cy="1798560"/>
              </a:xfrm>
              <a:prstGeom prst="rect">
                <a:avLst/>
              </a:prstGeom>
              <a:solidFill>
                <a:srgbClr val="bbe0e3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3563640" y="1852920"/>
                <a:ext cx="3457800" cy="131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50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NZ" sz="8000" spc="-1" strike="noStrike">
                    <a:solidFill>
                      <a:srgbClr val="000000"/>
                    </a:solidFill>
                    <a:latin typeface="Arial"/>
                  </a:rPr>
                  <a:t>three</a:t>
                </a:r>
                <a:endParaRPr b="0" lang="en-US" sz="8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7" name=""/>
            <p:cNvSpPr/>
            <p:nvPr/>
          </p:nvSpPr>
          <p:spPr>
            <a:xfrm>
              <a:off x="2340000" y="1628640"/>
              <a:ext cx="1152360" cy="1800360"/>
            </a:xfrm>
            <a:prstGeom prst="rect">
              <a:avLst/>
            </a:prstGeom>
            <a:solidFill>
              <a:srgbClr val="ccff33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8" name=""/>
          <p:cNvSpPr/>
          <p:nvPr/>
        </p:nvSpPr>
        <p:spPr>
          <a:xfrm>
            <a:off x="2916360" y="4941720"/>
            <a:ext cx="792000" cy="143460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8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4184 -0.4615 E">
                                      <p:cBhvr>
                                        <p:cTn id="438" dur="2000" fill="hold"/>
                                        <p:tgtEl>
                                          <p:spTgt spid="2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33073 -0.4615 E">
                                      <p:cBhvr>
                                        <p:cTn id="446" dur="2000" fill="hold"/>
                                        <p:tgtEl>
                                          <p:spTgt spid="2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4722 -0.47213 E">
                                      <p:cBhvr>
                                        <p:cTn id="454" dur="2000" fill="hold"/>
                                        <p:tgtEl>
                                          <p:spTgt spid="2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5276 -0.47213 E">
                                      <p:cBhvr>
                                        <p:cTn id="462" dur="2000" fill="hold"/>
                                        <p:tgtEl>
                                          <p:spTgt spid="2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14167 -0.4615 E">
                                      <p:cBhvr>
                                        <p:cTn id="470" dur="2000" fill="hold"/>
                                        <p:tgtEl>
                                          <p:spTgt spid="2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61423 -0.45087 E">
                                      <p:cBhvr>
                                        <p:cTn id="478" dur="2000" fill="hold"/>
                                        <p:tgtEl>
                                          <p:spTgt spid="2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3628 -0.47213 E">
                                      <p:cBhvr>
                                        <p:cTn id="486" dur="2000" fill="hold"/>
                                        <p:tgtEl>
                                          <p:spTgt spid="2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3629 -0.47213 E">
                                      <p:cBhvr>
                                        <p:cTn id="494" dur="2000" fill="hold"/>
                                        <p:tgtEl>
                                          <p:spTgt spid="2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42518 -0.4615 E">
                                      <p:cBhvr>
                                        <p:cTn id="502" dur="2000" fill="hold"/>
                                        <p:tgtEl>
                                          <p:spTgt spid="2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4723 -0.47213 E">
                                      <p:cBhvr>
                                        <p:cTn id="510" dur="2000" fill="hold"/>
                                        <p:tgtEl>
                                          <p:spTgt spid="2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Orders Numb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268360" y="1125360"/>
            <a:ext cx="574920" cy="1099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66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908000" y="2997360"/>
            <a:ext cx="648000" cy="1099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66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635280" y="2924280"/>
            <a:ext cx="576360" cy="1099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66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951520" y="2838600"/>
            <a:ext cx="565200" cy="1099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66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50920" y="5013360"/>
            <a:ext cx="792000" cy="151272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395280" y="2708280"/>
            <a:ext cx="576360" cy="1099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66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716360" y="1484280"/>
            <a:ext cx="576360" cy="1099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66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956720" y="1197000"/>
            <a:ext cx="576000" cy="1099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66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383160" y="750960"/>
            <a:ext cx="565200" cy="1099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66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7535880" y="3127320"/>
            <a:ext cx="565200" cy="1099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66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468360" y="836640"/>
            <a:ext cx="574560" cy="1099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66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116000" y="5013360"/>
            <a:ext cx="792000" cy="151272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979640" y="5013360"/>
            <a:ext cx="792000" cy="151272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843280" y="5013360"/>
            <a:ext cx="792000" cy="151272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708360" y="5013360"/>
            <a:ext cx="792360" cy="151272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573440" y="5013360"/>
            <a:ext cx="792360" cy="151272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5437080" y="5013360"/>
            <a:ext cx="792360" cy="151272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6300720" y="5013360"/>
            <a:ext cx="792360" cy="151272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164360" y="5013360"/>
            <a:ext cx="792360" cy="151272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8028000" y="5013360"/>
            <a:ext cx="792000" cy="151272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268360" y="1125360"/>
            <a:ext cx="574920" cy="1099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66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908000" y="2997360"/>
            <a:ext cx="648000" cy="1099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66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3635280" y="2924280"/>
            <a:ext cx="576360" cy="1099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66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5951520" y="2838600"/>
            <a:ext cx="565200" cy="1099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66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95280" y="2708280"/>
            <a:ext cx="576360" cy="1099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66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716360" y="1484280"/>
            <a:ext cx="576360" cy="1099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66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7956720" y="1197000"/>
            <a:ext cx="576000" cy="1099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66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383160" y="750960"/>
            <a:ext cx="565200" cy="1099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66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535880" y="3127320"/>
            <a:ext cx="565200" cy="1099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66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68360" y="836640"/>
            <a:ext cx="574560" cy="1099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66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60625 0.34612 E">
                                      <p:cBhvr>
                                        <p:cTn id="560" dur="2000" fill="hold"/>
                                        <p:tgtEl>
                                          <p:spTgt spid="3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8663 0.63977 E">
                                      <p:cBhvr>
                                        <p:cTn id="564" dur="2000" fill="hold"/>
                                        <p:tgtEl>
                                          <p:spTgt spid="3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59062 0.30427 E">
                                      <p:cBhvr>
                                        <p:cTn id="568" dur="2000" fill="hold"/>
                                        <p:tgtEl>
                                          <p:spTgt spid="3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99 0.01434 L 0.11423 0.32902 E">
                                      <p:cBhvr>
                                        <p:cTn id="572" dur="2000" fill="hold"/>
                                        <p:tgtEl>
                                          <p:spTgt spid="3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0.01457 L -0.09444 0.5496 E">
                                      <p:cBhvr>
                                        <p:cTn id="576" dur="2000" fill="hold"/>
                                        <p:tgtEl>
                                          <p:spTgt spid="3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0.01433 L -0.35434 0.59121 E">
                                      <p:cBhvr>
                                        <p:cTn id="580" dur="2000" fill="hold"/>
                                        <p:tgtEl>
                                          <p:spTgt spid="3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36216 0.59792 E">
                                      <p:cBhvr>
                                        <p:cTn id="584" dur="2000" fill="hold"/>
                                        <p:tgtEl>
                                          <p:spTgt spid="3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30711 0.33572 E">
                                      <p:cBhvr>
                                        <p:cTn id="588" dur="2000" fill="hold"/>
                                        <p:tgtEl>
                                          <p:spTgt spid="3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7559 0.36717 E">
                                      <p:cBhvr>
                                        <p:cTn id="592" dur="2000" fill="hold"/>
                                        <p:tgtEl>
                                          <p:spTgt spid="3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69 0.01642 L 0.19618 0.65619 E">
                                      <p:cBhvr>
                                        <p:cTn id="596" dur="2000" fill="hold"/>
                                        <p:tgtEl>
                                          <p:spTgt spid="3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73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Counts Forw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539640" y="1916280"/>
            <a:ext cx="863640" cy="1557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96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5148360" y="2276640"/>
            <a:ext cx="863640" cy="1557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96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132000" y="3933720"/>
            <a:ext cx="863640" cy="1557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96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7164360" y="2349360"/>
            <a:ext cx="863640" cy="1557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96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124000" y="4653000"/>
            <a:ext cx="863640" cy="1557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96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6156360" y="1844640"/>
            <a:ext cx="863640" cy="1557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96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79280" y="189000"/>
            <a:ext cx="863640" cy="1557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96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8101080" y="3573360"/>
            <a:ext cx="863640" cy="1557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96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4140360" y="3068640"/>
            <a:ext cx="863280" cy="1557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96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116000" y="3573360"/>
            <a:ext cx="863640" cy="1557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96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73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What comes aft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2556000" y="1125360"/>
            <a:ext cx="863640" cy="1557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96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6732720" y="4724280"/>
            <a:ext cx="863640" cy="1557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96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4932360" y="1125360"/>
            <a:ext cx="863640" cy="1557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96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684360" y="4653000"/>
            <a:ext cx="863280" cy="1557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96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851280" y="4653000"/>
            <a:ext cx="863640" cy="1557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96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020000" y="1125360"/>
            <a:ext cx="863640" cy="1557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96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95280" y="1125360"/>
            <a:ext cx="863640" cy="1557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96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156360" y="2852640"/>
            <a:ext cx="863640" cy="1557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96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1280" y="2924280"/>
            <a:ext cx="863640" cy="1557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96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1547640" y="2924280"/>
            <a:ext cx="863640" cy="1557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96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332000" y="1125360"/>
            <a:ext cx="863640" cy="155700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9600" spc="-1" strike="noStrike">
                <a:solidFill>
                  <a:srgbClr val="ffff00"/>
                </a:solidFill>
                <a:latin typeface="Arial"/>
              </a:rPr>
              <a:t>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492360" y="1125360"/>
            <a:ext cx="863640" cy="155700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9600" spc="-1" strike="noStrike">
                <a:solidFill>
                  <a:srgbClr val="ffff00"/>
                </a:solidFill>
                <a:latin typeface="Arial"/>
              </a:rPr>
              <a:t>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867280" y="1125360"/>
            <a:ext cx="863640" cy="155700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9600" spc="-1" strike="noStrike">
                <a:solidFill>
                  <a:srgbClr val="ffff00"/>
                </a:solidFill>
                <a:latin typeface="Arial"/>
              </a:rPr>
              <a:t>5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093080" y="2852640"/>
            <a:ext cx="1726920" cy="155700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9600" spc="-1" strike="noStrike">
                <a:solidFill>
                  <a:srgbClr val="ffff00"/>
                </a:solidFill>
                <a:latin typeface="Arial"/>
              </a:rPr>
              <a:t>10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2484360" y="2924280"/>
            <a:ext cx="863640" cy="155700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9600" spc="-1" strike="noStrike">
                <a:solidFill>
                  <a:srgbClr val="ffff00"/>
                </a:solidFill>
                <a:latin typeface="Arial"/>
              </a:rPr>
              <a:t>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4788000" y="2924280"/>
            <a:ext cx="863640" cy="155700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9600" spc="-1" strike="noStrike">
                <a:solidFill>
                  <a:srgbClr val="ffff00"/>
                </a:solidFill>
                <a:latin typeface="Arial"/>
              </a:rPr>
              <a:t>6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7956720" y="1125360"/>
            <a:ext cx="863280" cy="155700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9600" spc="-1" strike="noStrike">
                <a:solidFill>
                  <a:srgbClr val="ffff00"/>
                </a:solidFill>
                <a:latin typeface="Arial"/>
              </a:rPr>
              <a:t>8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1619280" y="4653000"/>
            <a:ext cx="863640" cy="155700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9600" spc="-1" strike="noStrike">
                <a:solidFill>
                  <a:srgbClr val="ffff00"/>
                </a:solidFill>
                <a:latin typeface="Arial"/>
              </a:rPr>
              <a:t>9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4788000" y="4653000"/>
            <a:ext cx="863640" cy="155700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9600" spc="-1" strike="noStrike">
                <a:solidFill>
                  <a:srgbClr val="ffff00"/>
                </a:solidFill>
                <a:latin typeface="Arial"/>
              </a:rPr>
              <a:t>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7667640" y="4724280"/>
            <a:ext cx="863640" cy="1557000"/>
          </a:xfrm>
          <a:prstGeom prst="rect">
            <a:avLst/>
          </a:prstGeom>
          <a:solidFill>
            <a:srgbClr val="ff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9600" spc="-1" strike="noStrike">
                <a:solidFill>
                  <a:srgbClr val="ffff00"/>
                </a:solidFill>
                <a:latin typeface="Arial"/>
              </a:rPr>
              <a:t>7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0T04:23:01Z</dcterms:created>
  <dc:creator>Ministry of Education</dc:creator>
  <dc:description/>
  <dc:language>en-US</dc:language>
  <cp:lastModifiedBy>Ministry of Education</cp:lastModifiedBy>
  <dcterms:modified xsi:type="dcterms:W3CDTF">2008-05-04T04:35:20Z</dcterms:modified>
  <cp:revision>9</cp:revision>
  <dc:subject/>
  <dc:title>What the heck does that mean?</dc:title>
</cp:coreProperties>
</file>