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2BC7-D0DA-4A7F-9C26-700BDB76A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50C-BF13-49ED-8226-7F81866D3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23D-1D14-4018-9DFC-AB5C77FA2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040E-0F47-49DB-B069-D2F552DAB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182E-D8C3-4176-B963-42ACB33A3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347-11BD-4DAA-99BF-8D6035109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00D1-7828-4DE5-996D-2A54A2FA1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60FD-F21E-42CB-8EF6-5BF29D80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16E1-AF6B-4F63-A5BC-D3EEF3B1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9C77-FB1A-4B09-80CF-52319F46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41C1-498B-478D-8B7B-842CA8EF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7A81-7967-4EC6-8280-A146626CB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79ADC-91D8-4867-8E22-7AD78637FD5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2565360"/>
            <a:ext cx="8424720" cy="1470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66ff"/>
                </a:solidFill>
                <a:latin typeface="Ravie"/>
              </a:rPr>
              <a:t>Mathematics</a:t>
            </a:r>
            <a:br>
              <a:rPr sz="6000"/>
            </a:br>
            <a:br>
              <a:rPr sz="4000"/>
            </a:br>
            <a:r>
              <a:rPr b="1" lang="en-NZ" sz="4800" spc="-1" strike="noStrike">
                <a:solidFill>
                  <a:srgbClr val="ffffff"/>
                </a:solidFill>
                <a:latin typeface="Arial"/>
              </a:rPr>
              <a:t>Diagnostic - Number Knowledge</a:t>
            </a:r>
            <a:br>
              <a:rPr sz="4000"/>
            </a:br>
            <a:br>
              <a:rPr sz="4000"/>
            </a:br>
            <a:r>
              <a:rPr b="1" lang="en-NZ" sz="7200" spc="-1" strike="noStrike">
                <a:solidFill>
                  <a:srgbClr val="ff3300"/>
                </a:solidFill>
                <a:latin typeface="Arial"/>
              </a:rPr>
              <a:t>Numbers 1-2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Forward 0-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852640"/>
            <a:ext cx="43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Yay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Backward 20-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242100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964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61928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62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70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8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948360" y="148428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028000" y="1484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948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85928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3964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700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780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940360" y="5373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028000" y="2421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02800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028000" y="4365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028000" y="3429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9640" y="33577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484360" y="2276640"/>
            <a:ext cx="4321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3300"/>
                </a:solidFill>
                <a:latin typeface="Ravie"/>
              </a:rPr>
              <a:t>Spot on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291636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s 2s, 3s &amp; 4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59280" y="328464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08720" y="476280"/>
            <a:ext cx="2952720" cy="3240000"/>
          </a:xfrm>
          <a:prstGeom prst="ellipse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42920" y="98100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763640" y="83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54764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16000" y="2060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547640" y="2708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11280" y="1484280"/>
            <a:ext cx="433440" cy="43200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2000"/>
              <a:gd name="textAreaBottom" fmla="*/ 271080 h 43200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268360" y="227664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843280" y="1916280"/>
            <a:ext cx="433440" cy="431640"/>
          </a:xfrm>
          <a:custGeom>
            <a:avLst/>
            <a:gdLst>
              <a:gd name="textAreaLeft" fmla="*/ 101880 w 433440"/>
              <a:gd name="textAreaRight" fmla="*/ 331200 w 433440"/>
              <a:gd name="textAreaTop" fmla="*/ 50760 h 431640"/>
              <a:gd name="textAreaBottom" fmla="*/ 270720 h 43164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71640" y="549360"/>
            <a:ext cx="1368360" cy="1439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979640" y="1341360"/>
            <a:ext cx="1368360" cy="1440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844640"/>
            <a:ext cx="151128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76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796000" y="148428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1484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30872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812000" y="155736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940360" y="220500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372360" y="2205000"/>
            <a:ext cx="35856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77080" y="299736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372360" y="299736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812000" y="2276640"/>
            <a:ext cx="35892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80360" y="2276640"/>
            <a:ext cx="358560" cy="4330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1700280"/>
            <a:ext cx="358920" cy="433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27640" y="62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34136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4360" y="2133720"/>
            <a:ext cx="122400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724360" y="2060640"/>
            <a:ext cx="136872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156360" y="2852640"/>
            <a:ext cx="1368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36000" y="1413000"/>
            <a:ext cx="1152360" cy="7207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492360" y="407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3645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4508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4149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635280" y="5157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43280" y="4869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211640" y="551664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076720" y="5373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076720" y="443700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08720" y="4941720"/>
            <a:ext cx="142920" cy="360360"/>
          </a:xfrm>
          <a:prstGeom prst="flowChartMagneticDisk">
            <a:avLst/>
          </a:prstGeom>
          <a:solidFill>
            <a:srgbClr val="ff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348000" y="350028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4365720"/>
            <a:ext cx="1368360" cy="1441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492360" y="907920"/>
            <a:ext cx="79236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7812000" y="3573360"/>
            <a:ext cx="1008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156360" y="537372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8" dur="indefinite" restart="never" nodeType="tmRoot">
          <p:childTnLst>
            <p:seq>
              <p:cTn id="869" dur="indefinite" nodeType="mainSeq">
                <p:childTnLst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Skip Counts     2,    5   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16000" y="1268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83528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70036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56400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42764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29272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885080" y="1268280"/>
            <a:ext cx="79236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5636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020000" y="1268280"/>
            <a:ext cx="79200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836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20364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94036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83528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308720" y="2708280"/>
            <a:ext cx="1224000" cy="109944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2400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050920" y="4508640"/>
            <a:ext cx="158292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000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50872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236000" y="4508640"/>
            <a:ext cx="1582560" cy="13129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0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95280" y="1268280"/>
            <a:ext cx="647640" cy="703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oubles to 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4360" y="907920"/>
            <a:ext cx="1079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16360" y="907920"/>
            <a:ext cx="1079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4360" y="2060640"/>
            <a:ext cx="107928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916360" y="4365720"/>
            <a:ext cx="10792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916360" y="3213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16360" y="2060640"/>
            <a:ext cx="107928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2916360" y="5516640"/>
            <a:ext cx="107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84360" y="5516640"/>
            <a:ext cx="107928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84360" y="4365720"/>
            <a:ext cx="107928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84360" y="3213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292720" y="4365720"/>
            <a:ext cx="1079640" cy="10083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3213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292720" y="2060640"/>
            <a:ext cx="1079640" cy="1008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92720" y="907920"/>
            <a:ext cx="107964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292720" y="5516640"/>
            <a:ext cx="1079640" cy="10083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050920" y="1052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56000" y="1052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50920" y="2205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050920" y="3357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050920" y="4437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050920" y="5589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56000" y="2133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56000" y="3357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56000" y="4508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56000" y="558972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57200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Five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7928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76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8728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1484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20364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7928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76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18728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700360" y="57340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0364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176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118728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700360" y="465300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364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7928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6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18728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700360" y="3573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20364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76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8728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700360" y="249228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364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32360" y="1484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516720" y="1484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0360" y="1628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453440" y="1484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956720" y="1484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932360" y="24922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516720" y="24922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940360" y="263700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453440" y="24922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956720" y="24922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32360" y="357336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516720" y="357336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5940360" y="371808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453440" y="3573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956720" y="357336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932360" y="465300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516720" y="465300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940360" y="4797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453440" y="465300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956720" y="465300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5734080"/>
            <a:ext cx="1008000" cy="8251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516720" y="5734080"/>
            <a:ext cx="86364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940360" y="58784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45344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956720" y="5734080"/>
            <a:ext cx="863280" cy="82512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Draw a picture (Whiteboar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80000" y="1197000"/>
            <a:ext cx="107928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54764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156360" y="119700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91456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19640" y="134136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51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61928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227640" y="3789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98620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291280" y="3933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25892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6364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26836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25892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76364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26836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35600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3851280" y="28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5600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851280" y="2349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1600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183528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27672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99564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35640" y="522936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71636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15636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877080" y="522936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4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51" dur="2000" fill="hold"/>
                                        <p:tgtEl>
                                          <p:spTgt spid="4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53" dur="2000" fill="hold"/>
                                        <p:tgtEl>
                                          <p:spTgt spid="4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7 0 E">
                                      <p:cBhvr>
                                        <p:cTn id="1155" dur="2000" fill="hold"/>
                                        <p:tgtEl>
                                          <p:spTgt spid="4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59" dur="2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1" dur="2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3" dur="2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5" dur="2000" fill="hold"/>
                                        <p:tgtEl>
                                          <p:spTgt spid="4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7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4 0 E">
                                      <p:cBhvr>
                                        <p:cTn id="1169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3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4" dur="2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6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77" dur="2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9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0" dur="2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2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3" dur="2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6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8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89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1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2" dur="2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4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5" dur="2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97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8" dur="2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0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01" dur="2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5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29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3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7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8" dur="500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1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4" fill="hold">
                      <p:stCondLst>
                        <p:cond delay="indefinite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7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48" dur="2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0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1" dur="2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3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4" dur="2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56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7" dur="2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Records Equ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851280" y="2565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619280" y="2565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227640" y="256536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2986200" y="2709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291280" y="270972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51280" y="558972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619280" y="558972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227640" y="5589720"/>
            <a:ext cx="1079640" cy="100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98620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291280" y="573408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1692360" y="1054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197080" y="10540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69236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97080" y="155736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5437080" y="1555920"/>
            <a:ext cx="503280" cy="50292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4932360" y="1555920"/>
            <a:ext cx="503280" cy="50292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437080" y="10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932360" y="105264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867280" y="1268280"/>
            <a:ext cx="503280" cy="503280"/>
          </a:xfrm>
          <a:prstGeom prst="smileyFace">
            <a:avLst>
              <a:gd name="adj" fmla="val 9282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692360" y="429264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41128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13200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385272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12000" y="429264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92720" y="4292640"/>
            <a:ext cx="71928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732720" y="4292640"/>
            <a:ext cx="718920" cy="72072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85" dur="2000" fill="hold"/>
                                        <p:tgtEl>
                                          <p:spTgt spid="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87" dur="2000" fill="hold"/>
                                        <p:tgtEl>
                                          <p:spTgt spid="4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89" dur="2000" fill="hold"/>
                                        <p:tgtEl>
                                          <p:spTgt spid="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9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2848 0 E">
                                      <p:cBhvr>
                                        <p:cTn id="1291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2" fill="hold">
                      <p:stCondLst>
                        <p:cond delay="indefinite"/>
                      </p:stCondLst>
                      <p:childTnLst>
                        <p:par>
                          <p:cTn id="1293" fill="hold">
                            <p:stCondLst>
                              <p:cond delay="0"/>
                            </p:stCondLst>
                            <p:childTnLst>
                              <p:par>
                                <p:cTn id="12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5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296" dur="2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8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299" dur="2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1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02" dur="2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4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05" dur="20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7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08" dur="2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0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11" dur="2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3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14" dur="2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6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17" dur="2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9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1320" dur="2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2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200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0" dur="2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20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3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2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200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9" fill="hold">
                      <p:stCondLst>
                        <p:cond delay="indefinite"/>
                      </p:stCondLst>
                      <p:childTnLst>
                        <p:par>
                          <p:cTn id="1390" fill="hold">
                            <p:stCondLst>
                              <p:cond delay="0"/>
                            </p:stCondLst>
                            <p:childTnLst>
                              <p:par>
                                <p:cTn id="1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Groupings within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692360" y="9079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9528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16360" y="9079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125892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41128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692360" y="184464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9528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916360" y="184464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5892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2411280" y="1844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692360" y="278136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39528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916360" y="278136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25892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411280" y="2781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692360" y="371628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9528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916360" y="371628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589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411280" y="37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692360" y="465300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39528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916360" y="465300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25892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2411280" y="4653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92360" y="55897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395280" y="5589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916360" y="55897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25892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411280" y="558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12000" y="9079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4714920" y="9079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236000" y="9079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78560" y="1052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730920" y="9079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012000" y="184464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714920" y="184464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236000" y="184464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578560" y="198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730920" y="184464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012000" y="278136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14920" y="278136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236000" y="278136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578560" y="2925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730920" y="278136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012000" y="371628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71492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236000" y="371628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856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730920" y="371628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012000" y="465300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714920" y="465300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236000" y="465300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78560" y="4797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730920" y="465300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012000" y="5589720"/>
            <a:ext cx="7189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714920" y="558972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236000" y="5589720"/>
            <a:ext cx="72072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578560" y="57340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730920" y="5589720"/>
            <a:ext cx="4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1 bigger, 10 b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5651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 b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7" fill="hold">
                      <p:stCondLst>
                        <p:cond delay="indefinite"/>
                      </p:stCondLst>
                      <p:childTnLst>
                        <p:par>
                          <p:cTn id="1528" fill="hold">
                            <p:stCondLst>
                              <p:cond delay="0"/>
                            </p:stCondLst>
                            <p:childTnLst>
                              <p:par>
                                <p:cTn id="1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Checklist of Knowledge and Understanding for Numbers 1-2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620640"/>
            <a:ext cx="40384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: 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Year: _____     Room: 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ads  Numbers…...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Writes a Numbers   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objects to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Matches Set/Numeral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Greater…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Knows Nos 1 Less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numbers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Forward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Counts Backward……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s 2’s, 3’s, 4’s,..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kip Counts………..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oubles to Ten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5 Patterns…………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00360" y="620640"/>
            <a:ext cx="439236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Draw picture of operation ……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ords Equations ………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Groupings within 20 …………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+1, 10 …………    .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ames No -1, 10 …………   …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Place Value…………………..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Expands …………………….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No of Tens in Decades ……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Symbols for Fractions ………   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Orders Fractions ……………...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+ …………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–   …………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Recalls Basic Facts x…………..  Yes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1" lang="en-NZ" sz="2000" spc="-1" strike="noStrike">
                <a:solidFill>
                  <a:srgbClr val="000000"/>
                </a:solidFill>
                <a:latin typeface="Bodoni MT Condensed"/>
              </a:rPr>
              <a:t> No</a:t>
            </a:r>
            <a:r>
              <a:rPr b="1" lang="en-NZ" sz="20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92280"/>
            <a:ext cx="3889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Date:         ____/___/_______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600" spc="-1" strike="noStrike">
                <a:solidFill>
                  <a:srgbClr val="000000"/>
                </a:solidFill>
                <a:latin typeface="Arial"/>
              </a:rPr>
              <a:t>Tested by: 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umber 1 smaller, 10 sma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419640" y="1700280"/>
            <a:ext cx="86508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55640" y="1700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0360" y="17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124000" y="1844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203640" y="11253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651640" y="112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10 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21080" y="2708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55640" y="2708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942160" y="2708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2125800" y="2852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21080" y="3716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55640" y="3716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942160" y="3716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125800" y="38606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21080" y="47242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55640" y="47242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2160" y="47242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25800" y="486900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21080" y="5734080"/>
            <a:ext cx="86364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55640" y="5734080"/>
            <a:ext cx="863640" cy="70344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942160" y="5734080"/>
            <a:ext cx="7905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25800" y="587844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3" dur="indefinite" restart="never" nodeType="tmRoot">
          <p:childTnLst>
            <p:seq>
              <p:cTn id="1544" dur="indefinite" nodeType="mainSeq">
                <p:childTnLst>
                  <p:par>
                    <p:cTn id="1545" fill="hold">
                      <p:stCondLst>
                        <p:cond delay="indefinite"/>
                      </p:stCondLst>
                      <p:childTnLst>
                        <p:par>
                          <p:cTn id="1546" fill="hold">
                            <p:stCondLst>
                              <p:cond delay="0"/>
                            </p:stCondLst>
                            <p:childTnLst>
                              <p:par>
                                <p:cTn id="1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9" fill="hold">
                      <p:stCondLst>
                        <p:cond delay="indefinite"/>
                      </p:stCondLst>
                      <p:childTnLst>
                        <p:par>
                          <p:cTn id="1600" fill="hold">
                            <p:stCondLst>
                              <p:cond delay="0"/>
                            </p:stCondLst>
                            <p:childTnLst>
                              <p:par>
                                <p:cTn id="1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2890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Place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684360" y="90792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"/>
          <p:cNvGrpSpPr/>
          <p:nvPr/>
        </p:nvGrpSpPr>
        <p:grpSpPr>
          <a:xfrm>
            <a:off x="684360" y="907920"/>
            <a:ext cx="2158920" cy="1008360"/>
            <a:chOff x="684360" y="907920"/>
            <a:chExt cx="2158920" cy="1008360"/>
          </a:xfrm>
        </p:grpSpPr>
        <p:sp>
          <p:nvSpPr>
            <p:cNvPr id="589" name=""/>
            <p:cNvSpPr/>
            <p:nvPr/>
          </p:nvSpPr>
          <p:spPr>
            <a:xfrm>
              <a:off x="684360" y="907920"/>
              <a:ext cx="2158920" cy="100836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360"/>
                <a:gd name="textAreaBottom" fmla="*/ 100836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55640" y="9079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258920" y="907920"/>
            <a:ext cx="2160720" cy="1008360"/>
            <a:chOff x="1258920" y="907920"/>
            <a:chExt cx="2160720" cy="1008360"/>
          </a:xfrm>
        </p:grpSpPr>
        <p:sp>
          <p:nvSpPr>
            <p:cNvPr id="592" name=""/>
            <p:cNvSpPr/>
            <p:nvPr/>
          </p:nvSpPr>
          <p:spPr>
            <a:xfrm>
              <a:off x="1258920" y="907920"/>
              <a:ext cx="2160720" cy="10083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332000" y="9079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684360" y="2060640"/>
            <a:ext cx="2158920" cy="1008000"/>
            <a:chOff x="684360" y="2060640"/>
            <a:chExt cx="2158920" cy="1008000"/>
          </a:xfrm>
        </p:grpSpPr>
        <p:sp>
          <p:nvSpPr>
            <p:cNvPr id="595" name=""/>
            <p:cNvSpPr/>
            <p:nvPr/>
          </p:nvSpPr>
          <p:spPr>
            <a:xfrm>
              <a:off x="684360" y="2060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55640" y="2060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7" name=""/>
          <p:cNvGrpSpPr/>
          <p:nvPr/>
        </p:nvGrpSpPr>
        <p:grpSpPr>
          <a:xfrm>
            <a:off x="1258920" y="2060640"/>
            <a:ext cx="2160720" cy="1008000"/>
            <a:chOff x="1258920" y="2060640"/>
            <a:chExt cx="2160720" cy="1008000"/>
          </a:xfrm>
        </p:grpSpPr>
        <p:sp>
          <p:nvSpPr>
            <p:cNvPr id="598" name=""/>
            <p:cNvSpPr/>
            <p:nvPr/>
          </p:nvSpPr>
          <p:spPr>
            <a:xfrm>
              <a:off x="1258920" y="2060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332000" y="2060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684360" y="3213000"/>
            <a:ext cx="2158920" cy="1008000"/>
            <a:chOff x="684360" y="3213000"/>
            <a:chExt cx="2158920" cy="1008000"/>
          </a:xfrm>
        </p:grpSpPr>
        <p:sp>
          <p:nvSpPr>
            <p:cNvPr id="601" name=""/>
            <p:cNvSpPr/>
            <p:nvPr/>
          </p:nvSpPr>
          <p:spPr>
            <a:xfrm>
              <a:off x="684360" y="321300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55640" y="321300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1258920" y="3213000"/>
            <a:ext cx="2160720" cy="1008000"/>
            <a:chOff x="1258920" y="3213000"/>
            <a:chExt cx="2160720" cy="1008000"/>
          </a:xfrm>
        </p:grpSpPr>
        <p:sp>
          <p:nvSpPr>
            <p:cNvPr id="604" name=""/>
            <p:cNvSpPr/>
            <p:nvPr/>
          </p:nvSpPr>
          <p:spPr>
            <a:xfrm>
              <a:off x="1258920" y="321300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332000" y="321300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684360" y="4365720"/>
            <a:ext cx="2158920" cy="1008000"/>
            <a:chOff x="684360" y="4365720"/>
            <a:chExt cx="2158920" cy="1008000"/>
          </a:xfrm>
        </p:grpSpPr>
        <p:sp>
          <p:nvSpPr>
            <p:cNvPr id="607" name=""/>
            <p:cNvSpPr/>
            <p:nvPr/>
          </p:nvSpPr>
          <p:spPr>
            <a:xfrm>
              <a:off x="684360" y="436572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5640" y="436572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9" name=""/>
          <p:cNvGrpSpPr/>
          <p:nvPr/>
        </p:nvGrpSpPr>
        <p:grpSpPr>
          <a:xfrm>
            <a:off x="1258920" y="4365720"/>
            <a:ext cx="2160720" cy="1008000"/>
            <a:chOff x="1258920" y="4365720"/>
            <a:chExt cx="2160720" cy="1008000"/>
          </a:xfrm>
        </p:grpSpPr>
        <p:sp>
          <p:nvSpPr>
            <p:cNvPr id="610" name=""/>
            <p:cNvSpPr/>
            <p:nvPr/>
          </p:nvSpPr>
          <p:spPr>
            <a:xfrm>
              <a:off x="1258920" y="436572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332000" y="436572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684360" y="5516640"/>
            <a:ext cx="2158920" cy="1008000"/>
            <a:chOff x="684360" y="5516640"/>
            <a:chExt cx="2158920" cy="1008000"/>
          </a:xfrm>
        </p:grpSpPr>
        <p:sp>
          <p:nvSpPr>
            <p:cNvPr id="613" name=""/>
            <p:cNvSpPr/>
            <p:nvPr/>
          </p:nvSpPr>
          <p:spPr>
            <a:xfrm>
              <a:off x="684360" y="5516640"/>
              <a:ext cx="2158920" cy="1008000"/>
            </a:xfrm>
            <a:custGeom>
              <a:avLst/>
              <a:gdLst>
                <a:gd name="textAreaLeft" fmla="*/ 0 w 2158920"/>
                <a:gd name="textAreaRight" fmla="*/ 2159280 w 21589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55640" y="5516640"/>
              <a:ext cx="1440000" cy="9169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1258920" y="5516640"/>
            <a:ext cx="2160720" cy="1008000"/>
            <a:chOff x="1258920" y="5516640"/>
            <a:chExt cx="2160720" cy="1008000"/>
          </a:xfrm>
        </p:grpSpPr>
        <p:sp>
          <p:nvSpPr>
            <p:cNvPr id="616" name=""/>
            <p:cNvSpPr/>
            <p:nvPr/>
          </p:nvSpPr>
          <p:spPr>
            <a:xfrm>
              <a:off x="1258920" y="5516640"/>
              <a:ext cx="2160720" cy="1008000"/>
            </a:xfrm>
            <a:custGeom>
              <a:avLst/>
              <a:gdLst>
                <a:gd name="textAreaLeft" fmla="*/ 0 w 2160720"/>
                <a:gd name="textAreaRight" fmla="*/ 2160720 w 2160720"/>
                <a:gd name="textAreaTop" fmla="*/ 0 h 1008000"/>
                <a:gd name="textAreaBottom" fmla="*/ 1008360 h 100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332000" y="5516640"/>
              <a:ext cx="718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NZ" sz="5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92436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T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43640" y="333360"/>
            <a:ext cx="2232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5" dur="indefinite" restart="never" nodeType="tmRoot">
          <p:childTnLst>
            <p:seq>
              <p:cTn id="1616" dur="indefinite" nodeType="mainSeq">
                <p:childTnLst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0.58281 -1.21387E-006 E">
                                      <p:cBhvr>
                                        <p:cTn id="1620" dur="2000" fill="hold"/>
                                        <p:tgtEl>
                                          <p:spTgt spid="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8.67052E-007 L 0.39375 0.00023 E">
                                      <p:cBhvr>
                                        <p:cTn id="1624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0.58281 -1.21387E-006 E">
                                      <p:cBhvr>
                                        <p:cTn id="1628" dur="2000" fill="hold"/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4.04624E-007 L 0.39375 0.00023 E">
                                      <p:cBhvr>
                                        <p:cTn id="1632" dur="2000" fill="hold"/>
                                        <p:tgtEl>
                                          <p:spTgt spid="5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-1.6763E-006 L 0.58281 -1.6763E-006 E">
                                      <p:cBhvr>
                                        <p:cTn id="1636" dur="2000" fill="hold"/>
                                        <p:tgtEl>
                                          <p:spTgt spid="6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7" fill="hold">
                      <p:stCondLst>
                        <p:cond delay="indefinite"/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1.6763E-006 L 0.39375 -1.6763E-006 E">
                                      <p:cBhvr>
                                        <p:cTn id="1640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94798E-006 L 0.58281 -2.94798E-006 E">
                                      <p:cBhvr>
                                        <p:cTn id="1644" dur="2000" fill="hold"/>
                                        <p:tgtEl>
                                          <p:spTgt spid="6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2.94798E-006 L 0.39375 -2.94798E-006 E">
                                      <p:cBhvr>
                                        <p:cTn id="1648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21387E-006 L 0.58281 -1.21387E-006 E">
                                      <p:cBhvr>
                                        <p:cTn id="1652" dur="2000" fill="hold"/>
                                        <p:tgtEl>
                                          <p:spTgt spid="6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21387E-006 L 0.39375 -1.21387E-006 E">
                                      <p:cBhvr>
                                        <p:cTn id="1656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Expanding a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539640" y="981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042920" y="981000"/>
            <a:ext cx="79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042920" y="981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539640" y="2133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042920" y="2133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539640" y="328464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42920" y="328464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539640" y="443700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1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042920" y="443700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539640" y="5589720"/>
            <a:ext cx="158436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2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1042920" y="5589720"/>
            <a:ext cx="935280" cy="1008360"/>
          </a:xfrm>
          <a:prstGeom prst="rect">
            <a:avLst/>
          </a:prstGeom>
          <a:solidFill>
            <a:srgbClr val="ff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050920" y="1268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2050920" y="2421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2050920" y="3573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2050920" y="479736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050920" y="587700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is made up of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443640" y="105264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6443640" y="2205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6443640" y="335772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443640" y="4653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443640" y="5661000"/>
            <a:ext cx="4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7" dur="indefinite" restart="never" nodeType="tmRoot">
          <p:childTnLst>
            <p:seq>
              <p:cTn id="1658" dur="indefinite" nodeType="mainSeq">
                <p:childTnLst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4.9711E-006 L 0.44878 -4.9711E-006 E">
                                      <p:cBhvr>
                                        <p:cTn id="1662" dur="2000" fill="hold"/>
                                        <p:tgtEl>
                                          <p:spTgt spid="6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-4.9711E-006 L 0.67344 -4.9711E-006 E">
                                      <p:cBhvr>
                                        <p:cTn id="1670" dur="2000" fill="hold"/>
                                        <p:tgtEl>
                                          <p:spTgt spid="6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3.75723E-006 L 0.44878 3.75723E-006 E">
                                      <p:cBhvr>
                                        <p:cTn id="1674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3.75723E-006 L 0.67344 3.75723E-006 E">
                                      <p:cBhvr>
                                        <p:cTn id="1682" dur="2000" fill="hold"/>
                                        <p:tgtEl>
                                          <p:spTgt spid="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1686" dur="2000" fill="hold"/>
                                        <p:tgtEl>
                                          <p:spTgt spid="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1694" dur="2000" fill="hold"/>
                                        <p:tgtEl>
                                          <p:spTgt spid="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0.00023 L 0.44878 0.00023 E">
                                      <p:cBhvr>
                                        <p:cTn id="1698" dur="2000" fill="hold"/>
                                        <p:tgtEl>
                                          <p:spTgt spid="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0.00023 L 0.67344 0.00023 E">
                                      <p:cBhvr>
                                        <p:cTn id="1706" dur="2000" fill="hold"/>
                                        <p:tgtEl>
                                          <p:spTgt spid="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444 1.15607E-006 L 0.44878 1.15607E-006 E">
                                      <p:cBhvr>
                                        <p:cTn id="1710" dur="2000" fill="hold"/>
                                        <p:tgtEl>
                                          <p:spTgt spid="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921 1.15607E-006 L 0.67344 1.15607E-006 E">
                                      <p:cBhvr>
                                        <p:cTn id="1718" dur="2000" fill="hold"/>
                                        <p:tgtEl>
                                          <p:spTgt spid="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of tens in dec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611280" y="836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979640" y="1125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859280" y="836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7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11280" y="2060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979640" y="2349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859280" y="2060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4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11280" y="3284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1979640" y="3573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859280" y="3284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9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11280" y="4508640"/>
            <a:ext cx="115236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979640" y="479736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..is made of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4859280" y="4508640"/>
            <a:ext cx="2664000" cy="109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000000"/>
                </a:solidFill>
                <a:latin typeface="Arial"/>
              </a:rPr>
              <a:t>2 ten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Showing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84360" y="981000"/>
            <a:ext cx="86328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547640" y="981000"/>
            <a:ext cx="863640" cy="1152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 rot="16200000">
            <a:off x="1265040" y="219816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2556000" y="12682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is shape has be cut in 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5508720" y="1052640"/>
            <a:ext cx="158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half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451640" y="1052640"/>
            <a:ext cx="72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2692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1547640" y="292428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82692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547640" y="3573360"/>
            <a:ext cx="720720" cy="64764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 rot="16200000">
            <a:off x="1265040" y="4358880"/>
            <a:ext cx="50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268360" y="3284640"/>
            <a:ext cx="29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cut off is called 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5076720" y="2924280"/>
            <a:ext cx="223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four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451640" y="285264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50920" y="5373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The bit left is called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2627280" y="4937040"/>
            <a:ext cx="4824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three fourth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451640" y="4724280"/>
            <a:ext cx="86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2050920" y="429264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7" dur="indefinite" restart="never" nodeType="tmRoot">
          <p:childTnLst>
            <p:seq>
              <p:cTn id="1738" dur="indefinite" nodeType="mainSeq">
                <p:childTnLst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3 -0.0474 L 0.0033 -0.54035 E">
                                      <p:cBhvr>
                                        <p:cTn id="1752" dur="2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8.09249E-007 L -0.03941 -8.09249E-007 E">
                                      <p:cBhvr>
                                        <p:cTn id="1756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7 -0.04508 L 0.0007 -0.14428 L -0.33732 -0.15491 E">
                                      <p:cBhvr>
                                        <p:cTn id="1786" dur="2000" fill="hold"/>
                                        <p:tgtEl>
                                          <p:spTgt spid="6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7" fill="hold">
                      <p:stCondLst>
                        <p:cond delay="indefinite"/>
                      </p:stCondLst>
                      <p:childTnLst>
                        <p:par>
                          <p:cTn id="1788" fill="hold">
                            <p:stCondLst>
                              <p:cond delay="0"/>
                            </p:stCondLst>
                            <p:childTnLst>
                              <p:par>
                                <p:cTn id="17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2.36994E-006 L -0.04722 0.03144 E">
                                      <p:cBhvr>
                                        <p:cTn id="1790" dur="2000" fill="hold"/>
                                        <p:tgtEl>
                                          <p:spTgt spid="6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1" fill="hold">
                      <p:stCondLst>
                        <p:cond delay="indefinite"/>
                      </p:stCondLst>
                      <p:childTnLst>
                        <p:par>
                          <p:cTn id="1792" fill="hold">
                            <p:stCondLst>
                              <p:cond delay="0"/>
                            </p:stCondLst>
                            <p:childTnLst>
                              <p:par>
                                <p:cTn id="17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5" fill="hold">
                      <p:stCondLst>
                        <p:cond delay="indefinite"/>
                      </p:stCondLst>
                      <p:childTnLst>
                        <p:par>
                          <p:cTn id="1796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fill="hold">
                      <p:stCondLst>
                        <p:cond delay="indefinite"/>
                      </p:stCondLst>
                      <p:childTnLst>
                        <p:par>
                          <p:cTn id="1800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3" fill="hold">
                      <p:stCondLst>
                        <p:cond delay="indefinite"/>
                      </p:stCondLst>
                      <p:childTnLst>
                        <p:par>
                          <p:cTn id="1804" fill="hold">
                            <p:stCondLst>
                              <p:cond delay="0"/>
                            </p:stCondLst>
                            <p:childTnLst>
                              <p:par>
                                <p:cTn id="1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1" fill="hold">
                      <p:stCondLst>
                        <p:cond delay="indefinite"/>
                      </p:stCondLst>
                      <p:childTnLst>
                        <p:par>
                          <p:cTn id="1812" fill="hold">
                            <p:stCondLst>
                              <p:cond delay="0"/>
                            </p:stCondLst>
                            <p:childTnLst>
                              <p:par>
                                <p:cTn id="1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f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395280" y="134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Put these fractions in order from little to bi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76360" y="1989000"/>
            <a:ext cx="11509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½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3995640" y="2060640"/>
            <a:ext cx="1152720" cy="1557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¾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6372360" y="2060640"/>
            <a:ext cx="1152360" cy="1557000"/>
          </a:xfrm>
          <a:prstGeom prst="rect">
            <a:avLst/>
          </a:prstGeom>
          <a:solidFill>
            <a:srgbClr val="66ff33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¼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63528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iddle siz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11600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littl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6156360" y="4076640"/>
            <a:ext cx="172728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9" dur="indefinite" restart="never" nodeType="tmRoot">
          <p:childTnLst>
            <p:seq>
              <p:cTn id="1820" dur="indefinite" nodeType="mainSeq">
                <p:childTnLst>
                  <p:par>
                    <p:cTn id="1821" fill="hold">
                      <p:stCondLst>
                        <p:cond delay="indefinite"/>
                      </p:stCondLst>
                      <p:childTnLst>
                        <p:par>
                          <p:cTn id="1822" fill="hold">
                            <p:stCondLst>
                              <p:cond delay="0"/>
                            </p:stCondLst>
                            <p:childTnLst>
                              <p:par>
                                <p:cTn id="18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71676E-006 L -0.54341 0.32509 E">
                                      <p:cBhvr>
                                        <p:cTn id="1824" dur="2000" fill="hold"/>
                                        <p:tgtEl>
                                          <p:spTgt spid="6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9.24855E-007 L 0.26788 0.34612 E">
                                      <p:cBhvr>
                                        <p:cTn id="1828" dur="2000" fill="hold"/>
                                        <p:tgtEl>
                                          <p:spTgt spid="6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9" fill="hold">
                      <p:stCondLst>
                        <p:cond delay="indefinite"/>
                      </p:stCondLst>
                      <p:childTnLst>
                        <p:par>
                          <p:cTn id="1830" fill="hold">
                            <p:stCondLst>
                              <p:cond delay="0"/>
                            </p:stCondLst>
                            <p:childTnLst>
                              <p:par>
                                <p:cTn id="18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9.24855E-007 L 0.26771 0.33572 E">
                                      <p:cBhvr>
                                        <p:cTn id="1832" dur="2000" fill="hold"/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adding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25892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395280" y="263700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46836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3" dur="indefinite" restart="never" nodeType="tmRoot">
          <p:childTnLst>
            <p:seq>
              <p:cTn id="1834" dur="indefinite" nodeType="mainSeq">
                <p:childTnLst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1" fill="hold">
                      <p:stCondLst>
                        <p:cond delay="indefinite"/>
                      </p:stCondLst>
                      <p:childTnLst>
                        <p:par>
                          <p:cTn id="1852" fill="hold">
                            <p:stCondLst>
                              <p:cond delay="0"/>
                            </p:stCondLst>
                            <p:childTnLst>
                              <p:par>
                                <p:cTn id="18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fill="hold">
                      <p:stCondLst>
                        <p:cond delay="indefinite"/>
                      </p:stCondLst>
                      <p:childTnLst>
                        <p:par>
                          <p:cTn id="1864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fill="hold">
                      <p:stCondLst>
                        <p:cond delay="indefinite"/>
                      </p:stCondLst>
                      <p:childTnLst>
                        <p:par>
                          <p:cTn id="1868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fill="hold">
                      <p:stCondLst>
                        <p:cond delay="indefinite"/>
                      </p:stCondLst>
                      <p:childTnLst>
                        <p:par>
                          <p:cTn id="1880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fill="hold">
                      <p:stCondLst>
                        <p:cond delay="indefinite"/>
                      </p:stCondLst>
                      <p:childTnLst>
                        <p:par>
                          <p:cTn id="1884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fill="hold">
                      <p:stCondLst>
                        <p:cond delay="indefinite"/>
                      </p:stCondLst>
                      <p:childTnLst>
                        <p:par>
                          <p:cTn id="1896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9" fill="hold">
                      <p:stCondLst>
                        <p:cond delay="indefinite"/>
                      </p:stCondLst>
                      <p:childTnLst>
                        <p:par>
                          <p:cTn id="1960" fill="hold">
                            <p:stCondLst>
                              <p:cond delay="0"/>
                            </p:stCondLst>
                            <p:childTnLst>
                              <p:par>
                                <p:cTn id="1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5" fill="hold">
                      <p:stCondLst>
                        <p:cond delay="indefinite"/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9" fill="hold">
                      <p:stCondLst>
                        <p:cond delay="indefinite"/>
                      </p:stCondLst>
                      <p:childTnLst>
                        <p:par>
                          <p:cTn id="1980" fill="hold">
                            <p:stCondLst>
                              <p:cond delay="0"/>
                            </p:stCondLst>
                            <p:childTnLst>
                              <p:par>
                                <p:cTn id="1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1" fill="hold">
                      <p:stCondLst>
                        <p:cond delay="indefinite"/>
                      </p:stCondLst>
                      <p:childTnLst>
                        <p:par>
                          <p:cTn id="1992" fill="hold">
                            <p:stCondLst>
                              <p:cond delay="0"/>
                            </p:stCondLst>
                            <p:childTnLst>
                              <p:par>
                                <p:cTn id="1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5" fill="hold">
                      <p:stCondLst>
                        <p:cond delay="indefinite"/>
                      </p:stCondLst>
                      <p:childTnLst>
                        <p:par>
                          <p:cTn id="1996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7" fill="hold">
                      <p:stCondLst>
                        <p:cond delay="indefinite"/>
                      </p:stCondLst>
                      <p:childTnLst>
                        <p:par>
                          <p:cTn id="2008" fill="hold">
                            <p:stCondLst>
                              <p:cond delay="0"/>
                            </p:stCondLst>
                            <p:childTnLst>
                              <p:par>
                                <p:cTn id="2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3" fill="hold">
                      <p:stCondLst>
                        <p:cond delay="indefinite"/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457200" y="2746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subtracting up to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39528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25892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6272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327672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835280" y="90792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908000" y="98100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39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125892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8352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276720" y="177336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348000" y="184464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276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332000" y="2708280"/>
            <a:ext cx="4316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6272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183528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395280" y="2637000"/>
            <a:ext cx="8636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68360" y="270828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528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125892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6272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32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83528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1908000" y="3646440"/>
            <a:ext cx="5050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39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25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62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183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3276720" y="4438800"/>
            <a:ext cx="934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3348000" y="4510080"/>
            <a:ext cx="792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27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25892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6272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83528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9528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46836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86108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572436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9308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7421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630072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7380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486108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57243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09308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630072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7742160" y="1773360"/>
            <a:ext cx="71928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813800" y="184464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74216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72436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09308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30072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486108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493380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86108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72436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09308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7742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630072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6373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85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722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709128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6299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7740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781380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7742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572436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709308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6300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486108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4933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7" dur="indefinite" restart="never" nodeType="tmRoot">
          <p:childTnLst>
            <p:seq>
              <p:cTn id="2028" dur="indefinite" nodeType="mainSeq">
                <p:childTnLst>
                  <p:par>
                    <p:cTn id="2029" fill="hold">
                      <p:stCondLst>
                        <p:cond delay="indefinite"/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1" fill="hold">
                      <p:stCondLst>
                        <p:cond delay="indefinite"/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fill="hold">
                      <p:stCondLst>
                        <p:cond delay="indefinite"/>
                      </p:stCondLst>
                      <p:childTnLst>
                        <p:par>
                          <p:cTn id="2058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3" fill="hold">
                      <p:stCondLst>
                        <p:cond delay="indefinite"/>
                      </p:stCondLst>
                      <p:childTnLst>
                        <p:par>
                          <p:cTn id="2074" fill="hold">
                            <p:stCondLst>
                              <p:cond delay="0"/>
                            </p:stCondLst>
                            <p:childTnLst>
                              <p:par>
                                <p:cTn id="20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fill="hold">
                      <p:stCondLst>
                        <p:cond delay="indefinite"/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9" fill="hold">
                      <p:stCondLst>
                        <p:cond delay="indefinite"/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1" fill="hold">
                      <p:stCondLst>
                        <p:cond delay="indefinite"/>
                      </p:stCondLst>
                      <p:childTnLst>
                        <p:par>
                          <p:cTn id="2122" fill="hold">
                            <p:stCondLst>
                              <p:cond delay="0"/>
                            </p:stCondLst>
                            <p:childTnLst>
                              <p:par>
                                <p:cTn id="2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fill="hold">
                      <p:stCondLst>
                        <p:cond delay="indefinite"/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3" fill="hold">
                      <p:stCondLst>
                        <p:cond delay="indefinite"/>
                      </p:stCondLst>
                      <p:childTnLst>
                        <p:par>
                          <p:cTn id="2154" fill="hold">
                            <p:stCondLst>
                              <p:cond delay="0"/>
                            </p:stCondLst>
                            <p:childTnLst>
                              <p:par>
                                <p:cTn id="2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9" fill="hold">
                      <p:stCondLst>
                        <p:cond delay="indefinite"/>
                      </p:stCondLst>
                      <p:childTnLst>
                        <p:par>
                          <p:cTn id="2170" fill="hold">
                            <p:stCondLst>
                              <p:cond delay="0"/>
                            </p:stCondLst>
                            <p:childTnLst>
                              <p:par>
                                <p:cTn id="2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3" fill="hold">
                      <p:stCondLst>
                        <p:cond delay="indefinite"/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Basic facts – groups of 2, 5, 10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436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1547640" y="98100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916360" y="98100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565440" y="98100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2124000" y="90792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2197080" y="98100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68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546200" y="1844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914560" y="18446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122560" y="1844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564000" y="1771560"/>
            <a:ext cx="8636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637080" y="1844640"/>
            <a:ext cx="7189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56544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1547640" y="2708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2916360" y="2708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2124000" y="2708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263700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57080" y="27082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6843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154764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916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56544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2124000" y="3573360"/>
            <a:ext cx="64944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219708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68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154620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2914560" y="45100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212256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56400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3637080" y="451008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356544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54764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2916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212400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684360" y="530208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75708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07852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942160" y="10526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451640" y="1052640"/>
            <a:ext cx="43344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959600" y="10526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6518160" y="979560"/>
            <a:ext cx="86220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6591240" y="105264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507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940360" y="19162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7308720" y="191628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6516720" y="19162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7958160" y="1843200"/>
            <a:ext cx="86184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8031240" y="1916280"/>
            <a:ext cx="71748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95960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594216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7310520" y="277956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6518160" y="277956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5078520" y="2708280"/>
            <a:ext cx="7189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5151600" y="2779560"/>
            <a:ext cx="57600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07672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5940360" y="364644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308720" y="364644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8160" y="364644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6516720" y="3573360"/>
            <a:ext cx="6490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6589800" y="3646440"/>
            <a:ext cx="50472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507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593892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7280" y="451008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>
            <a:off x="6515280" y="451008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7956720" y="4437000"/>
            <a:ext cx="71892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8029440" y="451008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95816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940360" y="5373720"/>
            <a:ext cx="504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308720" y="5373720"/>
            <a:ext cx="50508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6516720" y="5373720"/>
            <a:ext cx="720720" cy="6426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076720" y="5302080"/>
            <a:ext cx="719280" cy="792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149800" y="5373720"/>
            <a:ext cx="576360" cy="6426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1" dur="indefinite" restart="never" nodeType="tmRoot">
          <p:childTnLst>
            <p:seq>
              <p:cTn id="2222" dur="indefinite" nodeType="mainSeq">
                <p:childTnLst>
                  <p:par>
                    <p:cTn id="2223" fill="hold">
                      <p:stCondLst>
                        <p:cond delay="indefinite"/>
                      </p:stCondLst>
                      <p:childTnLst>
                        <p:par>
                          <p:cTn id="2224" fill="hold">
                            <p:stCondLst>
                              <p:cond delay="0"/>
                            </p:stCondLst>
                            <p:childTnLst>
                              <p:par>
                                <p:cTn id="2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5" fill="hold">
                      <p:stCondLst>
                        <p:cond delay="indefinite"/>
                      </p:stCondLst>
                      <p:childTnLst>
                        <p:par>
                          <p:cTn id="2256" fill="hold">
                            <p:stCondLst>
                              <p:cond delay="0"/>
                            </p:stCondLst>
                            <p:childTnLst>
                              <p:par>
                                <p:cTn id="2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7" fill="hold">
                      <p:stCondLst>
                        <p:cond delay="indefinite"/>
                      </p:stCondLst>
                      <p:childTnLst>
                        <p:par>
                          <p:cTn id="2268" fill="hold">
                            <p:stCondLst>
                              <p:cond delay="0"/>
                            </p:stCondLst>
                            <p:childTnLst>
                              <p:par>
                                <p:cTn id="2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1" fill="hold">
                      <p:stCondLst>
                        <p:cond delay="indefinite"/>
                      </p:stCondLst>
                      <p:childTnLst>
                        <p:par>
                          <p:cTn id="2272" fill="hold">
                            <p:stCondLst>
                              <p:cond delay="0"/>
                            </p:stCondLst>
                            <p:childTnLst>
                              <p:par>
                                <p:cTn id="2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7" fill="hold">
                      <p:stCondLst>
                        <p:cond delay="indefinite"/>
                      </p:stCondLst>
                      <p:childTnLst>
                        <p:par>
                          <p:cTn id="2288" fill="hold">
                            <p:stCondLst>
                              <p:cond delay="0"/>
                            </p:stCondLst>
                            <p:childTnLst>
                              <p:par>
                                <p:cTn id="2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9" fill="hold">
                      <p:stCondLst>
                        <p:cond delay="indefinite"/>
                      </p:stCondLst>
                      <p:childTnLst>
                        <p:par>
                          <p:cTn id="2320" fill="hold">
                            <p:stCondLst>
                              <p:cond delay="0"/>
                            </p:stCondLst>
                            <p:childTnLst>
                              <p:par>
                                <p:cTn id="2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5" fill="hold">
                      <p:stCondLst>
                        <p:cond delay="indefinite"/>
                      </p:stCondLst>
                      <p:childTnLst>
                        <p:par>
                          <p:cTn id="2336" fill="hold">
                            <p:stCondLst>
                              <p:cond delay="0"/>
                            </p:stCondLst>
                            <p:childTnLst>
                              <p:par>
                                <p:cTn id="2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3" fill="hold">
                      <p:stCondLst>
                        <p:cond delay="indefinite"/>
                      </p:stCondLst>
                      <p:childTnLst>
                        <p:par>
                          <p:cTn id="2364" fill="hold">
                            <p:stCondLst>
                              <p:cond delay="0"/>
                            </p:stCondLst>
                            <p:childTnLst>
                              <p:par>
                                <p:cTn id="2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3" fill="hold">
                      <p:stCondLst>
                        <p:cond delay="indefinite"/>
                      </p:stCondLst>
                      <p:childTnLst>
                        <p:par>
                          <p:cTn id="2384" fill="hold">
                            <p:stCondLst>
                              <p:cond delay="0"/>
                            </p:stCondLst>
                            <p:childTnLst>
                              <p:par>
                                <p:cTn id="2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5" fill="hold">
                      <p:stCondLst>
                        <p:cond delay="indefinite"/>
                      </p:stCondLst>
                      <p:childTnLst>
                        <p:par>
                          <p:cTn id="2396" fill="hold">
                            <p:stCondLst>
                              <p:cond delay="0"/>
                            </p:stCondLst>
                            <p:childTnLst>
                              <p:par>
                                <p:cTn id="2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9" fill="hold">
                      <p:stCondLst>
                        <p:cond delay="indefinite"/>
                      </p:stCondLst>
                      <p:childTnLst>
                        <p:par>
                          <p:cTn id="2400" fill="hold">
                            <p:stCondLst>
                              <p:cond delay="0"/>
                            </p:stCondLst>
                            <p:childTnLst>
                              <p:par>
                                <p:cTn id="2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1" fill="hold">
                      <p:stCondLst>
                        <p:cond delay="indefinite"/>
                      </p:stCondLst>
                      <p:childTnLst>
                        <p:par>
                          <p:cTn id="2412" fill="hold">
                            <p:stCondLst>
                              <p:cond delay="0"/>
                            </p:stCondLst>
                            <p:childTnLst>
                              <p:par>
                                <p:cTn id="2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6894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Wow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6000" spc="-1" strike="noStrike">
                <a:solidFill>
                  <a:srgbClr val="ffffff"/>
                </a:solidFill>
                <a:latin typeface="Arial"/>
              </a:rPr>
              <a:t>I bet you need a break now!!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052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19280" y="1628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285264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2781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1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3860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4653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589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558972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8000" y="170028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0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659640" y="4292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740720" y="2781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4360" y="573408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372360" y="1557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667640" y="5445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740720" y="105264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028000" y="4005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Writes</a:t>
            </a: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836640"/>
            <a:ext cx="453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( Write these numbers on the whiteboard.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27640" y="2924280"/>
            <a:ext cx="295092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even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27280" y="393372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306864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n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27280" y="206064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134136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h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716360" y="126828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zer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27280" y="566100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wen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859280" y="465300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fif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97360"/>
            <a:ext cx="2016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sixte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948360" y="393372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igh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4000" y="1989000"/>
            <a:ext cx="1800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twel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659640" y="5589720"/>
            <a:ext cx="1800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elev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Counts Groups of Objects to Tw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580000" y="836640"/>
            <a:ext cx="2664000" cy="20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87280" y="4005360"/>
            <a:ext cx="3313440" cy="1312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76360" y="907920"/>
            <a:ext cx="2664000" cy="106884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332000" y="263700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00720" y="4581360"/>
            <a:ext cx="2232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84720" y="3141720"/>
            <a:ext cx="266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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1125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78136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0920" y="465300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5013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148360" y="3357720"/>
            <a:ext cx="79200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43280" y="1341360"/>
            <a:ext cx="792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Matches Numerals and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9640" y="98100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56360" y="765000"/>
            <a:ext cx="2663640" cy="20437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508640"/>
            <a:ext cx="2520720" cy="19224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907920"/>
            <a:ext cx="2017440" cy="155628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Wingdings 2"/>
                <a:ea typeface="Wingdings 2"/>
              </a:rPr>
              <a:t>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2852640"/>
            <a:ext cx="2663640" cy="9471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516720" y="4581360"/>
            <a:ext cx="223200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</a:t>
            </a:r>
            <a:r>
              <a:rPr b="0" lang="en-N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84720" y="3141720"/>
            <a:ext cx="2664000" cy="825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Webdings"/>
                <a:ea typeface="Webdings"/>
              </a:rPr>
              <a:t>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6728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270828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3236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06728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443700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93236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6728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3573360"/>
            <a:ext cx="792000" cy="7034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8.67052E-007 L -0.26372 -0.20832 E">
                                      <p:cBhvr>
                                        <p:cTn id="196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1493 -0.03168 E">
                                      <p:cBhvr>
                                        <p:cTn id="204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71676E-006 L -0.43316 0.22011 E">
                                      <p:cBhvr>
                                        <p:cTn id="212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71676E-006 L -0.41736 -0.22035 E">
                                      <p:cBhvr>
                                        <p:cTn id="220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44509E-006 L 0.33073 -0.42982 E">
                                      <p:cBhvr>
                                        <p:cTn id="228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71676E-006 L 0.33854 0.35653 E">
                                      <p:cBhvr>
                                        <p:cTn id="23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4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gre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476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43280" y="242100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5373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924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16360" y="49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9079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24720" y="4005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708360" y="1052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71640" y="476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5373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172360" y="40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49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ames number 1 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76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00000" y="162864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2708280"/>
            <a:ext cx="8632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059280" y="1052640"/>
            <a:ext cx="64908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43280" y="242100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411280" y="3429000"/>
            <a:ext cx="648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95280" y="3789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00360" y="4581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79640" y="580536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5373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1280" y="5877000"/>
            <a:ext cx="79200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407664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788000" y="2924280"/>
            <a:ext cx="863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588000" y="494172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292428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716360" y="49417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12000" y="90792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595008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08720" y="1773360"/>
            <a:ext cx="79236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4720" y="4005360"/>
            <a:ext cx="647640" cy="70344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2360" y="1628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2708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89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072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10108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435640" y="177336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5964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8360" y="1052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71640" y="476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2421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492360" y="4581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6920" y="5373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72360" y="40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72360" y="59500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5928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6400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308720" y="494172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643280" y="587700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71640" y="5805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4076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92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95280" y="57340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mall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948360" y="5661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iggest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19564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9640" y="177336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08000" y="62064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596360" y="90792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132000" y="3500280"/>
            <a:ext cx="79236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92720" y="3284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140360" y="148428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596360" y="342900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156360" y="2060640"/>
            <a:ext cx="792000" cy="703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99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4" name=""/>
          <p:cNvGraphicFramePr/>
          <p:nvPr/>
        </p:nvGraphicFramePr>
        <p:xfrm>
          <a:off x="457200" y="5661000"/>
          <a:ext cx="8229600" cy="465120"/>
        </p:xfrm>
        <a:graphic>
          <a:graphicData uri="http://schemas.openxmlformats.org/drawingml/2006/table"/>
        </a:graphic>
      </p:graphicFrame>
      <p:sp>
        <p:nvSpPr>
          <p:cNvPr id="215" name=""/>
          <p:cNvSpPr/>
          <p:nvPr/>
        </p:nvSpPr>
        <p:spPr>
          <a:xfrm>
            <a:off x="61128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6400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78000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98764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0328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636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740720" y="4724280"/>
            <a:ext cx="79200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948360" y="4724280"/>
            <a:ext cx="792360" cy="70344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ff00"/>
                </a:solidFill>
                <a:latin typeface="Arial"/>
              </a:rPr>
              <a:t>1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9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1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3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2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5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7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10:56:15Z</dcterms:created>
  <dc:creator>Ministry of Education</dc:creator>
  <dc:description/>
  <dc:language>en-US</dc:language>
  <cp:lastModifiedBy>Ministry of Education</cp:lastModifiedBy>
  <dcterms:modified xsi:type="dcterms:W3CDTF">2008-04-22T05:36:37Z</dcterms:modified>
  <cp:revision>12</cp:revision>
  <dc:subject/>
  <dc:title>Mathematics  Diagnostic Number Knowledge  Numbers 1-20</dc:title>
</cp:coreProperties>
</file>