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EF9-BCF8-46CE-8EB4-68AC7C04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008-6CB8-48EB-9520-450A959E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05E3-9735-443A-BEAF-4685092E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46BA-0892-4E79-9803-EC286CD5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4CD-8C62-478A-8B82-2FB091D3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129-16FA-49D0-9156-96DB3F57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956F-7C37-4CA7-93A6-C99433BB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AD9-B3E1-4DD4-B56F-843395EA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E4E-8918-447C-83FC-8342D308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20C-5A5A-4EFC-BEA1-7FDDF86A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273-A854-45CF-A6F1-ED9D9C1E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4BB-CB01-4A7D-AAE6-43C1B4B4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8411-ADDA-4F59-AE7A-40592FAAD1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re learning about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or equal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16360" y="2128680"/>
            <a:ext cx="3262320" cy="346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Kit Kat bar can be divided equally into four p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rt is called a quar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quarters equals one whole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16360" y="3141720"/>
            <a:ext cx="388800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 we are looking at equal or equivalent f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quarters are in a hal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2133720"/>
            <a:ext cx="3886200" cy="373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2133720"/>
            <a:ext cx="0" cy="3733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93760" y="312408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3962520"/>
            <a:ext cx="1981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4343400"/>
            <a:ext cx="1447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2895480"/>
            <a:ext cx="11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23120" y="3449520"/>
            <a:ext cx="6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34439" r="0" b="31159"/>
          <a:stretch/>
        </p:blipFill>
        <p:spPr>
          <a:xfrm>
            <a:off x="6156360" y="3141720"/>
            <a:ext cx="2519280" cy="151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eighths are in a quar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2133720"/>
            <a:ext cx="3886200" cy="373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2133720"/>
            <a:ext cx="0" cy="3733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93760" y="312408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962520"/>
            <a:ext cx="1905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200400" y="2666880"/>
            <a:ext cx="1295280" cy="1295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4419720"/>
            <a:ext cx="1822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61320" y="2362320"/>
            <a:ext cx="999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⅛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917800" cy="201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ok at this packet of Sma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16 smarties in each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smarties make up 1 whole pa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 1 Smartie is what  fraction of the wh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t’s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00720" y="2708280"/>
            <a:ext cx="418608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fraction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879560"/>
            <a:ext cx="7620120" cy="4286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 sorted the 16 smarties into their colour groups, so all the purple, brown, orange and red are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5640" y="1879560"/>
            <a:ext cx="762012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I placed each smartie on the bottom in the  box because as we saw, each smartie is ?  All 16 smarties = 1 whole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55640" y="1879560"/>
            <a:ext cx="762012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ember that today we are looking at equivalent or equal fractions. I see that two of the smarties or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2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16 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purple. Is this equal or equivalent to any other fraction? Let’ use our fraction wall to s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55640" y="1879560"/>
            <a:ext cx="762012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s happened here? Discuss with your partner. You have 1 minute before I will ask for an explan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3177" r="0" b="16767"/>
          <a:stretch/>
        </p:blipFill>
        <p:spPr>
          <a:xfrm>
            <a:off x="468360" y="1700280"/>
            <a:ext cx="8496360" cy="3600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258920" y="5013360"/>
            <a:ext cx="64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4941720"/>
            <a:ext cx="4316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971280" y="328464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2340360"/>
            <a:ext cx="16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     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537300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9080" y="5444640"/>
            <a:ext cx="4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words today shall be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3673440" cy="4033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s of a w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ion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om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68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68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3177" r="0" b="16767"/>
          <a:stretch/>
        </p:blipFill>
        <p:spPr>
          <a:xfrm>
            <a:off x="468360" y="1700280"/>
            <a:ext cx="8496360" cy="3600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using the fraction wall, we can see that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2_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16   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5013360"/>
            <a:ext cx="64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4941720"/>
            <a:ext cx="4316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971280" y="328464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1480" y="2491920"/>
            <a:ext cx="16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     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9640" y="537300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9080" y="5444640"/>
            <a:ext cx="4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ce I have seen this, I note it on my answer sheet, like th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29152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, it’s 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ember to first sort your smarties into their colour groups and then lay each one on the bottom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 part of the 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c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I know if I have been successful in learning about equal or equivalent f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m successful if I can recognise or find equivalent fractions using the smarties and my fraction 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will have 10  minutes to find as many equal fractions as you can before we feed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095640" cy="403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you been successful in what we set out to learn about today, finding equal fra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147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we did this at the start, I would like to know how  you  now feel about your knowledge and understanding about equal or equivalent fractions. Remember that you have been successful if you have found equal fr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, everyone has to close their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think equivalent fractions are easy, give me a thumbs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believe that they are ok but not sure, put your thumbs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think, “Oh No !” Give me a thumbs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88764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fore we start, I would like to know what you know and understand about equal or equivalent f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me demon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art with, everyone has to close their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think equivalent fractions are easy, give me a thumbs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believe that they are ok but not sure, put your thumbs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think, “Oh No !” Give me a thumbs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887640" cy="43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, lets remind ourselves about fractions and start to explore equivalent or equal f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rts of a Fra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9360" y="23623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9360" y="36576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365760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57640" y="2614680"/>
            <a:ext cx="50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the number of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84560" y="4003560"/>
            <a:ext cx="595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the total number of parts that equal a wh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rts of a Fra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9360" y="23623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9360" y="36576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365760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62320" y="2492280"/>
            <a:ext cx="355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numera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400356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denomina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halves are in a who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133720"/>
            <a:ext cx="3886200" cy="373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2133720"/>
            <a:ext cx="0" cy="3809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93760" y="312408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350532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½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look at look at real life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one Twix 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made up of two ha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wo halves are equal to one whole 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34510" r="0" b="31123"/>
          <a:stretch/>
        </p:blipFill>
        <p:spPr>
          <a:xfrm>
            <a:off x="4716360" y="4653000"/>
            <a:ext cx="3959280" cy="151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quarters are in a who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133720"/>
            <a:ext cx="3886200" cy="3733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2133720"/>
            <a:ext cx="0" cy="3733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93760" y="312408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743200"/>
            <a:ext cx="3124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¼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¼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3962520"/>
            <a:ext cx="3886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22:40:41Z</dcterms:created>
  <dc:creator>OEM Preinstalled User</dc:creator>
  <dc:description/>
  <dc:language>en-US</dc:language>
  <cp:lastModifiedBy>Pitchford</cp:lastModifiedBy>
  <dcterms:modified xsi:type="dcterms:W3CDTF">2006-10-17T09:25:54Z</dcterms:modified>
  <cp:revision>21</cp:revision>
  <dc:subject/>
  <dc:title>We are learning about….</dc:title>
</cp:coreProperties>
</file>