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062-E039-46D6-8B80-ACF7B257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D9C-C786-4182-968F-9DF05900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25E-E5EC-47C4-8257-B54E8D73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763-CA1F-4C8F-A511-03696604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A4D-2D8B-4517-B242-73C8C05B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6B0-E8AB-4BE2-A244-724DC66F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E84-1FDB-4C7B-89D9-631B12C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DD7-BA01-4494-A1EA-289BCC2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128-FDCD-4781-94E3-2E603E39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7F6-7238-4643-B9CA-814FEF5E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41C-B97B-4F45-BB21-F43D846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AD7-E3FA-4708-8E3D-1F7D13A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B26-141B-4269-AB30-CEE19E88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 times tabl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5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5:14:50Z</dcterms:created>
  <dc:creator>5C</dc:creator>
  <dc:description/>
  <dc:language>en-US</dc:language>
  <cp:lastModifiedBy>5C</cp:lastModifiedBy>
  <dcterms:modified xsi:type="dcterms:W3CDTF">2007-02-01T15:19:49Z</dcterms:modified>
  <cp:revision>2</cp:revision>
  <dc:subject/>
  <dc:title>Jeopardy</dc:title>
</cp:coreProperties>
</file>