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BDF-0D96-416C-A826-1478410D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126-0D3F-4326-8322-C33E2B4F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9F6-14AE-462E-B6D5-CA6E0283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CF2-731F-4740-B9E5-8EDF495A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8C8-BE61-41BD-8C5D-7D3D1D0D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EE8-251A-462F-80B9-62426440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B0F-FC7C-4902-B2F3-3C4B3A5A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78A-C5FC-4834-9D78-922EF0F6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086-1E86-444D-806E-15A89D78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3E0-186D-4506-AD21-90868407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7DF-A297-433C-AD45-7D90313F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E87-1447-4B97-A01D-8FCE571C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5521-047F-4029-8844-A0BF7E94D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800000"/>
                </a:solidFill>
                <a:latin typeface="Arial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0000"/>
                </a:solidFill>
                <a:latin typeface="Arial"/>
              </a:rPr>
              <a:t>9 times table e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63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7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7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8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3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4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81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9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9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10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27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3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9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1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1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2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4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5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The answer is 5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800000"/>
                </a:solidFill>
                <a:latin typeface="Arial"/>
              </a:rPr>
              <a:t>What is 6 x 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4:56:14Z</dcterms:created>
  <dc:creator>5C</dc:creator>
  <dc:description/>
  <dc:language>en-US</dc:language>
  <cp:lastModifiedBy>5C</cp:lastModifiedBy>
  <dcterms:modified xsi:type="dcterms:W3CDTF">2007-03-08T11:26:23Z</dcterms:modified>
  <cp:revision>6</cp:revision>
  <dc:subject/>
  <dc:title>Jeopardy</dc:title>
</cp:coreProperties>
</file>