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B0E-5494-4AFC-8F83-D8953D23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BD1-D677-4B65-8D2B-B4380AF0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66F-7374-4B86-AC56-432BECFE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6E9-0FB0-47D7-BFFE-1AD03441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B26-8D2C-40B8-9716-F0989059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117-9A99-444B-8153-04098654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323-2C06-4C03-AE6F-9F54D2D0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A65-E1B5-457E-A42C-CC866BE1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3E5-2A20-43FC-8BF6-E2869C95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330-972E-4002-8CA9-DE9551A0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F13-D5DB-490F-8969-995AE922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141-DE9A-43B1-8B56-B2428A16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209E-6C2E-4B4E-8946-FCDEDDA27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times table e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1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7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4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7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9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0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9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3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2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5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5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6 x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56:14Z</dcterms:created>
  <dc:creator>5C</dc:creator>
  <dc:description/>
  <dc:language>en-US</dc:language>
  <cp:lastModifiedBy>5C</cp:lastModifiedBy>
  <dcterms:modified xsi:type="dcterms:W3CDTF">2007-02-01T15:06:10Z</dcterms:modified>
  <cp:revision>2</cp:revision>
  <dc:subject/>
  <dc:title>Jeopardy</dc:title>
</cp:coreProperties>
</file>