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C290-0F94-4C03-AA91-F5C9B0EDE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5564-B396-4A1E-8660-B15E30961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ED21-8917-41F8-9B0D-FD0008916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8060-BC06-40F0-96D7-A3104256A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8C3C-A9E3-49FB-94F1-54A8087AA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0B6B-ADFA-4B91-B34C-A86DDD077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ABCF-04FE-47C9-87E6-E56D073F0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0A23-A757-4137-8340-13EE82FF0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F8E0-9949-4B2E-B1D5-3D01BDC7C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A4C5-F56F-4850-ABFA-E106FC379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48AC-E9D7-4EA4-95A2-37F3932C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F08E-6F88-4897-A3DB-BAFA4461C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8B895-95AA-4E12-B628-0536F8B1CA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eopar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 times table e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68360" y="1557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The answer is 20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4149720"/>
            <a:ext cx="82296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What is 5 x 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3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68360" y="1557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The answer is 4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4149720"/>
            <a:ext cx="82296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What is 1 x 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3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68360" y="1557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The answer is 8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4149720"/>
            <a:ext cx="82296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What is 2 x 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3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68360" y="1557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The answer is 24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4149720"/>
            <a:ext cx="82296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What is 6 x 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3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1557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The answer is 40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4149720"/>
            <a:ext cx="82296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What is 10 x 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3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68360" y="1557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The answer is 36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4149720"/>
            <a:ext cx="82296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What is 9 x 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3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68360" y="1557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The answer is 28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4149720"/>
            <a:ext cx="82296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What is 7 x 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3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68360" y="1557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The answer is 12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4149720"/>
            <a:ext cx="82296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What is 3 x 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3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68360" y="1557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The answer is 16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4149720"/>
            <a:ext cx="82296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What is 4 x 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3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68360" y="1557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The answer is 32, what is the question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4149720"/>
            <a:ext cx="82296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What is 8 x 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3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1T15:06:37Z</dcterms:created>
  <dc:creator>5C</dc:creator>
  <dc:description/>
  <dc:language>en-US</dc:language>
  <cp:lastModifiedBy>5C</cp:lastModifiedBy>
  <dcterms:modified xsi:type="dcterms:W3CDTF">2007-02-01T15:12:18Z</dcterms:modified>
  <cp:revision>1</cp:revision>
  <dc:subject/>
  <dc:title>Jeopardy</dc:title>
</cp:coreProperties>
</file>