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D6B-8528-46A4-B363-396485DB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CA1-874A-47D5-B434-5430A85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240-D41F-4D59-84BF-6F7FE4BC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99A-2FAB-4CBD-BE65-65FC09A5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AEE-66D2-42C5-85EC-5147AE3C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984-AB70-4F08-A435-C663547B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AD9-6652-43DA-9134-AD763B7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DDF-102C-4B37-8FB6-DC49DA93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B5E-47B2-47CD-9C1C-3580737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189-1D3E-4B78-8C2D-237A7D1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B16-C0A6-4F3B-8BC3-8E003BF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3C6-3009-4AC0-BE22-EE118BBC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01A6-8591-4340-95BA-192EDEC5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3-08T11:17:09Z</dcterms:modified>
  <cp:revision>3</cp:revision>
  <dc:subject/>
  <dc:title>Jeopardy</dc:title>
</cp:coreProperties>
</file>