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8B6-7CE0-40C8-80CC-86A48D8D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A63-C9D5-4020-A5FB-E334887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52A-064A-47B2-A986-D6781050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DFA-9370-4548-B17A-4FDA7777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9C2-8592-4264-A6DB-128B72D6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9DF-6AAB-4C0C-B09B-0B630371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6A5-3C16-425A-A910-E6B88F6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FF3-A629-400A-A812-610CCD63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F0D-479D-4D12-9C5F-7AF44454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C52-F3C2-4354-80F7-8C9B600D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A47-A0A9-41B5-BB1D-E91558A2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B79-BE91-496C-A034-6B1A015D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5EA8-2701-409C-A6D9-ACBF11A0D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8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5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7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6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8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3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4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7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9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8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10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2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3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1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1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2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4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5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The answer is 4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What is 6 x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3-08T11:23:07Z</dcterms:modified>
  <cp:revision>5</cp:revision>
  <dc:subject/>
  <dc:title>Jeopardy</dc:title>
</cp:coreProperties>
</file>