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A9A-665C-4848-9B03-B5AF4C10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18F-94FC-498A-A454-6D275C99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2CE-CA5E-4B7D-95CE-43B036AE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488-2D5D-486D-A6FD-DA2E2F03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804-58B6-4045-A585-26E94D8F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6C8-6D66-4C39-B8EA-1BA09A2D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F17-3070-4C94-AAE1-185BCE9E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EB5-8F4B-472A-AA97-977E7DE1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EEC-2894-4133-AA1E-CD3C63D2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F1B-7984-4553-A528-3E24B374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31C-872E-43B3-A254-007DAD27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933-3E66-4652-944C-6E9D80E1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1F37-2420-4CCC-B91C-4F2D44342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7 times table e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9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7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5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8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4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63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9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7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0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1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3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7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2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5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6 x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4:56:14Z</dcterms:created>
  <dc:creator>5C</dc:creator>
  <dc:description/>
  <dc:language>en-US</dc:language>
  <cp:lastModifiedBy>5C</cp:lastModifiedBy>
  <dcterms:modified xsi:type="dcterms:W3CDTF">2007-03-08T11:19:21Z</dcterms:modified>
  <cp:revision>4</cp:revision>
  <dc:subject/>
  <dc:title>Jeopardy</dc:title>
</cp:coreProperties>
</file>