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C3A-C003-4033-8022-A7A40366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87C-590B-4630-862E-517C51FC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82A-7EB2-4F4E-8FEA-FDE75CF7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455-5664-4950-A08C-9D1B619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193-2F43-4B56-A779-1DC8B77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0E5-B1F1-4D35-894D-58D5881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7FE-769F-4782-9C85-F3A7083A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8D3-3EE6-4823-AEB4-525F1A5E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516-F846-4F20-95F9-B0A1962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14B-5899-4E70-92E8-5A7A87C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430-6BD9-427B-97EC-D611C1C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F1F-5992-4DFD-B040-E5C794F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49C-3051-4922-B9F3-F6A0DA8A4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89000"/>
            <a:ext cx="61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ix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937 0.00972 0.02587 0.01828 0.0375 0.02106 C 0.05434 0.03773 0.08698 0.05254 0.10781 0.05648 C 0.12396 0.06921 0.1408 0.07152 0.15937 0.07314 C 0.17326 0.07939 0.16979 0.07939 0.18906 0.08125 C 0.19861 0.08449 0.20746 0.08611 0.21719 0.0875 C 0.23906 0.08703 0.27239 0.08958 0.29687 0.08125 C 0.346 0.06481 0.30798 0.07453 0.3375 0.06898 C 0.34062 0.06805 0.34375 0.06782 0.34687 0.06666 C 0.35 0.06574 0.35607 0.06273 0.35607 0.06273 C 0.36528 0.05277 0.37587 0.04814 0.38594 0.03981 C 0.39184 0.03449 0.39722 0.02847 0.40312 0.02314 C 0.40885 0.01805 0.41545 0.01504 0.42031 0.00856 C 0.42812 -0.00186 0.42378 0.00115 0.43281 -0.00186 C 0.44896 -0.01829 0.46094 -0.0375 0.475 -0.05602 C 0.47916 -0.07107 0.48455 -0.0801 0.49062 -0.09352 C 0.50052 -0.11551 0.5092 -0.13681 0.52031 -0.15834 C 0.52291 -0.16297 0.52309 -0.16945 0.525 -0.175 C 0.52673 -0.17917 0.52951 -0.18288 0.53125 -0.18727 C 0.53576 -0.19838 0.53576 -0.21112 0.53906 -0.22269 C 0.54462 -0.2419 0.5493 -0.26158 0.55469 -0.28102 C 0.55521 -0.28658 0.55503 -0.29237 0.55625 -0.29769 C 0.55764 -0.30371 0.5625 -0.30811 0.5625 -0.31436 C 0.56302 -0.372 0.55972 -0.42963 0.55781 -0.48727 C 0.55694 -0.51621 0.54878 -0.54908 0.53906 -0.57477 C 0.53333 -0.58982 0.53003 -0.6044 0.51875 -0.61436 C 0.51597 -0.62524 0.51458 -0.62663 0.50625 -0.63102 C 0.49514 -0.64584 0.47725 -0.64561 0.4625 -0.64769 C 0.45 -0.65602 0.43403 -0.65463 0.42031 -0.65602 C 0.37691 -0.65487 0.33368 -0.6676 0.30156 -0.62477 C 0.29913 -0.61482 0.29219 -0.6044 0.29219 -0.59352 C 0.29219 -0.58241 0.29219 -0.5713 0.29219 -0.56019 E">
                                      <p:cBhvr>
                                        <p:cTn id="72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763 0.01528 -0.00261 -0.00278 0.00937 0.01042 C 0.01909 0.02106 0.00503 0.0125 0.01718 0.02292 C 0.02604 0.03032 0.03697 0.03519 0.04687 0.03958 C 0.05677 0.03889 0.06684 0.03981 0.07656 0.0375 C 0.07881 0.03704 0.07951 0.0331 0.08125 0.03125 C 0.08732 0.02407 0.09253 0.01991 0.1 0.01667 C 0.10625 0.00417 0.11458 -0.00162 0.12343 -0.01042 C 0.12239 -0.0125 0.11961 -0.01435 0.12031 -0.01667 C 0.12118 -0.01944 0.125 -0.01875 0.12656 -0.02083 C 0.13246 -0.0287 0.12743 -0.02801 0.13125 -0.03542 C 0.13246 -0.03796 0.13472 -0.03935 0.13593 -0.04167 C 0.14131 -0.05185 0.13715 -0.04722 0.14062 -0.05625 C 0.14149 -0.0588 0.14826 -0.07245 0.14843 -0.07292 C 0.1526 -0.08403 0.15572 -0.09583 0.16093 -0.10625 C 0.16145 -0.11042 0.16128 -0.11481 0.1625 -0.11875 C 0.16354 -0.12199 0.16597 -0.12407 0.16718 -0.12708 C 0.16857 -0.13032 0.16944 -0.13403 0.17031 -0.1375 C 0.171 -0.14097 0.17083 -0.14468 0.17187 -0.14792 C 0.17343 -0.15255 0.17812 -0.16042 0.17812 -0.16042 C 0.1809 -0.17917 0.18888 -0.19537 0.19531 -0.2125 C 0.19756 -0.21875 0.1967 -0.22199 0.19843 -0.22917 C 0.20312 -0.24792 0.20034 -0.22616 0.20468 -0.24792 C 0.20868 -0.26829 0.2125 -0.28681 0.21875 -0.30625 C 0.22031 -0.31852 0.22239 -0.32847 0.22656 -0.33958 C 0.22847 -0.36829 0.22673 -0.35509 0.23125 -0.37917 C 0.23246 -0.38611 0.23437 -0.4 0.23437 -0.4 C 0.23524 -0.42431 0.2375 -0.4794 0.2375 -0.5 C 0.2375 -0.53333 0.23732 -0.56667 0.23593 -0.6 C 0.23576 -0.60394 0.22934 -0.61713 0.22812 -0.62083 C 0.22291 -0.63704 0.21302 -0.65856 0.20156 -0.66875 C 0.19479 -0.68218 0.18177 -0.68981 0.17031 -0.69375 C 0.13958 -0.71944 0.14045 -0.71458 0.09687 -0.71667 C 0.09687 -0.71667 0.07552 -0.71736 0.06875 -0.7125 C 0.06336 -0.70856 0.05746 -0.70579 0.05312 -0.7 C 0.04218 -0.68542 0.04809 -0.68889 0.0375 -0.68542 C 0.03263 -0.67894 0.0276 -0.67593 0.02187 -0.67083 C 0.02083 -0.66875 0.01909 -0.66713 0.01875 -0.66458 C 0.01822 -0.65949 0.02222 -0.64514 0.02343 -0.63958 C 0.02395 -0.63704 0.025 -0.62662 0.02812 -0.625 C 0.03107 -0.62361 0.03437 -0.625 0.0375 -0.625 E">
                                      <p:cBhvr>
                                        <p:cTn id="80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68 0.00162 0.0165 0.0044 0.025 0.00625 C 0.17205 0.0044 0.27396 0.00486 0.40313 -0.00417 C 0.40677 -0.00486 0.41042 -0.00509 0.41407 -0.00625 C 0.41979 -0.00787 0.42535 -0.01134 0.43125 -0.0125 C 0.4665 -0.01968 0.50209 -0.0206 0.5375 -0.025 C 0.56754 -0.03588 0.5974 -0.05301 0.62188 -0.07917 C 0.62743 -0.08495 0.63872 -0.1037 0.64219 -0.10833 C 0.64775 -0.11574 0.65382 -0.12176 0.65938 -0.12917 C 0.66875 -0.14167 0.67622 -0.15718 0.68438 -0.17083 C 0.69288 -0.18495 0.70104 -0.19977 0.70625 -0.21667 C 0.70747 -0.22083 0.70764 -0.22546 0.70938 -0.22917 C 0.71459 -0.24074 0.72657 -0.2625 0.72657 -0.2625 C 0.73195 -0.28727 0.74341 -0.3088 0.75 -0.33333 C 0.75313 -0.34444 0.75591 -0.35579 0.75938 -0.36667 C 0.76198 -0.375 0.76719 -0.39167 0.76719 -0.39167 C 0.77361 -0.44306 0.76945 -0.49676 0.7625 -0.54792 C 0.76094 -0.5588 0.75625 -0.57292 0.75313 -0.58333 C 0.75209 -0.58681 0.75139 -0.59051 0.75 -0.59375 C 0.74827 -0.59815 0.74375 -0.60625 0.74375 -0.60625 C 0.74045 -0.62361 0.73559 -0.63727 0.72813 -0.65208 C 0.72413 -0.66019 0.72344 -0.66736 0.71563 -0.67083 C 0.70886 -0.68866 0.71667 -0.67153 0.70782 -0.68333 C 0.70643 -0.68519 0.70625 -0.68819 0.70469 -0.68958 C 0.70295 -0.6912 0.70052 -0.69097 0.69844 -0.69167 C 0.69219 -0.7 0.68698 -0.70741 0.67813 -0.71042 C 0.66858 -0.71806 0.65747 -0.72662 0.64688 -0.73125 C 0.64288 -0.7331 0.63438 -0.73542 0.63438 -0.73542 C 0.62084 -0.73472 0.60729 -0.73495 0.59375 -0.73333 C 0.59045 -0.73287 0.5875 -0.73032 0.58438 -0.72917 C 0.58438 -0.72917 0.56875 -0.72407 0.56563 -0.72292 C 0.56007 -0.72106 0.55938 -0.71759 0.55469 -0.71458 C 0.54722 -0.70972 0.53889 -0.70625 0.53125 -0.70208 C 0.52969 -0.7 0.52847 -0.69745 0.52657 -0.69583 C 0.52518 -0.69468 0.52292 -0.6956 0.52188 -0.69375 C 0.5158 -0.68241 0.5158 -0.6588 0.5125 -0.64583 C 0.51094 -0.63171 0.51216 -0.61829 0.50469 -0.60833 E">
                                      <p:cBhvr>
                                        <p:cTn id="88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65 0.00139 0.02396 -0.00069 0.0375 0.00625 C 0.05278 0.01412 0.06806 0.0287 0.08438 0.03333 C 0.11059 0.04074 0.14028 0.03981 0.16719 0.04167 C 0.22552 0.03958 0.26945 0.03935 0.32344 0.03125 C 0.39115 0.03287 0.45747 0.03611 0.52483 0.03125 C 0.53837 0.02616 0.55209 0.02269 0.56563 0.01667 C 0.57136 0.01412 0.5757 0.00718 0.58125 0.00417 C 0.5974 -0.0044 0.61441 -0.01412 0.62969 -0.025 C 0.65886 -0.0456 0.63872 -0.03426 0.65625 -0.04375 C 0.65955 -0.04977 0.66389 -0.0544 0.66719 -0.06042 C 0.67344 -0.07153 0.67535 -0.08889 0.67813 -0.10208 C 0.67622 -0.13796 0.6783 -0.17523 0.66094 -0.20417 C 0.65782 -0.21667 0.64966 -0.22315 0.64063 -0.22708 C 0.63386 -0.23611 0.6283 -0.23796 0.62188 -0.24792 C 0.61806 -0.25394 0.61597 -0.2625 0.61094 -0.26667 C 0.59636 -0.27847 0.58195 -0.28426 0.56563 -0.28958 C 0.54809 -0.28889 0.52309 -0.29213 0.50295 -0.28542 C 0.49757 -0.28356 0.49636 -0.28171 0.49063 -0.27708 C 0.48646 -0.27361 0.47813 -0.26667 0.47813 -0.26667 C 0.47344 -0.25718 0.46771 -0.25602 0.46094 -0.25 C 0.46025 -0.24792 0.46007 -0.2456 0.45938 -0.24375 C 0.45851 -0.24144 0.45643 -0.24005 0.45608 -0.2375 C 0.45591 -0.23403 0.45764 -0.22708 0.45764 -0.22708 E">
                                      <p:cBhvr>
                                        <p:cTn id="96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13 0.00625 0.00469 0.0125 0.00781 0.01875 C 0.00938 0.02709 0.00799 0.02755 0.01406 0.03125 C 0.01701 0.03311 0.02344 0.03542 0.02344 0.03542 C 0.03142 0.04352 0.04045 0.04792 0.05 0.05209 C 0.05399 0.05394 0.05712 0.05787 0.06094 0.06042 C 0.06233 0.06042 0.09792 0.05764 0.10313 0.05625 C 0.11163 0.05394 0.1184 0.04121 0.12969 0.0375 C 0.13385 0.03334 0.13802 0.02917 0.14219 0.025 C 0.14583 0.0213 0.15469 0.01667 0.15469 0.01667 C 0.15712 0.00695 0.16944 -0.01111 0.175 -0.02083 C 0.18021 -0.04143 0.17153 -0.00995 0.18125 -0.03333 C 0.18733 -0.04814 0.18663 -0.06713 0.19375 -0.08125 C 0.19688 -0.1287 0.20816 -0.18981 0.1875 -0.23125 C 0.18281 -0.24074 0.1783 -0.25902 0.17031 -0.2625 C 0.16927 -0.26458 0.16806 -0.26643 0.16719 -0.26875 C 0.16649 -0.2706 0.16684 -0.27338 0.16563 -0.275 C 0.16441 -0.27662 0.16233 -0.27592 0.16094 -0.27708 C 0.15278 -0.2831 0.14792 -0.28773 0.13906 -0.29166 C 0.11632 -0.28958 0.09271 -0.28727 0.07031 -0.28125 C 0.06875 -0.27847 0.06771 -0.27523 0.06563 -0.27291 C 0.06441 -0.27152 0.06111 -0.27291 0.06094 -0.27083 C 0.05955 -0.24977 0.06024 -0.2081 0.06875 -0.18541 C 0.06875 -0.18541 0.07656 -0.1699 0.07813 -0.16666 C 0.08038 -0.16203 0.08559 -0.16157 0.08906 -0.15833 C 0.09931 -0.14861 0.1033 -0.14398 0.11563 -0.14166 C 0.11927 -0.14236 0.12309 -0.14236 0.12656 -0.14375 C 0.13264 -0.14606 0.13767 -0.15532 0.14219 -0.16041 C 0.15052 -0.1699 0.1599 -0.18495 0.17031 -0.18958 C 0.1816 -0.20463 0.19045 -0.22268 0.2 -0.23958 C 0.20104 -0.24375 0.20139 -0.24838 0.20313 -0.25208 C 0.20573 -0.25764 0.21094 -0.26875 0.21094 -0.26875 C 0.21146 -0.27291 0.21163 -0.27708 0.2125 -0.28125 C 0.21372 -0.2875 0.21719 -0.3 0.21719 -0.3 C 0.21667 -0.31666 0.21649 -0.33333 0.21563 -0.35 C 0.2151 -0.35902 0.21076 -0.36736 0.20781 -0.375 C 0.19792 -0.40115 0.18281 -0.42777 0.16094 -0.4375 C 0.15226 -0.44907 0.15156 -0.45416 0.13906 -0.45833 C 0.13177 -0.46412 0.12517 -0.46736 0.11719 -0.47083 C 0.11545 -0.47152 0.11424 -0.47407 0.1125 -0.475 C 0.10295 -0.48055 0.08229 -0.48958 0.07188 -0.49166 C 0.0526 -0.49537 0.03333 -0.49791 0.01406 -0.5 C -0.0283 -0.49814 -0.02934 -0.50578 -0.05469 -0.48333 C -0.05799 -0.47662 -0.06059 -0.47014 -0.0625 -0.4625 C -0.06198 -0.45347 -0.06285 -0.44421 -0.06094 -0.43541 C -0.06042 -0.43333 -0.05764 -0.43426 -0.05625 -0.43333 C -0.05174 -0.43032 -0.04687 -0.42592 -0.04687 -0.41875 E">
                                      <p:cBhvr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59640" y="609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4219 0.0118 0.08403 0.02546 0.12656 0.03541 C 0.14896 0.04051 0.16493 0.01689 0.18437 0.01041 C 0.19496 -0.01065 0.21146 -0.0294 0.22969 -0.0375 C 0.2434 -0.05579 0.25781 -0.07523 0.26719 -0.09792 C 0.27482 -0.11598 0.27882 -0.13681 0.2875 -0.15417 C 0.28958 -0.17662 0.28802 -0.16551 0.29219 -0.1875 C 0.29271 -0.19028 0.29305 -0.19306 0.29375 -0.19584 C 0.29479 -0.2 0.29687 -0.20834 0.29687 -0.20834 C 0.3 -0.23727 0.30034 -0.2338 0.29687 -0.27917 C 0.29653 -0.28496 0.28975 -0.29468 0.2875 -0.3 C 0.28159 -0.31366 0.27812 -0.31783 0.26875 -0.32709 C 0.26701 -0.32894 0.26597 -0.33195 0.26406 -0.33334 C 0.26024 -0.33588 0.25555 -0.33565 0.25156 -0.3375 C 0.23489 -0.33588 0.22569 -0.33473 0.2125 -0.32292 C 0.21198 -0.32084 0.21215 -0.31829 0.21094 -0.31667 C 0.20833 -0.3132 0.20156 -0.30834 0.20156 -0.30834 C 0.19896 -0.29422 0.19392 -0.27963 0.18906 -0.2669 C 0.19045 -0.22315 0.18784 -0.21135 0.20469 -0.18125 C 0.20659 -0.1713 0.20868 -0.1676 0.21406 -0.16042 C 0.21823 -0.13773 0.22135 -0.14329 0.23281 -0.12292 C 0.23889 -0.11204 0.23524 -0.11621 0.24375 -0.11042 C 0.24948 -0.09885 0.25955 -0.09491 0.26875 -0.08959 C 0.27413 -0.08658 0.27916 -0.08264 0.28437 -0.07917 C 0.29531 -0.07199 0.30833 -0.07176 0.31875 -0.0625 C 0.32239 -0.0632 0.32621 -0.06273 0.32969 -0.06459 C 0.33385 -0.0669 0.34045 -0.07732 0.34375 -0.08125 C 0.35486 -0.09445 0.36232 -0.10787 0.37187 -0.12292 C 0.37361 -0.12963 0.37969 -0.14167 0.37969 -0.14167 C 0.38385 -0.16366 0.37812 -0.13773 0.38437 -0.15625 C 0.39149 -0.17778 0.39878 -0.2 0.40312 -0.22292 C 0.40816 -0.30023 0.42552 -0.39653 0.4 -0.46459 C 0.39166 -0.52061 0.34757 -0.5375 0.3125 -0.55417 C 0.3092 -0.55579 0.30607 -0.55811 0.30312 -0.56042 C 0.29878 -0.56366 0.29514 -0.56852 0.29062 -0.57084 C 0.28559 -0.57338 0.28021 -0.57361 0.275 -0.575 C 0.26632 -0.57986 0.26059 -0.58311 0.25156 -0.58542 C 0.23489 -0.58473 0.21823 -0.58519 0.20156 -0.58334 C 0.18837 -0.58195 0.17778 -0.56875 0.16562 -0.56459 C 0.15694 -0.55695 0.14826 -0.54468 0.14219 -0.53334 C 0.13767 -0.525 0.13559 -0.51482 0.13125 -0.50625 C 0.12778 -0.4882 0.12656 -0.47084 0.12656 -0.45209 E">
                                      <p:cBhvr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007 0.01018 -0.01736 0.02777 -0.02969 0.03333 C -0.03333 0.04074 -0.03576 0.04514 -0.04219 0.04791 C -0.04549 0.06134 -0.06389 0.07314 -0.07187 0.08125 C -0.08281 0.09259 -0.09444 0.10069 -0.10625 0.11041 C -0.11736 0.11967 -0.12656 0.1324 -0.1375 0.14166 C -0.14288 0.14606 -0.14948 0.14745 -0.15469 0.15208 C -0.16476 0.16088 -0.16997 0.1699 -0.18125 0.175 C -0.18767 0.18796 -0.18003 0.17569 -0.19062 0.18333 C -0.19462 0.18611 -0.19774 0.19074 -0.20156 0.19375 C -0.20399 0.1956 -0.20677 0.19629 -0.20937 0.19791 C -0.2125 0.19977 -0.2158 0.20185 -0.21875 0.20416 C -0.2316 0.21458 -0.24444 0.22291 -0.25781 0.23125 C -0.27535 0.24189 -0.27187 0.2449 -0.29219 0.24791 C -0.31476 0.26296 -0.34097 0.26458 -0.36562 0.26875 C -0.39479 0.26805 -0.42396 0.26852 -0.45312 0.26666 C -0.46007 0.2662 -0.46649 0.26088 -0.47344 0.26041 C -0.4875 0.25926 -0.50156 0.25902 -0.51562 0.25833 C -0.52049 0.25185 -0.52465 0.24884 -0.53125 0.24583 C -0.5408 0.22662 -0.52778 0.25 -0.53906 0.2375 C -0.54323 0.23287 -0.55122 0.21875 -0.55469 0.2125 C -0.55781 0.20023 -0.55833 0.19051 -0.55937 0.17708 C -0.55781 0.1456 -0.55781 0.11875 -0.54062 0.09583 C -0.53837 0.08356 -0.53559 0.08727 -0.53125 0.07708 C -0.52483 0.06203 -0.51701 0.04814 -0.50469 0.04166 C -0.49861 0.03356 -0.50035 0.03449 -0.49062 0.02916 C -0.4875 0.02754 -0.48437 0.02639 -0.48125 0.025 C -0.47969 0.0243 -0.47656 0.02291 -0.47656 0.02291 C -0.46979 0.02361 -0.46285 0.02338 -0.45625 0.025 C -0.45139 0.02615 -0.4434 0.03495 -0.4375 0.0375 C -0.42882 0.04676 -0.42205 0.05694 -0.4125 0.06458 C -0.40677 0.08356 -0.41181 0.07338 -0.39062 0.0875 C -0.3809 0.09398 -0.37153 0.10416 -0.36094 0.10833 C -0.35799 0.10949 -0.35469 0.10949 -0.35156 0.11041 C -0.35 0.11088 -0.34844 0.1118 -0.34687 0.1125 C -0.32066 0.11134 -0.28576 0.11389 -0.25937 0.10208 C -0.24931 0.09768 -0.23993 0.08889 -0.23125 0.08125 C -0.22674 0.07731 -0.21719 0.07083 -0.21719 0.07083 C -0.20747 0.05139 -0.20174 0.02824 -0.19219 0.00833 C -0.17153 -0.03449 -0.15312 -0.0794 -0.14375 -0.12917 C -0.14427 -0.13125 -0.1441 -0.1338 -0.14531 -0.13542 C -0.14601 -0.13635 -0.15625 -0.13959 -0.15625 -0.13959 C -0.16337 -0.14144 -0.16962 -0.14352 -0.17656 -0.14584 C -0.18663 -0.14422 -0.19062 -0.14445 -0.19844 -0.1375 C -0.19427 -0.11806 -0.19045 -0.10486 -0.175 -0.09792 C -0.13698 -0.10093 -0.15885 -0.09746 -0.13906 -0.10625 C -0.12778 -0.12639 -0.14236 -0.10186 -0.12656 -0.12292 C -0.11615 -0.13681 -0.13125 -0.12223 -0.11875 -0.13334 C -0.11562 -0.14561 -0.11076 -0.15672 -0.10781 -0.16875 C -0.10625 -0.18889 -0.10608 -0.20926 -0.10312 -0.22917 C -0.10417 -0.24028 -0.10417 -0.25162 -0.10625 -0.2625 C -0.10851 -0.27477 -0.12274 -0.2838 -0.12969 -0.28959 C -0.14774 -0.30463 -0.16476 -0.30834 -0.18594 -0.31042 C -0.22083 -0.3088 -0.21927 -0.31135 -0.24062 -0.30417 C -0.24792 -0.29769 -0.25382 -0.28959 -0.26094 -0.28334 C -0.26389 -0.27176 -0.26562 -0.26204 -0.26562 -0.25 E">
                                      <p:cBhvr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8282 -0.02199 -0.15886 0.02593 -0.23125 0.07084 C -0.24844 0.08148 -0.2415 0.07361 -0.2625 0.08334 C -0.28282 0.0926 -0.30573 0.10811 -0.31875 0.13125 C -0.32136 0.1419 -0.32622 0.15139 -0.32813 0.1625 C -0.32987 0.17338 -0.33143 0.18473 -0.33282 0.19584 C -0.33178 0.23287 -0.33455 0.25926 -0.31875 0.2875 C -0.31615 0.30139 -0.3132 0.31598 -0.30625 0.32709 C -0.30244 0.33311 -0.29636 0.33681 -0.29375 0.34375 C -0.29271 0.34653 -0.29219 0.35 -0.29063 0.35209 C -0.28941 0.35371 -0.2875 0.35324 -0.28594 0.35417 C -0.28282 0.35602 -0.27952 0.35811 -0.27657 0.36042 C -0.27066 0.36505 -0.26511 0.37014 -0.25938 0.375 C -0.25018 0.38287 -0.24202 0.39098 -0.23125 0.39375 C -0.21615 0.40718 -0.2257 0.40162 -0.20157 0.40417 C -0.16563 0.40348 -0.12969 0.40324 -0.09375 0.40186 C -0.054 0.4007 -0.09584 0.40093 -0.06407 0.39561 C -0.04966 0.39352 0.01336 0.39167 0.01562 0.39167 C 0.04826 0.38681 0.08125 0.38542 0.11406 0.38311 C 0.14149 0.37593 0.17048 0.37153 0.19843 0.36875 C 0.21197 0.36273 0.22482 0.35811 0.23906 0.35625 C 0.25225 0.35186 0.26701 0.34815 0.27968 0.34167 C 0.29357 0.33449 0.3059 0.32639 0.32031 0.32084 C 0.34166 0.30186 0.31909 0.31968 0.3375 0.31042 C 0.33923 0.30949 0.34045 0.30741 0.34218 0.30625 C 0.3526 0.29931 0.36336 0.29352 0.37343 0.28542 C 0.37795 0.27616 0.38576 0.27153 0.39218 0.26459 C 0.39913 0.25695 0.40399 0.24491 0.40937 0.23542 C 0.41788 0.22037 0.40798 0.2375 0.41406 0.22292 C 0.41788 0.21366 0.42309 0.20533 0.42656 0.19584 C 0.42951 0.18797 0.43055 0.17894 0.43281 0.17084 C 0.43559 0.16088 0.43871 0.15301 0.44218 0.14375 C 0.44444 0.12547 0.44965 0.11088 0.45468 0.09375 C 0.45677 0.06783 0.45781 0.06297 0.45468 0.03542 C 0.45416 0.00764 0.45399 -0.02014 0.45312 -0.04791 C 0.45243 -0.0699 0.44427 -0.09791 0.43906 -0.11875 C 0.4368 -0.12801 0.43177 -0.13541 0.42812 -0.14375 C 0.42725 -0.14583 0.42638 -0.14838 0.425 -0.15 C 0.42256 -0.15277 0.4125 -0.15902 0.40937 -0.16041 C 0.40434 -0.1625 0.39375 -0.16458 0.39375 -0.16458 C 0.38333 -0.16389 0.37291 -0.16365 0.3625 -0.1625 C 0.35815 -0.16203 0.35312 -0.15625 0.35 -0.15416 C 0.34166 -0.14861 0.32656 -0.13958 0.32187 -0.12708 C 0.31892 -0.11944 0.3177 -0.11227 0.31562 -0.10416 C 0.31614 -0.09444 0.3151 -0.08426 0.31718 -0.075 C 0.31788 -0.07176 0.32152 -0.07129 0.32343 -0.06875 C 0.32482 -0.06689 0.32517 -0.06435 0.32656 -0.0625 C 0.33125 -0.05625 0.33732 -0.05439 0.34218 -0.04791 C 0.35 -0.04861 0.35781 -0.04884 0.36562 -0.05 C 0.36892 -0.05046 0.37395 -0.05486 0.37656 -0.05625 C 0.39131 -0.06481 0.40538 -0.07129 0.41562 -0.08958 C 0.42031 -0.09768 0.42343 -0.10648 0.42812 -0.11458 C 0.42916 -0.11944 0.42986 -0.12453 0.43125 -0.12916 C 0.43194 -0.13148 0.43437 -0.13287 0.43437 -0.13541 C 0.43541 -0.17037 0.4368 -0.18634 0.42031 -0.20833 C 0.41545 -0.22801 0.39756 -0.24398 0.38281 -0.24791 C 0.35763 -0.26481 0.37135 -0.26018 0.32968 -0.2625 C 0.30104 -0.2662 0.27152 -0.26944 0.24531 -0.25208 C 0.24427 -0.25 0.24375 -0.24722 0.24218 -0.24583 C 0.2394 -0.24352 0.23281 -0.24166 0.23281 -0.24166 C 0.23125 -0.23958 0.22986 -0.23727 0.22812 -0.23541 C 0.22673 -0.23379 0.22343 -0.23125 0.22343 -0.23125 E">
                                      <p:cBhvr>
                                        <p:cTn id="32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38889E-006 -4.07407E-006 C 0.00643 0.02593 0.01493 0.05047 0.02344 0.075 C 0.02899 0.09074 0.02847 0.10116 0.04063 0.10834 C 0.04323 0.10996 0.04583 0.11112 0.04844 0.1125 C 0.05747 0.13033 0.04549 0.10926 0.05625 0.12084 C 0.05764 0.12246 0.05799 0.12547 0.05938 0.12709 C 0.07431 0.14352 0.05677 0.11737 0.07188 0.1375 C 0.07327 0.13936 0.07361 0.14213 0.075 0.14375 C 0.07917 0.14838 0.08472 0.14977 0.08906 0.15417 C 0.0908 0.15602 0.09184 0.15903 0.09375 0.16042 C 0.09861 0.16389 0.10469 0.16482 0.10938 0.16875 C 0.11354 0.17223 0.11806 0.175 0.12188 0.17917 C 0.12448 0.18195 0.12674 0.18565 0.12969 0.1875 C 0.13264 0.18936 0.13594 0.18889 0.13906 0.18959 C 0.17604 0.22246 0.22622 0.21366 0.26719 0.21459 C 0.29601 0.22547 0.32656 0.22362 0.35625 0.225 C 0.37917 0.22871 0.40208 0.225 0.425 0.22292 C 0.45382 0.21181 0.4842 0.20787 0.51406 0.20209 C 0.52656 0.19653 0.53906 0.19306 0.55139 0.1875 C 0.56337 0.17153 0.58125 0.15996 0.59531 0.14792 C 0.60191 0.14237 0.60573 0.13241 0.6125 0.12709 C 0.61997 0.12107 0.62396 0.11598 0.62969 0.10834 C 0.63941 0.09537 0.63889 0.10787 0.65 0.08334 C 0.65712 0.06737 0.66771 0.05417 0.67656 0.03959 C 0.67865 0.03612 0.68073 0.03264 0.68281 0.02917 C 0.6849 0.0257 0.68906 0.01875 0.68906 0.01899 C 0.69184 -4.0740699999986E-006 0.70295 -0.01412 0.70938 -0.03125 C 0.71806 -0.05439 0.7257 -0.07824 0.73281 -0.10208 C 0.73333 -0.10763 0.73299 -0.11342 0.73438 -0.11875 C 0.73524 -0.12199 0.73785 -0.12407 0.73906 -0.12708 L 0.74531 -0.14791 C 0.74531 -0.14768 0.74531 -0.14791 0.74531 -0.14768 C 0.74809 -0.16226 0.75261 -0.17268 0.75625 -0.1875 C 0.76042 -0.20416 0.76458 -0.22083 0.76875 -0.2375 C 0.76771 -0.26041 0.76702 -0.28333 0.76563 -0.30625 C 0.76493 -0.31689 0.75868 -0.32013 0.75313 -0.325 C 0.74827 -0.32939 0.7434 -0.33703 0.7375 -0.33958 C 0.72899 -0.34328 0.71823 -0.34351 0.70938 -0.34583 C 0.69219 -0.35717 0.67031 -0.36412 0.65156 -0.36666 C 0.63438 -0.3743 0.62344 -0.36458 0.6092 -0.35833 C 0.60729 -0.35416 0.60521 -0.35 0.60313 -0.34583 C 0.60191 -0.34375 0.59983 -0.33958 0.59983 -0.33935 C 0.59462 -0.31203 0.59809 -0.28333 0.61094 -0.26041 C 0.61563 -0.24166 0.62882 -0.23842 0.64219 -0.23541 C 0.65208 -0.23611 0.66215 -0.23495 0.67188 -0.2375 C 0.67604 -0.23865 0.67899 -0.24351 0.68281 -0.24583 C 0.69705 -0.25463 0.71771 -0.26365 0.72656 -0.28333 C 0.73264 -0.29676 0.72952 -0.29051 0.73594 -0.30208 C 0.73854 -0.31273 0.74271 -0.32268 0.74531 -0.33333 C 0.74774 -0.35648 0.75243 -0.38379 0.74219 -0.40416 C 0.73993 -0.41666 0.73386 -0.42106 0.725 -0.425 C 0.71684 -0.4331 0.70781 -0.43912 0.7 -0.44791 C 0.68472 -0.46504 0.70452 -0.44398 0.69219 -0.46041 C 0.69028 -0.46296 0.68785 -0.46412 0.68594 -0.46666 C 0.68455 -0.46851 0.68438 -0.47152 0.68281 -0.47291 C 0.68004 -0.47569 0.67656 -0.47685 0.67344 -0.47916 C 0.67188 -0.48032 0.67031 -0.48217 0.66875 -0.48333 C 0.66458 -0.48634 0.66042 -0.48888 0.65625 -0.49166 C 0.65295 -0.49398 0.64688 -0.5 0.64688 -0.49976 C 0.61181 -0.49699 0.63125 -0.5 0.6125 -0.49166 C 0.60781 -0.48541 0.60191 -0.48032 0.59844 -0.47291 C 0.59202 -0.46041 0.58733 -0.44791 0.58125 -0.43541 C 0.57882 -0.43055 0.6066 -0.41273 0.60486 -0.4074 E">
                                      <p:cBhvr>
                                        <p:cTn id="40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6146 0.00139 -0.12292 0.00231 -0.18438 0.00417 C -0.19966 0.00463 -0.21493 0.01134 -0.22969 0.01458 C -0.26198 0.02176 -0.29393 0.03241 -0.32656 0.03542 C -0.34115 0.04329 -0.36528 0.05394 -0.37813 0.06667 C -0.38525 0.07384 -0.39132 0.08241 -0.39844 0.08958 C -0.4 0.09306 -0.40139 0.09676 -0.40313 0.1 C -0.40452 0.10231 -0.4066 0.1037 -0.40781 0.10625 C -0.40938 0.10949 -0.40972 0.11343 -0.41094 0.11667 C -0.41216 0.11968 -0.41771 0.1294 -0.41875 0.13125 C -0.42413 0.15995 -0.42448 0.19306 -0.41563 0.22083 C -0.41372 0.22685 -0.41025 0.23171 -0.40781 0.2375 C -0.40469 0.24491 -0.40469 0.24792 -0.4 0.25417 C -0.39809 0.25671 -0.39566 0.25787 -0.39375 0.26042 C -0.38854 0.26736 -0.3849 0.27639 -0.37969 0.28333 C -0.37309 0.29213 -0.36354 0.29282 -0.35625 0.3 C -0.34514 0.31111 -0.33438 0.32454 -0.32031 0.32917 C -0.31511 0.33333 -0.31042 0.33912 -0.30469 0.34167 C -0.30156 0.34306 -0.29827 0.34398 -0.29531 0.34583 C -0.28212 0.35394 -0.27066 0.3669 -0.25625 0.37083 C -0.24705 0.3831 -0.25712 0.37222 -0.24063 0.37917 C -0.20573 0.39375 -0.23785 0.38773 -0.20469 0.39167 C -0.17292 0.40231 -0.17396 0.40208 -0.13281 0.40417 C -0.11007 0.41088 -0.08733 0.41088 -0.06406 0.4125 C -0.02066 0.41157 0.00885 0.41389 0.04687 0.40833 C 0.071 0.40486 0.0934 0.39491 0.11719 0.38958 C 0.12795 0.38241 0.13958 0.37685 0.15 0.36875 C 0.17725 0.34722 0.1625 0.35301 0.17812 0.34792 C 0.18889 0.33634 0.20104 0.32894 0.2125 0.31875 C 0.22413 0.30833 0.21076 0.31528 0.22187 0.31042 C 0.22639 0.30579 0.23594 0.29699 0.24062 0.28958 C 0.25885 0.26042 0.24462 0.28009 0.25781 0.2625 C 0.25989 0.2544 0.26371 0.24861 0.26719 0.24167 C 0.26996 0.22685 0.27448 0.21667 0.28125 0.20417 C 0.28316 0.19097 0.28802 0.18264 0.29219 0.17083 C 0.30399 0.13727 0.29219 0.16181 0.30625 0.13542 C 0.30781 0.10972 0.31163 0.08704 0.31719 0.0625 C 0.31944 0.05278 0.31944 0.04282 0.32187 0.03333 C 0.32118 -0.01435 0.3283 -0.05764 0.31562 -0.1 C 0.31302 -0.12384 0.30816 -0.14722 0.3 -0.16875 C 0.29583 -0.19676 0.27621 -0.22894 0.25937 -0.24583 C 0.25538 -0.26204 0.24739 -0.26991 0.23594 -0.275 C 0.23125 -0.27708 0.22639 -0.28241 0.22187 -0.28542 C 0.21614 -0.28935 0.20937 -0.29167 0.20312 -0.29375 C 0.18906 -0.30787 0.16823 -0.30694 0.15156 -0.30833 C 0.11771 -0.31968 0.13923 -0.31481 0.08594 -0.3125 C 0.07969 -0.30694 0.07448 -0.30671 0.06719 -0.30417 C 0.06406 -0.30301 0.05781 -0.3 0.05781 -0.3 C 0.05416 -0.29653 0.05 -0.29375 0.04687 -0.28958 C 0.04253 -0.28403 0.03906 -0.27546 0.03594 -0.26875 C 0.0335 -0.25579 0.02934 -0.25486 0.03281 -0.23958 C 0.03333 -0.23727 0.03403 -0.23403 0.03594 -0.23333 C 0.04045 -0.23171 0.04531 -0.23333 0.05 -0.23333 E">
                                      <p:cBhvr>
                                        <p:cTn id="48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2726 0.01204 -0.09254 0.00324 -0.12188 0.00209 C -0.13073 0.00047 -0.13959 -0.00023 -0.14844 -0.00208 C -0.16563 -0.00555 -0.18073 -0.02037 -0.19531 -0.03125 C -0.20209 -0.03634 -0.20886 -0.03819 -0.21563 -0.04375 C -0.21893 -0.05717 -0.21406 -0.04305 -0.22656 -0.05416 C -0.22865 -0.05602 -0.22969 -0.05972 -0.23125 -0.0625 C -0.23386 -0.07268 -0.23698 -0.07893 -0.24219 -0.0875 C -0.24462 -0.10046 -0.24584 -0.10833 -0.24688 -0.12291 C -0.24601 -0.16111 -0.24966 -0.18842 -0.23594 -0.21875 C -0.23299 -0.23472 -0.22604 -0.25115 -0.21563 -0.26041 C -0.21337 -0.26504 -0.21146 -0.26967 -0.20781 -0.27291 C -0.19913 -0.28078 -0.17847 -0.28657 -0.16719 -0.29166 C -0.16545 -0.29236 -0.16424 -0.2949 -0.1625 -0.29583 C -0.15417 -0.30023 -0.14479 -0.30416 -0.13594 -0.30625 C -0.12691 -0.31412 -0.1191 -0.31504 -0.10781 -0.31875 C -0.09827 -0.32199 -0.08941 -0.32801 -0.07969 -0.33125 C -0.07813 -0.33264 -0.07674 -0.33426 -0.075 -0.33541 C -0.07361 -0.33634 -0.0717 -0.33634 -0.07031 -0.3375 C -0.06146 -0.3449 -0.054 -0.35486 -0.04531 -0.3625 C -0.0415 -0.37291 -0.03837 -0.38333 -0.03438 -0.39375 C -0.03299 -0.39768 -0.03229 -0.40208 -0.03125 -0.40625 C -0.03073 -0.40833 -0.02969 -0.4125 -0.02969 -0.4125 C -0.03108 -0.44305 -0.02952 -0.48102 -0.04688 -0.50416 C -0.04966 -0.51504 -0.0533 -0.52314 -0.05938 -0.53125 C -0.06459 -0.55231 -0.08004 -0.55555 -0.09375 -0.5625 C -0.10868 -0.5699 -0.12309 -0.57291 -0.13906 -0.575 C -0.16163 -0.58703 -0.18108 -0.57615 -0.20156 -0.5625 C -0.20538 -0.55995 -0.20868 -0.55648 -0.2125 -0.55416 C -0.21545 -0.55231 -0.22188 -0.55 -0.22188 -0.55 C -0.22483 -0.54606 -0.2283 -0.54352 -0.23125 -0.53958 C -0.23837 -0.53009 -0.22986 -0.53541 -0.23906 -0.53125 C -0.24601 -0.51736 -0.24202 -0.52106 -0.24844 -0.51666 E">
                                      <p:cBhvr>
                                        <p:cTn id="56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94444E-006 2.59259E-006 C 0.00851 0.0169 0.01823 0.01852 0.03125 0.02708 C 0.03351 0.0287 0.03525 0.03148 0.0375 0.03333 C 0.04045 0.03565 0.04375 0.03773 0.04688 0.03958 C 0.06268 0.04884 0.07674 0.05185 0.09375 0.05416 C 0.1165 0.05347 0.23594 0.04004 0.28906 0.05416 C 0.32396 0.05347 0.35886 0.05347 0.39375 0.05208 C 0.39896 0.05185 0.42014 0.03541 0.42031 0.03541 C 0.43351 0.02778 0.44722 0.01898 0.45938 0.00833 C 0.46441 0.00393 0.46771 -0.00486 0.47188 -0.01042 C 0.47518 -0.02338 0.47084 -0.00996 0.47969 -0.02292 C 0.48837 -0.03542 0.49618 -0.04954 0.50469 -0.0625 C 0.51406 -0.07685 0.51632 -0.09653 0.52344 -0.1125 C 0.525 -0.12315 0.5283 -0.1294 0.53125 -0.13959 C 0.53403 -0.14954 0.53455 -0.15972 0.53906 -0.16875 C 0.54271 -0.18588 0.54514 -0.20347 0.54844 -0.22084 C 0.54792 -0.27014 0.54827 -0.31945 0.54688 -0.36875 C 0.54653 -0.38195 0.54427 -0.39676 0.53594 -0.40417 C 0.53403 -0.41459 0.53177 -0.42523 0.525 -0.43125 C 0.51597 -0.44908 0.52795 -0.42801 0.51719 -0.43959 C 0.5158 -0.44121 0.51563 -0.44445 0.51406 -0.44584 C 0.51129 -0.44815 0.50747 -0.44769 0.50469 -0.45 C 0.49063 -0.46158 0.4757 -0.47269 0.45938 -0.47709 C 0.43733 -0.49167 0.41424 -0.48218 0.38906 -0.48125 C 0.38368 -0.47662 0.37969 -0.475 0.37344 -0.47292 C 0.36806 -0.46806 0.36406 -0.46667 0.35938 -0.46042 C 0.35695 -0.45093 0.35261 -0.44352 0.34844 -0.43542 C 0.34618 -0.43102 0.34549 -0.42547 0.34375 -0.42084 C 0.34323 -0.41528 0.35868 -0.40672 0.35868 -0.40116 C 0.35868 -0.39699 0.379 -0.38889 0.379 -0.38866 E">
                                      <p:cBhvr>
                                        <p:cTn id="64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55:09Z</dcterms:created>
  <dc:creator>Angie Gore</dc:creator>
  <dc:description/>
  <dc:language>en-US</dc:language>
  <cp:lastModifiedBy>Angie Gore</cp:lastModifiedBy>
  <dcterms:modified xsi:type="dcterms:W3CDTF">2006-11-20T20:37:4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977084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