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4B6-85FA-4A2E-86AE-9D8D26F8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CCD-0D0D-4926-ADDC-C49F5513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5D3-B6FA-4E9F-8997-BAA2A97D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D9E-3E0A-46D3-AD55-6A07C40E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251-494B-4797-8A09-F6441ED8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13B-2C05-41D7-8DC8-CF78367E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6FF-B7D1-4D71-AA0F-96381BD2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37D-5492-4466-8F41-B815752E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F31-FABC-4D7B-BCB9-13862E9F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4BD-F884-4171-AAC9-5CBBA839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5B0-8312-4EBB-98CD-195944BB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D58-4139-4A49-996A-E29BCEA9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DBE0-2E72-4082-8F57-168A4878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661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26 0.00278 0.00486 0.00625 0.00781 0.00833 C 0.00972 0.00972 0.01215 0.00903 0.01406 0.01042 C 0.01597 0.01181 0.01701 0.01505 0.01875 0.01667 C 0.02812 0.02569 0.04079 0.03264 0.05156 0.0375 C 0.05329 0.03819 0.05451 0.04051 0.05625 0.04167 C 0.06475 0.04745 0.07343 0.05532 0.08281 0.05833 C 0.09392 0.06944 0.10972 0.07338 0.12343 0.07708 C 0.16649 0.07569 0.20347 0.07106 0.24531 0.06667 C 0.25243 0.06204 0.25954 0.0588 0.26718 0.05625 C 0.27395 0.05023 0.28125 0.04838 0.28906 0.04583 C 0.30295 0.03426 0.29687 0.0375 0.30625 0.03333 C 0.31145 0.02639 0.31805 0.02315 0.32343 0.01667 C 0.34045 -0.00417 0.35746 -0.02593 0.37187 -0.05 C 0.37447 -0.06042 0.37916 -0.06944 0.38281 -0.07917 C 0.39045 -0.09954 0.38177 -0.08125 0.38906 -0.09583 C 0.39218 -0.11273 0.39774 -0.12917 0.40156 -0.14583 C 0.40694 -0.16944 0.40642 -0.19653 0.40781 -0.22083 C 0.40729 -0.25417 0.40763 -0.2875 0.40625 -0.32083 C 0.40607 -0.32662 0.40364 -0.33194 0.40312 -0.3375 C 0.3993 -0.37384 0.38663 -0.40787 0.37343 -0.43958 C 0.36614 -0.45718 0.3592 -0.48449 0.34531 -0.49375 C 0.3335 -0.51343 0.32395 -0.52801 0.30625 -0.5375 C 0.29357 -0.5544 0.27447 -0.55278 0.25781 -0.55417 C 0.22447 -0.55347 0.19114 -0.55347 0.15781 -0.55208 C 0.1368 -0.55116 0.12656 -0.51227 0.11718 -0.49375 C 0.11666 -0.48194 0.11666 -0.47014 0.11562 -0.45833 C 0.1151 -0.45139 0.1125 -0.4375 0.1125 -0.4375 C 0.0993 -0.44329 0.10572 -0.43727 0.1 -0.45 C 0.09809 -0.4544 0.09583 -0.45833 0.09375 -0.4625 C 0.0927 -0.46458 0.09062 -0.46875 0.09062 -0.46875 C 0.09045 -0.46921 0.08836 -0.48194 0.0875 -0.48333 C 0.08628 -0.48519 0.08142 -0.48565 0.08281 -0.4875 C 0.08437 -0.48958 0.08697 -0.48611 0.08906 -0.48542 C 0.09982 -0.47593 0.1125 -0.47014 0.12343 -0.46042 C 0.12256 -0.45694 0.12135 -0.45023 0.11875 -0.44792 C 0.10902 -0.43935 0.11475 -0.45162 0.11093 -0.44167 E">
                                      <p:cBhvr>
                                        <p:cTn id="72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295 0.00764 0.0026 0.00926 0.00781 0.01458 C 0.01076 0.01759 0.01718 0.02291 0.01718 0.02291 C 0.03281 0.02222 0.04843 0.02199 0.06406 0.02083 C 0.07152 0.02037 0.07743 0.01944 0.08437 0.01666 C 0.0875 0.01551 0.09375 0.0125 0.09375 0.0125 C 0.10052 0.00347 0.10902 0.00023 0.11718 -0.00625 C 0.11961 -0.01922 0.12673 -0.03195 0.13125 -0.04375 C 0.1335 -0.04954 0.13645 -0.05486 0.13906 -0.06042 C 0.1401 -0.0625 0.14218 -0.06667 0.14218 -0.06667 C 0.14704 -0.0926 0.1592 -0.11019 0.16875 -0.13334 C 0.17517 -0.14885 0.18194 -0.16389 0.18906 -0.17917 C 0.19635 -0.19491 0.2 -0.21366 0.20781 -0.22917 C 0.21093 -0.24584 0.21788 -0.26158 0.22031 -0.27917 C 0.22291 -0.29838 0.22621 -0.31667 0.22968 -0.33542 C 0.23246 -0.34977 0.23281 -0.37107 0.23906 -0.38334 C 0.23958 -0.39028 0.2401 -0.39723 0.24062 -0.40417 C 0.24166 -0.42223 0.24375 -0.45834 0.24375 -0.45834 C 0.24288 -0.50602 0.24774 -0.53773 0.23593 -0.57709 C 0.23385 -0.59398 0.2276 -0.60949 0.22187 -0.625 C 0.22065 -0.62801 0.21753 -0.62894 0.21562 -0.63125 C 0.20868 -0.63936 0.20295 -0.64537 0.19531 -0.65209 C 0.18472 -0.66135 0.17656 -0.67084 0.16406 -0.675 C 0.15486 -0.68311 0.14079 -0.68658 0.12968 -0.68959 C 0.12656 -0.69051 0.12343 -0.69074 0.12031 -0.69167 C 0.11614 -0.69283 0.10781 -0.69584 0.10781 -0.69584 C 0.08454 -0.69329 0.07222 -0.69398 0.05312 -0.68542 C 0.04947 -0.67107 0.05451 -0.68843 0.04687 -0.67084 C 0.046 -0.66898 0.046 -0.66644 0.04531 -0.66459 C 0.04444 -0.66227 0.04322 -0.66042 0.04218 -0.65834 C 0.0401 -0.62986 0.04062 -0.64445 0.04062 -0.61459 E">
                                      <p:cBhvr>
                                        <p:cTn id="80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938 0.05023 0.01528 0.1081 0.05313 0.13333 C 0.05642 0.14213 0.05799 0.14699 0.06406 0.15208 C 0.06649 0.16574 0.07326 0.16991 0.08281 0.17292 C 0.08316 0.17315 0.09219 0.18287 0.09375 0.18356 C 0.09497 0.18426 0.10712 0.1875 0.11094 0.18981 C 0.12101 0.1956 0.12708 0.20139 0.1375 0.20417 C 0.15382 0.21875 0.20903 0.21643 0.21875 0.2169 C 0.24722 0.2243 0.28021 0.21667 0.30938 0.21481 C 0.32517 0.21134 0.33906 0.20509 0.35469 0.2 C 0.3691 0.19537 0.38403 0.19282 0.39844 0.18773 C 0.41198 0.1831 0.42378 0.17384 0.4375 0.17106 C 0.44323 0.16597 0.44983 0.16134 0.45625 0.15833 C 0.45833 0.15625 0.46042 0.15417 0.4625 0.15208 C 0.46563 0.14954 0.47188 0.14398 0.47188 0.14398 C 0.48073 0.12616 0.49566 0.12037 0.50469 0.10231 C 0.51198 0.08727 0.50243 0.10532 0.51406 0.08958 C 0.52066 0.08102 0.51997 0.075 0.52813 0.06667 C 0.5309 0.05185 0.52847 0.06088 0.53906 0.04167 C 0.54688 0.02801 0.55278 0.01088 0.55938 -0.00417 C 0.56215 -0.00996 0.56424 -0.01667 0.56719 -0.02269 C 0.57014 -0.02847 0.57656 -0.03935 0.57656 -0.03935 C 0.57899 -0.04908 0.58125 -0.06204 0.58594 -0.0706 C 0.59774 -0.09167 0.58767 -0.06713 0.59531 -0.08727 C 0.59583 -0.09028 0.59688 -0.10023 0.59844 -0.10394 C 0.60087 -0.10972 0.60625 -0.1206 0.60625 -0.1206 C 0.60816 -0.13634 0.61181 -0.15324 0.61563 -0.16852 C 0.61493 -0.2257 0.62448 -0.29769 0.59844 -0.34977 C 0.59601 -0.36296 0.5908 -0.36945 0.58438 -0.37894 C 0.58212 -0.38218 0.58073 -0.38658 0.57813 -0.38935 C 0.57431 -0.39352 0.56563 -0.39977 0.56563 -0.39977 C 0.56042 -0.41134 0.55816 -0.41389 0.55 -0.4206 C 0.54427 -0.42546 0.54201 -0.43357 0.53594 -0.43727 C 0.51528 -0.44954 0.49427 -0.45232 0.47188 -0.45602 C 0.46372 -0.46042 0.45451 -0.46482 0.44688 -0.4706 C 0.44288 -0.47361 0.44201 -0.47616 0.4375 -0.47685 C 0.43229 -0.47778 0.41198 -0.47986 0.40469 -0.48102 C 0.38264 -0.47847 0.35226 -0.4838 0.33281 -0.46644 C 0.32587 -0.45255 0.32847 -0.44005 0.33125 -0.42477 C 0.33229 -0.41968 0.33594 -0.41505 0.33594 -0.41019 E">
                                      <p:cBhvr>
                                        <p:cTn id="88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1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625 0.02523 0.0066 0.05301 0.01563 0.07709 C 0.01771 0.09306 0.02049 0.0926 0.02656 0.10625 C 0.02708 0.10903 0.02708 0.11204 0.02813 0.11459 C 0.03073 0.12061 0.0375 0.13125 0.0375 0.13125 C 0.04045 0.14329 0.04913 0.14676 0.05625 0.15417 C 0.06528 0.16343 0.07135 0.17315 0.08281 0.17709 C 0.09792 0.19723 0.11806 0.20949 0.1375 0.22084 C 0.15017 0.22824 0.16146 0.23936 0.17344 0.24792 C 0.1809 0.25324 0.1875 0.25417 0.19531 0.25834 C 0.20955 0.26621 0.20017 0.26412 0.21719 0.27084 C 0.24931 0.28334 0.2842 0.2838 0.31719 0.28542 C 0.34792 0.28403 0.37847 0.2838 0.4092 0.28125 C 0.41354 0.28079 0.42569 0.2544 0.42813 0.25 C 0.44722 0.21297 0.46198 0.16713 0.46875 0.12292 C 0.4684 0.11412 0.47205 0.05371 0.46233 0.03334 C 0.46111 0.03079 0.45903 0.02963 0.45781 0.02709 C 0.45104 0.01343 0.45156 0.00973 0.43889 0.00625 C 0.43698 0.00486 0.43455 0.00371 0.43281 0.00209 C 0.42986 -0.00046 0.42778 -0.00393 0.42483 -0.00625 C 0.40972 -0.01805 0.39323 -0.02662 0.37639 -0.03333 C 0.36111 -0.04814 0.35139 -0.04745 0.33281 -0.05 C 0.32396 -0.0493 0.3151 -0.04977 0.30625 -0.04791 C 0.30434 -0.04745 0.3033 -0.0449 0.30156 -0.04375 C 0.29531 -0.03935 0.28906 -0.03541 0.28281 -0.03125 C 0.26163 -0.01713 0.24201 -0.00602 0.225 0.01667 C 0.21892 0.02477 0.21632 0.02338 0.2125 0.03334 C 0.18177 0.11505 0.16337 0.20278 0.15938 0.29375 C 0.1599 0.30278 0.15955 0.31204 0.16094 0.32084 C 0.16424 0.34236 0.16441 0.32871 0.16875 0.34167 C 0.17639 0.36459 0.18281 0.38473 0.1967 0.40209 C 0.20799 0.41598 0.22274 0.42199 0.23594 0.43125 C 0.25347 0.44375 0.23628 0.4382 0.25938 0.44167 C 0.28438 0.43889 0.30955 0.43797 0.33438 0.43334 C 0.3658 0.42732 0.36354 0.42223 0.40156 0.40834 C 0.42865 0.39838 0.45816 0.38611 0.48264 0.36667 C 0.48733 0.3632 0.49063 0.35764 0.49531 0.35417 C 0.49913 0.35116 0.50365 0.3507 0.50764 0.34792 C 0.53212 0.33079 0.55313 0.30811 0.57344 0.28334 C 0.57917 0.27616 0.58889 0.2669 0.59375 0.25834 C 0.61493 0.22153 0.63142 0.18311 0.64688 0.14167 C 0.66128 0.10348 0.67031 0.07639 0.675 0.03334 C 0.67483 0.01065 0.68194 -0.09861 0.66719 -0.14791 C 0.66424 -0.1574 0.65938 -0.16759 0.65625 -0.17708 C 0.65243 -0.18865 0.64896 -0.20139 0.64219 -0.21041 C 0.63924 -0.22037 0.6283 -0.24814 0.62188 -0.25416 C 0.62014 -0.25578 0.61771 -0.25555 0.61563 -0.25625 C 0.60694 -0.27361 0.57691 -0.29583 0.56094 -0.3 C 0.53194 -0.29814 0.50451 -0.29467 0.47639 -0.28541 C 0.47118 -0.28009 0.46632 -0.27384 0.46076 -0.26875 C 0.45816 -0.26111 0.45226 -0.24814 0.45781 -0.23958 C 0.4599 -0.23634 0.46406 -0.23819 0.46701 -0.2375 C 0.46875 -0.23055 0.46701 -0.23125 0.47031 -0.23125 E">
                                      <p:cBhvr>
                                        <p:cTn id="96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521 0.00694 0.0092 0.0081 0.01563 0.0125 C 0.02587 0.00787 0.03542 0.02153 0.04532 0.025 C 0.04879 0.02639 0.05261 0.02616 0.05625 0.02708 C 0.05834 0.02755 0.06042 0.02824 0.0625 0.02917 C 0.07205 0.0331 0.08091 0.03912 0.09063 0.04167 C 0.13073 0.07361 0.18125 0.04537 0.225 0.03958 C 0.2382 0.03287 0.25191 0.02546 0.26563 0.02083 C 0.27118 0.01597 0.27691 0.01435 0.28282 0.01042 C 0.28073 0.00833 0.27657 0.00764 0.27657 0.00417 C 0.27657 0.00069 0.28056 -0.00023 0.28282 -0.00208 C 0.29445 -0.01111 0.30243 -0.0169 0.31563 -0.02083 C 0.32396 -0.02639 0.33177 -0.03356 0.34063 -0.0375 C 0.34549 -0.04722 0.35365 -0.05046 0.36094 -0.05625 C 0.38299 -0.07384 0.35608 -0.05509 0.38282 -0.07292 C 0.40139 -0.08542 0.37327 -0.07454 0.39375 -0.08125 C 0.40035 -0.09282 0.41597 -0.10787 0.42657 -0.1125 C 0.43334 -0.12153 0.43976 -0.12755 0.44375 -0.13958 C 0.44514 -0.14352 0.44688 -0.15208 0.44688 -0.15208 C 0.44844 -0.17384 0.4533 -0.20185 0.44375 -0.22083 C 0.4408 -0.24097 0.43455 -0.25602 0.42657 -0.27292 C 0.42066 -0.28565 0.41459 -0.29907 0.40313 -0.30417 C 0.39115 -0.3162 0.37743 -0.32431 0.36407 -0.33333 C 0.36216 -0.33472 0.36129 -0.33819 0.35938 -0.33958 C 0.34966 -0.34676 0.34323 -0.34699 0.33282 -0.35625 C 0.32344 -0.36458 0.30747 -0.36412 0.29688 -0.36875 C 0.2783 -0.36713 0.26233 -0.36528 0.24532 -0.35625 C 0.23768 -0.34606 0.24393 -0.35278 0.23282 -0.34583 C 0.22657 -0.3419 0.21407 -0.33333 0.21407 -0.33333 C 0.20903 -0.325 0.20608 -0.31806 0.19844 -0.31458 C 0.19288 -0.30463 0.18976 -0.29537 0.18125 -0.28958 C 0.17709 -0.27662 0.17257 -0.26505 0.16875 -0.25208 C 0.16702 -0.23565 0.16528 -0.22685 0.16875 -0.20833 C 0.17101 -0.1963 0.17709 -0.18611 0.18125 -0.175 C 0.18577 -0.16296 0.19045 -0.15139 0.19532 -0.13958 C 0.19722 -0.13495 0.19792 -0.1294 0.2 -0.125 C 0.21927 -0.08519 0.20486 -0.11875 0.22188 -0.09375 C 0.22448 -0.09005 0.22535 -0.08449 0.22813 -0.08125 C 0.23073 -0.07824 0.23438 -0.07731 0.2375 -0.075 C 0.24271 -0.07106 0.24757 -0.06574 0.25313 -0.0625 C 0.25677 -0.06042 0.26059 -0.0588 0.26407 -0.05625 C 0.28716 -0.03958 0.30903 -0.02523 0.33438 -0.01667 C 0.41997 -0.025 0.39896 -0.02037 0.45 -0.0375 C 0.46493 -0.05741 0.44722 -0.03588 0.46407 -0.05 C 0.46979 -0.05463 0.47448 -0.06134 0.47969 -0.06667 C 0.49288 -0.08032 0.50226 -0.09884 0.51407 -0.11458 C 0.53507 -0.14259 0.51927 -0.11458 0.53594 -0.14792 C 0.53768 -0.16157 0.53663 -0.16042 0.54219 -0.17292 C 0.54514 -0.1794 0.55157 -0.19167 0.55157 -0.19167 C 0.55452 -0.21134 0.56302 -0.22824 0.56563 -0.24792 C 0.56667 -0.25625 0.56771 -0.26458 0.56875 -0.27292 C 0.56927 -0.27708 0.57032 -0.28542 0.57032 -0.28542 C 0.56927 -0.33264 0.56858 -0.37986 0.56719 -0.42708 C 0.56684 -0.43889 0.56007 -0.48194 0.55157 -0.48958 C 0.55104 -0.49792 0.55122 -0.50625 0.55 -0.51458 C 0.54913 -0.5213 0.54584 -0.52708 0.54375 -0.53333 C 0.54011 -0.54375 0.53698 -0.5544 0.53282 -0.56458 C 0.53108 -0.56898 0.52778 -0.57222 0.52657 -0.57708 C 0.52604 -0.57917 0.52604 -0.58171 0.525 -0.58333 C 0.5224 -0.5875 0.51858 -0.59005 0.51563 -0.59375 C 0.51025 -0.60046 0.5066 -0.61019 0.5 -0.61458 C 0.49254 -0.61968 0.48177 -0.62639 0.47657 -0.63333 C 0.46476 -0.64907 0.44913 -0.65556 0.43282 -0.65833 C 0.3875 -0.65625 0.36077 -0.65995 0.32344 -0.65 C 0.31424 -0.64375 0.31424 -0.64097 0.3125 -0.62708 C 0.31146 -0.60463 0.30938 -0.58657 0.30938 -0.56458 E">
                                      <p:cBhvr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1.66667E-006 -2.22222E-006 C -0.01024 0.00903 -0.0191 0.02107 -0.02969 0.02917 C -0.04392 0.04005 -0.06944 0.04838 -0.08594 0.05209 C -0.1276 0.05139 -0.21371 0.07338 -0.25469 0.01875 C -0.25625 0.0081 -0.25937 -0.000229999999999999 -0.2625 -0.01041 C -0.26128 -0.03935 -0.26215 -0.07153 -0.24844 -0.09583 C -0.24601 -0.10555 -0.24114 -0.11528 -0.23594 -0.12291 C -0.23194 -0.1287 -0.22604 -0.13264 -0.22344 -0.13958 C -0.21962 -0.14977 -0.22257 -0.14699 -0.21562 -0.15 C -0.2033 -0.1706 -0.19097 -0.17407 -0.17344 -0.18333 C -0.15989 -0.18194 -0.14635 -0.18078 -0.13281 -0.17916 C -0.11337 -0.17685 -0.09496 -0.16736 -0.075 -0.16666 C -0.04375 -0.16551 -0.0125 -0.16528 0.01875 -0.16458 C 0.02622 -0.16203 0.03299 -0.15833 0.04063 -0.15625 C 0.10781 -0.15833 0.09028 -0.14815 0.125 -0.16875 C 0.13403 -0.17407 0.1283 -0.16782 0.13594 -0.17291 C 0.14618 -0.17963 0.1559 -0.18565 0.16563 -0.19375 C 0.16979 -0.19722 0.17813 -0.20416 0.17813 -0.20393 C 0.19028 -0.22592 0.19323 -0.23773 0.19688 -0.26458 C 0.1974 -0.26805 0.19792 -0.27153 0.19844 -0.275 C 0.19948 -0.28055 0.20156 -0.29166 0.20156 -0.29143 C 0.2007 -0.33819 0.20538 -0.36412 0.19531 -0.4 C 0.19271 -0.40926 0.18889 -0.41991 0.18594 -0.42916 C 0.18403 -0.43495 0.17969 -0.44583 0.17969 -0.4456 C 0.17709 -0.46273 0.16736 -0.47616 0.15781 -0.4875 C 0.15399 -0.49213 0.15035 -0.49907 0.14531 -0.50208 C 0.13004 -0.51111 0.11198 -0.51875 0.09531 -0.52083 C 0.07639 -0.52315 0.05781 -0.52291 0.03906 -0.52708 C 0.01233 -0.52592 -0.00382 -0.53194 -0.02344 -0.51458 C -0.02344 -0.51435 -0.03125 -0.49907 -0.03281 -0.49583 C -0.03472 -0.49213 -0.03594 -0.48333 -0.03594 -0.4831 C -0.0342 -0.43819 -0.08021 -0.42222 -0.06198 -0.42222 E">
                                      <p:cBhvr>
                                        <p:cTn id="16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5643 0.00833 -0.11493 0.00556 -0.17188 0.00833 C -0.21111 0.01574 -0.25122 0.01204 -0.29063 0.00625 C -0.29827 0.00278 -0.30452 -0.00139 -0.3125 -0.00417 C -0.31875 -0.00625 -0.33125 -0.01042 -0.33125 -0.01042 C -0.33698 -0.01551 -0.34202 -0.01759 -0.34844 -0.02083 C -0.35573 -0.02454 -0.36216 -0.03218 -0.36875 -0.0375 C -0.37136 -0.05764 -0.3724 -0.05764 -0.3875 -0.06042 C -0.39358 -0.06458 -0.40434 -0.07199 -0.40938 -0.07708 C -0.4257 -0.09352 -0.41181 -0.08727 -0.425 -0.09167 C -0.43143 -0.10579 -0.43854 -0.11968 -0.44531 -0.13333 C -0.44775 -0.15648 -0.44445 -0.14074 -0.45 -0.15417 C -0.45226 -0.15972 -0.45625 -0.17083 -0.45625 -0.17083 C -0.45486 -0.19236 -0.45556 -0.19144 -0.45 -0.20625 C -0.44931 -0.2081 -0.44966 -0.21088 -0.44844 -0.2125 C -0.44549 -0.21644 -0.44132 -0.21875 -0.4375 -0.22083 C -0.43299 -0.22338 -0.42344 -0.22708 -0.42344 -0.22708 C -0.39271 -0.22569 -0.3724 -0.22338 -0.34375 -0.22083 C -0.25452 -0.22292 -0.21337 -0.22083 -0.14375 -0.22917 C -0.12691 -0.23657 -0.10955 -0.24537 -0.09219 -0.25 C -0.0849 -0.25648 -0.07726 -0.26227 -0.06875 -0.26458 C -0.05347 -0.27824 -0.03611 -0.28819 -0.02031 -0.3 C -0.01302 -0.30532 -0.0099 -0.31481 -0.00313 -0.32083 C 0.00364 -0.33426 0.00955 -0.34444 0.0125 -0.36042 C 0.01094 -0.39167 0.01302 -0.40741 0.00781 -0.43125 C -0.00226 -0.47801 -0.02535 -0.52222 -0.05625 -0.54792 C -0.06337 -0.5537 -0.06771 -0.56343 -0.075 -0.56875 C -0.08768 -0.57801 -0.10139 -0.58218 -0.11563 -0.58542 C -0.12483 -0.59028 -0.13091 -0.59745 -0.14063 -0.6 C -0.19549 -0.59861 -0.20625 -0.60532 -0.24375 -0.58542 C -0.24792 -0.57708 -0.25018 -0.57847 -0.25625 -0.57292 C -0.25972 -0.56597 -0.26354 -0.56019 -0.26563 -0.55208 C -0.26424 -0.52361 -0.26997 -0.51806 -0.25313 -0.5125 C -0.24618 -0.51019 -0.2507 -0.51042 -0.24688 -0.51042 E">
                                      <p:cBhvr>
                                        <p:cTn id="24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441 -0.01273 -0.03351 -0.01157 -0.05 -0.01666 C -0.06111 -0.02014 -0.06528 -0.02314 -0.07656 -0.02916 C -0.09705 -0.02708 -0.11181 -0.02245 -0.13281 -0.02083 C -0.15677 -0.01551 -0.12257 -0.02453 -0.16094 -0.00416 C -0.17587 0.00394 -0.18976 0.01505 -0.20469 0.02292 C -0.20677 0.0257 -0.20851 0.02917 -0.21094 0.03125 C -0.21319 0.03334 -0.21667 0.03287 -0.21875 0.03542 C -0.22049 0.0375 -0.22066 0.04098 -0.22187 0.04375 C -0.22326 0.04723 -0.22517 0.05047 -0.22656 0.05417 C -0.23351 0.07269 -0.23802 0.09653 -0.24062 0.11667 C -0.2401 0.12986 -0.24028 0.14306 -0.23906 0.15625 C -0.2375 0.17385 -0.22153 0.20463 -0.2125 0.21667 C -0.20503 0.24144 -0.18576 0.25741 -0.16719 0.26459 C -0.16163 0.27199 -0.15781 0.27662 -0.15 0.27917 C -0.13958 0.29306 -0.12413 0.29908 -0.11094 0.30834 C -0.10017 0.31598 -0.08594 0.32755 -0.075 0.33334 C -0.04392 0.35 -0.00243 0.34746 0.02813 0.35 C 0.06233 0.35301 0.09358 0.35695 0.12813 0.35834 C 0.18594 0.35556 0.24375 0.35162 0.30156 0.34792 C 0.3125 0.34306 0.32344 0.3382 0.33438 0.33334 C 0.34826 0.32709 0.36354 0.31019 0.375 0.3 C 0.3842 0.29167 0.39358 0.28357 0.40156 0.27292 C 0.40347 0.27037 0.40434 0.2669 0.40625 0.26459 C 0.40799 0.2625 0.41059 0.26227 0.4125 0.26042 C 0.41858 0.25463 0.42326 0.24676 0.42813 0.23959 C 0.4316 0.23449 0.43906 0.225 0.43906 0.225 C 0.44184 0.21389 0.44948 0.20718 0.45469 0.19792 C 0.4599 0.18866 0.46476 0.17686 0.46875 0.16667 C 0.48264 0.13218 0.48993 0.09422 0.50156 0.05834 C 0.50313 0.04607 0.50521 0.03611 0.50938 0.025 C 0.5099 0.02084 0.5099 0.01644 0.51094 0.0125 C 0.51146 0.01019 0.51389 0.0088 0.51406 0.00625 C 0.51545 -0.00694 0.5151 -0.02014 0.51563 -0.03333 C 0.51111 -0.06921 0.51597 -0.02824 0.51094 -0.10833 C 0.50903 -0.13935 0.49531 -0.16458 0.47969 -0.18541 C 0.46667 -0.20277 0.47934 -0.19051 0.46875 -0.2 C 0.45972 -0.21782 0.44392 -0.22129 0.43125 -0.23333 C 0.42431 -0.23981 0.41719 -0.24699 0.40938 -0.25208 C 0.40243 -0.25671 0.39809 -0.25625 0.39063 -0.25833 C 0.37917 -0.26134 0.36753 -0.26504 0.35625 -0.26875 C 0.34253 -0.27338 0.33125 -0.27916 0.31719 -0.28125 C 0.30295 -0.2875 0.28837 -0.28796 0.27344 -0.28958 C 0.26667 -0.28865 0.25885 -0.29051 0.25313 -0.28541 C 0.23906 -0.27291 0.26059 -0.28379 0.24531 -0.27708 C 0.24375 -0.2743 0.24253 -0.27129 0.24063 -0.26875 C 0.23924 -0.26689 0.23715 -0.26643 0.23594 -0.26458 C 0.23125 -0.2574 0.22726 -0.24861 0.225 -0.23958 C 0.22691 -0.22731 0.22639 -0.21759 0.23438 -0.21041 C 0.24948 -0.21273 0.24375 -0.2125 0.25156 -0.2125 E">
                                      <p:cBhvr>
                                        <p:cTn id="3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91 0.02152 0.00104 0.04097 0.0125 0.05625 C 0.01545 0.07176 0.02222 0.08541 0.02969 0.09791 C 0.0335 0.11782 0.02725 0.09467 0.03906 0.11041 C 0.04097 0.11296 0.04062 0.11782 0.04219 0.12083 C 0.04323 0.12291 0.04548 0.12314 0.04687 0.125 C 0.0559 0.13703 0.05208 0.13773 0.06562 0.14375 C 0.21371 0.30162 0.51805 0.27731 0.55312 0.04375 C 0.55052 -0.01459 0.55798 -0.03496 0.54375 -0.07292 C 0.54323 -0.07848 0.54357 -0.08426 0.54201 -0.08959 C 0.54028 -0.09561 0.52725 -0.12269 0.52344 -0.12917 C 0.52031 -0.14144 0.5151 -0.14815 0.50937 -0.15834 C 0.50538 -0.17408 0.49896 -0.18797 0.48906 -0.19792 C 0.47934 -0.22061 0.46423 -0.23449 0.44531 -0.24167 C 0.43142 -0.26019 0.41007 -0.26829 0.39219 -0.27709 C 0.37656 -0.28473 0.36232 -0.29584 0.34687 -0.30417 C 0.3375 -0.30348 0.32812 -0.30371 0.31875 -0.30209 C 0.31232 -0.30093 0.28975 -0.27963 0.28906 -0.27917 C 0.25816 -0.25857 0.25052 -0.22523 0.24062 -0.18542 C 0.23837 -0.15348 0.23715 -0.13496 0.23906 -0.1 C 0.23993 -0.08357 0.246 -0.06065 0.25156 -0.04584 C 0.25729 -0.03056 0.25382 -0.05116 0.26094 -0.02292 C 0.26198 -0.01875 0.2625 -0.01436 0.26406 -0.01042 C 0.26944 0.00277 0.27187 -0.00093 0.27969 0.01041 C 0.28541 0.01875 0.29062 0.02801 0.29531 0.0375 C 0.30521 0.05717 0.29809 0.05 0.30625 0.06875 C 0.31198 0.08217 0.32864 0.10439 0.33906 0.1125 C 0.34253 0.11527 0.34653 0.1162 0.35 0.11875 C 0.3625 0.12777 0.37344 0.14051 0.38594 0.15 C 0.38993 0.15301 0.39427 0.15578 0.39844 0.15833 C 0.40312 0.16134 0.40798 0.16342 0.41232 0.16666 C 0.4309 0.18032 0.4158 0.17384 0.43264 0.18333 C 0.44166 0.18819 0.45034 0.19236 0.4592 0.19583 C 0.46562 0.19838 0.47812 0.20416 0.47812 0.20416 C 0.51354 0.20277 0.54896 0.20347 0.58437 0.2 C 0.59514 0.19884 0.60503 0.19189 0.61562 0.18958 C 0.62621 0.18009 0.63767 0.17361 0.64844 0.16458 C 0.65885 0.15578 0.6651 0.14606 0.67656 0.13958 C 0.68264 0.13148 0.69184 0.12407 0.69687 0.11458 C 0.70677 0.09606 0.71736 0.07477 0.725 0.05416 C 0.72899 0.02708 0.72291 0.05787 0.73125 0.0375 C 0.73333 0.03217 0.73403 0.02615 0.73594 0.02083 C 0.73767 0.01643 0.74045 0.01273 0.74219 0.00833 C 0.74739 -0.0044 0.75139 -0.01829 0.75625 -0.03125 C 0.75816 -0.04375 0.7625 -0.0544 0.76562 -0.06667 C 0.76823 -0.07732 0.76875 -0.08843 0.77344 -0.09792 C 0.77639 -0.11204 0.77795 -0.12639 0.78281 -0.13959 C 0.7842 -0.15023 0.78646 -0.15857 0.78906 -0.16875 C 0.78889 -0.17385 0.79548 -0.27986 0.77812 -0.31459 C 0.77673 -0.32176 0.77448 -0.33565 0.77187 -0.34167 C 0.77083 -0.34422 0.76857 -0.34561 0.76719 -0.34792 C 0.75694 -0.36436 0.77014 -0.34445 0.7625 -0.36042 C 0.75972 -0.36621 0.75538 -0.37084 0.75312 -0.37709 C 0.7493 -0.38727 0.74618 -0.39584 0.73906 -0.40209 C 0.73489 -0.41042 0.72899 -0.41644 0.725 -0.425 C 0.71857 -0.43866 0.72291 -0.44144 0.70937 -0.44584 C 0.70278 -0.46343 0.6875 -0.46736 0.675 -0.475 C 0.66632 -0.48033 0.65885 -0.48704 0.65 -0.49167 C 0.62951 -0.48889 0.60677 -0.49398 0.5875 -0.48542 C 0.58784 -0.47223 0.58819 -0.45903 0.58889 -0.44584 C 0.58923 -0.44375 0.59045 -0.44167 0.59062 -0.43959 C 0.59132 -0.43125 0.59219 -0.41459 0.59219 -0.41459 E">
                                      <p:cBhvr>
                                        <p:cTn id="40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347 0.01412 -0.00607 0.02685 -0.01406 0.0375 C -0.01701 0.04907 -0.01736 0.0537 -0.025 0.06042 C -0.02743 0.06991 -0.03229 0.08472 -0.0375 0.09167 C -0.04236 0.09815 -0.04479 0.10069 -0.04843 0.10833 C -0.05521 0.12292 -0.0651 0.13889 -0.075 0.15 C -0.07812 0.15347 -0.07968 0.15903 -0.08281 0.1625 C -0.08455 0.16458 -0.08732 0.16481 -0.08906 0.16667 C -0.09774 0.17593 -0.10451 0.18796 -0.11406 0.19583 C -0.12639 0.20625 -0.11389 0.1919 -0.12968 0.20833 C -0.14531 0.22454 -0.16146 0.23588 -0.18125 0.23958 C -0.2 0.25394 -0.22517 0.25926 -0.24687 0.2625 C -0.27604 0.26111 -0.28229 0.26019 -0.30468 0.25417 C -0.31545 0.24468 -0.32673 0.23519 -0.33593 0.22292 C -0.34236 0.21435 -0.33593 0.21644 -0.34218 0.20417 C -0.34653 0.19537 -0.34444 0.20023 -0.34843 0.18958 C -0.34826 0.18588 -0.35555 0.1206 -0.3375 0.1125 C -0.33055 0.10324 -0.32778 0.09769 -0.31875 0.09375 C -0.29236 0.09699 -0.26614 0.10486 -0.24062 0.11458 C -0.22968 0.11875 -0.22048 0.12616 -0.20937 0.12917 C -0.20243 0.13611 -0.20382 0.13588 -0.19531 0.13958 C -0.19323 0.14051 -0.18663 0.14213 -0.18437 0.14375 C -0.1717 0.15324 -0.16007 0.16134 -0.14531 0.16458 C -0.13264 0.17593 -0.11805 0.18079 -0.10312 0.18333 C -0.0967 0.18611 -0.08941 0.1919 -0.08281 0.19375 C -0.07413 0.1963 -0.0651 0.19838 -0.05625 0.2 C -0.00278 0.19838 0.07657 0.20532 0.13594 0.18958 C 0.14653 0.18102 0.1408 0.18472 0.15313 0.17917 C 0.15608 0.17778 0.15816 0.17477 0.16094 0.17292 C 0.16979 0.16713 0.17865 0.16204 0.1875 0.15625 C 0.1941 0.15185 0.20347 0.14699 0.20938 0.14167 C 0.22014 0.13218 0.21511 0.13495 0.22344 0.13125 C 0.22986 0.12269 0.23785 0.11944 0.24532 0.1125 C 0.24966 0.10856 0.25347 0.10394 0.25782 0.1 C 0.25938 0.09861 0.26094 0.09722 0.2625 0.09583 C 0.26719 0.08657 0.27361 0.0831 0.27969 0.075 C 0.28559 0.06713 0.2908 0.0581 0.29688 0.05 C 0.30035 0.03588 0.29566 0.05301 0.30313 0.03333 C 0.30643 0.02454 0.30695 0.01782 0.3125 0.01042 C 0.31354 0.00694 0.31441 0.00347 0.31563 0 C 0.3165 -0.00278 0.31788 -0.00556 0.31875 -0.00833 C 0.32448 -0.02639 0.31459 0.00116 0.32188 -0.025 C 0.32448 -0.03403 0.32952 -0.04213 0.33125 -0.05208 C 0.33403 -0.06852 0.33438 -0.08542 0.33594 -0.10208 C 0.33542 -0.11319 0.33472 -0.12431 0.33438 -0.13542 C 0.3342 -0.14144 0.33629 -0.18403 0.32969 -0.2 C 0.32448 -0.21273 0.31893 -0.22454 0.31407 -0.2375 C 0.31129 -0.24491 0.30157 -0.25625 0.30157 -0.25625 C 0.29514 -0.28218 0.30295 -0.25718 0.29219 -0.27708 C 0.29115 -0.27894 0.29167 -0.28171 0.29063 -0.28333 C 0.28889 -0.28611 0.28629 -0.28704 0.28438 -0.28958 C 0.28247 -0.29213 0.2816 -0.2956 0.27969 -0.29792 C 0.26059 -0.3206 0.23299 -0.3213 0.20938 -0.32917 C 0.17292 -0.32847 0.13559 -0.33519 0.1 -0.325 C 0.09288 -0.32292 0.08681 -0.31852 0.07969 -0.31667 C 0.07379 -0.31134 0.07483 -0.30718 0.07032 -0.3 C 0.06511 -0.29167 0.06129 -0.28449 0.05782 -0.275 C 0.05695 -0.27269 0.05469 -0.2713 0.05469 -0.26875 C 0.05365 -0.25625 0.05469 -0.24375 0.05469 -0.23125 E">
                                      <p:cBhvr>
                                        <p:cTn id="4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3.05556E-006 3.33333E-006 C -0.00746 0.01967 -0.0151 0.04398 -0.02656 0.06041 C -0.0368 0.07523 -0.04774 0.08588 -0.05937 0.09791 C -0.06163 0.10023 -0.06319 0.10393 -0.06562 0.10625 C -0.07048 0.11088 -0.07639 0.11389 -0.08125 0.11875 C -0.09444 0.1324 -0.10555 0.14004 -0.12031 0.15 C -0.12534 0.15347 -0.12916 0.15972 -0.13437 0.1625 C -0.13993 0.16551 -0.146 0.1662 -0.15156 0.16875 C -0.15781 0.17152 -0.16389 0.17639 -0.17031 0.17916 C -0.18246 0.19143 -0.17396 0.18472 -0.19843 0.19166 C -0.21475 0.19629 -0.23055 0.20602 -0.24687 0.21041 C -0.25555 0.2162 -0.26441 0.21481 -0.27343 0.21875 C -0.29948 0.21736 -0.32552 0.21713 -0.35156 0.21458 C -0.35347 0.21435 -0.35451 0.21157 -0.35625 0.21041 C -0.35764 0.20949 -0.35937 0.20902 -0.36093 0.20833 C -0.36857 0.20069 -0.37552 0.19421 -0.38437 0.18958 C -0.39566 0.17453 -0.38107 0.19236 -0.39687 0.17916 C -0.39878 0.17754 -0.39965 0.17453 -0.40156 0.17291 C -0.40451 0.17037 -0.41632 0.16898 -0.41718 0.16875 C -0.42135 0.14676 -0.4151 0.17338 -0.42343 0.15416 C -0.42448 0.15162 -0.42413 0.14838 -0.425 0.14583 C -0.43055 0.12847 -0.43333 0.12523 -0.43593 0.10833 C -0.43541 0.08958 -0.43576 0.07083 -0.43437 0.05208 C -0.43385 0.04467 -0.42968 0.03842 -0.42812 0.03125 C -0.4158 -0.02593 -0.37552 -0.05533 -0.33281 -0.05625 C -0.27604 -0.05741 -0.21927 -0.05764 -0.1625 -0.05834 C -0.13264 -0.05695 -0.121 -0.05371 -0.09531 -0.05 C -0.07187 -0.0507 -0.04843 -0.05047 -0.025 -0.05209 C 0.00868 -0.05463 0.03039 -0.09885 0.05157 -0.12709 C 0.05417 -0.14121 0.05764 -0.15996 0.0625 -0.17292 C 0.06441 -0.19144 0.06598 -0.19653 0.06094 -0.21875 C 0.05955 -0.225 0.05573 -0.22986 0.05313 -0.23542 C 0.04618 -0.25047 0.04636 -0.25996 0.03125 -0.26667 C 0.02136 -0.27662 0.01389 -0.27732 0.00157 -0.27917 C -0.00503 -0.28496 -0.00902 -0.28565 -0.01718 -0.2875 C -0.0309 -0.29977 -0.05104 -0.30463 -0.06718 -0.30834 C -0.08003 -0.3169 -0.09357 -0.31736 -0.10781 -0.32084 C -0.11614 -0.32014 -0.12465 -0.32107 -0.13281 -0.31875 C -0.13732 -0.3176 -0.14114 -0.3132 -0.14531 -0.31042 C -0.14913 -0.30787 -0.15225 -0.30834 -0.15625 -0.30625 C -0.16284 -0.30301 -0.16718 -0.29584 -0.17343 -0.29167 C -0.17691 -0.28936 -0.1809 -0.28773 -0.18437 -0.28542 C -0.18541 -0.28334 -0.18715 -0.28172 -0.1875 -0.27917 C -0.18871 -0.27246 -0.23993 -0.24815 -0.23993 -0.24792 E">
                                      <p:cBhvr>
                                        <p:cTn id="56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56 0.0007 0.00313 0.00139 0.00469 0.00209 C 0.00677 0.00278 0.00885 0.00324 0.01094 0.00417 C 0.01406 0.00533 0.02031 0.00834 0.02031 0.00834 C 0.03212 0.02084 0.04462 0.02153 0.05781 0.02917 C 0.07691 0.04005 0.05313 0.02709 0.06875 0.0375 C 0.07483 0.04167 0.08125 0.0426 0.0875 0.04584 C 0.0901 0.04723 0.09288 0.04815 0.09531 0.05 C 0.09757 0.05162 0.09913 0.0551 0.10156 0.05625 C 0.10608 0.05857 0.11094 0.05903 0.11563 0.06042 C 0.13038 0.07037 0.13872 0.0757 0.15469 0.07917 C 0.26701 0.07709 0.36233 0.07292 0.46875 0.06667 C 0.49601 0.06273 0.52188 0.0551 0.54844 0.04792 C 0.56667 0.04306 0.58542 0.04236 0.60313 0.03334 C 0.61753 0.02593 0.62899 0.01436 0.64219 0.00417 C 0.65295 -0.00416 0.66615 -0.00972 0.67656 -0.01875 C 0.68698 -0.02777 0.69618 -0.04074 0.70469 -0.05208 C 0.71042 -0.05972 0.71181 -0.06898 0.71875 -0.075 C 0.72188 -0.08518 0.7217 -0.08657 0.72656 -0.09583 C 0.72951 -0.10162 0.73594 -0.1125 0.73594 -0.1125 C 0.73802 -0.12592 0.74115 -0.13842 0.74688 -0.15 C 0.74878 -0.16064 0.75208 -0.16736 0.75781 -0.175 C 0.7599 -0.18333 0.76719 -0.19791 0.76719 -0.19791 C 0.76962 -0.21111 0.76753 -0.20393 0.775 -0.21875 C 0.77969 -0.22801 0.77674 -0.22754 0.77969 -0.23541 C 0.7849 -0.2493 0.78941 -0.2625 0.79375 -0.27708 C 0.79583 -0.29722 0.8033 -0.31527 0.80625 -0.33541 C 0.80573 -0.39722 0.80573 -0.45902 0.80469 -0.52083 C 0.80451 -0.52754 0.79809 -0.53495 0.79688 -0.53958 C 0.79462 -0.54861 0.79392 -0.55717 0.78906 -0.56458 C 0.78403 -0.57222 0.77951 -0.57685 0.775 -0.58541 C 0.77083 -0.59328 0.76354 -0.6081 0.76094 -0.61666 C 0.7599 -0.62014 0.7599 -0.62453 0.75781 -0.62708 C 0.7559 -0.62939 0.73681 -0.63889 0.73281 -0.64166 C 0.7224 -0.64907 0.71163 -0.65833 0.70156 -0.66666 C 0.69983 -0.66828 0.6974 -0.66782 0.69531 -0.66875 C 0.69306 -0.6699 0.69097 -0.67129 0.68906 -0.67291 C 0.6875 -0.6743 0.67969 -0.68356 0.67656 -0.68541 C 0.66441 -0.69259 0.65208 -0.69398 0.63906 -0.69583 C 0.61649 -0.69444 0.59531 -0.69676 0.575 -0.68333 C 0.57396 -0.68125 0.57326 -0.67893 0.57188 -0.67708 C 0.57049 -0.67523 0.56823 -0.67477 0.56719 -0.67291 C 0.56615 -0.67129 0.56649 -0.66852 0.56563 -0.66666 C 0.56441 -0.66412 0.5625 -0.6625 0.56094 -0.66041 C 0.55521 -0.6375 0.55469 -0.65347 0.55469 -0.6125 E">
                                      <p:cBhvr>
                                        <p:cTn id="64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9:19:51Z</dcterms:created>
  <dc:creator>Angie Gore</dc:creator>
  <dc:description/>
  <dc:language>en-US</dc:language>
  <cp:lastModifiedBy>Angie Gore</cp:lastModifiedBy>
  <dcterms:modified xsi:type="dcterms:W3CDTF">2006-11-20T20:33:55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64490454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