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explode.wav" ContentType="audio/x-wav"/>
  <Override PartName="/ppt/media/applaus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0A31-B24A-49E4-99BA-4F4A4BA7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8FBD-3C00-4DBD-B315-A1C38FAC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6377-2781-498A-9591-409FE652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FB0C-6D50-4E39-A297-8C9D6A9B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AD8F-E113-4C6C-9EF9-001D3B8F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69C3-07E3-42B0-84DC-221990F5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7ECA-77C7-4CE8-B996-74F566DE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9F17-9E04-4FDC-B69B-DDD591F6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A963-27E1-4E99-A5C8-96E28837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B6CA-DA0D-4BA0-9685-47A569E2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A52B-E557-4E77-9572-F196317C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F978-6586-476A-9213-3B6370BC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BFA9-DE00-4880-AE8E-CAB58280D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141300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Comic Sans MS"/>
              </a:rPr>
              <a:t>On the screens click on the number you think is the right answ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18900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Five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37372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32720" y="566100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4360" y="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iv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43280" y="1341360"/>
            <a:ext cx="32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9 x 5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4005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7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66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-2.77778E-006 1.11111E-006 C 0.00452 0.02963 0.01025 0.04722 0.02032 0.07708 C 0.03038 0.10694 0.03837 0.13634 0.05313 0.1625 C 0.06302 0.17986 0.0474 0.16111 0.0625 0.18125 C 0.06441 0.1838 0.06702 0.18495 0.06875 0.1875 C 0.08056 0.20532 0.06858 0.19653 0.08282 0.20417 C 0.08611 0.22569 0.08091 0.20579 0.09063 0.21852 C 0.09532 0.22477 0.09844 0.23333 0.10313 0.23958 C 0.1066 0.24421 0.11059 0.24745 0.11407 0.25208 C 0.11598 0.25463 0.1165 0.25833 0.11875 0.26042 C 0.12101 0.26227 0.12396 0.2618 0.12657 0.2625 C 0.12865 0.26528 0.13056 0.26805 0.13282 0.2706 C 0.13577 0.27407 0.13941 0.27569 0.14219 0.27917 C 0.15226 0.29097 0.14098 0.28542 0.15313 0.28958 C 0.16736 0.30069 0.1816 0.30833 0.19688 0.31643 C 0.21667 0.32755 0.23559 0.34005 0.25625 0.34792 C 0.2717 0.36319 0.29063 0.36088 0.30938 0.36227 C 0.3217 0.36528 0.3349 0.36389 0.34688 0.36852 C 0.35886 0.37361 0.37032 0.37847 0.38282 0.38125 C 0.40677 0.39305 0.4342 0.39028 0.4592 0.39143 C 0.48907 0.38958 0.51875 0.38704 0.54844 0.38518 C 0.55903 0.38055 0.57049 0.37639 0.58125 0.37083 C 0.60573 0.35694 0.58177 0.36643 0.60625 0.35833 C 0.61198 0.35324 0.62257 0.34884 0.62657 0.34167 C 0.63229 0.33125 0.6408 0.32268 0.65 0.31875 C 0.66059 0.29768 0.67118 0.27639 0.68282 0.25625 C 0.68455 0.25301 0.68473 0.24907 0.68594 0.24583 C 0.69358 0.22569 0.6875 0.24421 0.69532 0.22708 C 0.70122 0.21412 0.70278 0.20023 0.71094 0.18958 C 0.71754 0.16296 0.70955 0.1912 0.72032 0.16458 C 0.72674 0.14838 0.73143 0.13079 0.7375 0.11458 C 0.74514 0.09444 0.75417 0.075 0.76094 0.05417 C 0.76841 0.03102 0.77986 -0.00139 0.78438 -0.02523 C 0.78663 -0.03704 0.78802 -0.04931 0.79219 -0.06042 C 0.79566 -0.09745 0.80191 -0.13866 0.78907 -0.17292 C 0.78611 -0.19283 0.779 -0.21296 0.77032 -0.22917 C 0.76598 -0.2375 0.75973 -0.23982 0.75313 -0.24375 C 0.74028 -0.25139 0.72952 -0.26204 0.71563 -0.26667 C 0.69809 -0.28056 0.6875 -0.27894 0.66719 -0.28333 C 0.49254 -0.28009 0.59792 -0.29167 0.54219 -0.27292 C 0.53768 -0.2669 0.5342 -0.26019 0.52969 -0.25417 C 0.52778 -0.24653 0.52518 -0.24005 0.52188 -0.23333 C 0.51927 -0.21968 0.51667 -0.22245 0.52344 -0.21042 C 0.52379 -0.2044 0.52552 -0.20185 0.52986 -0.19097 C 0.53229 -0.18495 0.53351 -0.1838 0.53785 -0.17431 E">
                                      <p:cBhvr>
                                        <p:cTn id="720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4360" y="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iv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134136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2 x 5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19280" y="4005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737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2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743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4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755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761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767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78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791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797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1336 0.02385 -0.00521 -0.00532 0.0125 0.01042 C 0.03246 0.02824 0.00937 0.01667 0.02343 0.02292 C 0.0302 0.03658 0.04565 0.04375 0.05625 0.05209 C 0.05989 0.06667 0.07534 0.07639 0.08593 0.07917 C 0.09739 0.08936 0.1 0.08635 0.11093 0.09375 C 0.12048 0.1 0.12743 0.1088 0.1375 0.11459 C 0.14652 0.11991 0.15121 0.12014 0.15937 0.12709 C 0.17013 0.13611 0.16718 0.14051 0.18281 0.14584 C 0.19218 0.14908 0.20034 0.15556 0.20937 0.16042 C 0.22152 0.1669 0.23454 0.16852 0.24687 0.175 C 0.27187 0.17408 0.29774 0.1801 0.32187 0.17084 C 0.33489 0.16598 0.34496 0.15324 0.35937 0.15 C 0.375 0.13611 0.39114 0.12338 0.40625 0.10834 C 0.41284 0.09098 0.40503 0.10926 0.41562 0.09167 C 0.4217 0.08172 0.4276 0.06922 0.43281 0.05834 C 0.43611 0.05162 0.44218 0.0375 0.44218 0.0375 C 0.44496 0.02292 0.45312 0.00371 0.45781 -0.01041 C 0.46145 -0.02152 0.46319 -0.0331 0.46718 -0.04398 C 0.47239 -0.07847 0.46996 -0.0956 0.46875 -0.13958 C 0.46805 -0.16365 0.4684 -0.19768 0.46093 -0.22083 C 0.45763 -0.23102 0.45208 -0.24004 0.44843 -0.25 C 0.44583 -0.25717 0.44392 -0.26527 0.43906 -0.27083 C 0.43559 -0.27453 0.43038 -0.2743 0.42656 -0.27708 C 0.41232 -0.2875 0.4269 -0.28032 0.41562 -0.28541 C 0.40069 -0.30532 0.41979 -0.28171 0.40625 -0.29375 C 0.39496 -0.3037 0.40937 -0.29791 0.39375 -0.30208 C 0.38315 -0.31157 0.37222 -0.31111 0.36093 -0.31875 C 0.35711 -0.32129 0.35416 -0.32639 0.35 -0.32708 C 0.33229 -0.33055 0.31458 -0.32939 0.29687 -0.33333 C 0.27829 -0.32708 0.27187 -0.32129 0.25937 -0.30208 C 0.25434 -0.29421 0.24409 -0.28264 0.24375 -0.27083 C 0.24322 -0.25833 0.24375 -0.24583 0.24375 -0.23333 E">
                                      <p:cBhvr>
                                        <p:cTn id="800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4360" y="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iv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43280" y="1341360"/>
            <a:ext cx="28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1 x 5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19280" y="4005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0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811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817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2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823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2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4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835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0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841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4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6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847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5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85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85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0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871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877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625 0.03564 0.06753 0.02523 0.15781 0.02708 C 0.22865 0.02639 0.29948 0.02639 0.37031 0.025 C 0.39549 0.02453 0.42326 0.01782 0.44844 0.01666 C 0.46354 0.01458 0.47865 0.01458 0.49358 0.0125 C 0.49878 0.0118 0.5092 0.00833 0.5092 0.00833 C 0.51632 0.00231 0.52396 0.00069 0.53108 -0.00417 C 0.54566 -0.01389 0.55972 -0.02616 0.57344 -0.0375 C 0.59201 -0.05278 0.57708 -0.0426 0.59375 -0.05834 C 0.60556 -0.06945 0.61597 -0.07894 0.62656 -0.09167 C 0.6349 -0.10162 0.64253 -0.11389 0.65156 -0.12292 C 0.65694 -0.12824 0.66337 -0.13218 0.66875 -0.1375 C 0.675 -0.15139 0.67396 -0.1463 0.68281 -0.15417 C 0.68628 -0.17292 0.68125 -0.15023 0.69063 -0.175 C 0.69705 -0.19213 0.70226 -0.20949 0.71094 -0.225 C 0.71736 -0.2507 0.72778 -0.27639 0.7375 -0.3 C 0.74618 -0.3213 0.74653 -0.34699 0.75469 -0.36875 C 0.75625 -0.38519 0.75538 -0.40301 0.75938 -0.41875 C 0.75885 -0.46528 0.75868 -0.51181 0.75781 -0.55834 C 0.75764 -0.57153 0.75747 -0.5757 0.75469 -0.58542 C 0.75174 -0.59584 0.7474 -0.60278 0.74375 -0.6125 C 0.73941 -0.62408 0.73507 -0.63797 0.72656 -0.64584 C 0.72101 -0.65116 0.69931 -0.66065 0.69219 -0.6625 C 0.6783 -0.67176 0.66215 -0.67246 0.64688 -0.675 C 0.61458 -0.67431 0.58229 -0.67431 0.54983 -0.67292 C 0.54497 -0.67269 0.53698 -0.66852 0.53281 -0.66667 C 0.53108 -0.66598 0.52795 -0.66459 0.52795 -0.66459 C 0.52483 -0.65162 0.52049 -0.62709 0.53438 -0.62709 E">
                                      <p:cBhvr>
                                        <p:cTn id="880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4360" y="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iv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134136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4 x 5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19280" y="4005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7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0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891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9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897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2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903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0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90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4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915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0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921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6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927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933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8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939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4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945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951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6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957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052 0.00254 0.00504 0.01921 0.00625 0.02083 C 0.00747 0.02245 0.00938 0.02222 0.01094 0.02291 C 0.01146 0.02569 0.01094 0.02916 0.0125 0.03125 C 0.01407 0.03333 0.01684 0.03217 0.01875 0.03333 C 0.02726 0.03819 0.03438 0.04328 0.04375 0.04583 C 0.07761 0.0449 0.11285 0.04606 0.14688 0.03958 C 0.15556 0.03796 0.1632 0.0331 0.17188 0.03125 C 0.17778 0.02731 0.18264 0.025 0.18907 0.02291 C 0.19879 0.01412 0.20278 0.01296 0.21407 0.01041 C 0.23056 0.00162 0.24827 0.0037 0.26407 -0.00834 C 0.26632 -0.01019 0.27361 -0.01713 0.275 -0.01875 C 0.27882 -0.02338 0.28594 -0.03334 0.28594 -0.03334 C 0.28889 -0.04514 0.29653 -0.05232 0.30157 -0.0625 C 0.30868 -0.07686 0.31424 -0.09283 0.32188 -0.10625 C 0.32483 -0.12223 0.32917 -0.13635 0.33282 -0.15209 C 0.33733 -0.17153 0.33959 -0.19167 0.34532 -0.21042 C 0.34479 -0.23681 0.34514 -0.2632 0.34375 -0.28959 C 0.34202 -0.32199 0.33247 -0.39514 0.31094 -0.41667 C 0.30556 -0.4382 0.29479 -0.45278 0.28282 -0.46875 C 0.28021 -0.47223 0.279 -0.47755 0.27657 -0.48125 C 0.27153 -0.48866 0.25729 -0.50301 0.25 -0.50625 C 0.2415 -0.5176 0.24966 -0.50857 0.23594 -0.51667 C 0.22986 -0.52037 0.22552 -0.52477 0.21875 -0.52709 C 0.19809 -0.52477 0.16181 -0.51736 0.14844 -0.49375 C 0.14549 -0.48218 0.14132 -0.47801 0.13438 -0.46875 C 0.11858 -0.44769 0.14271 -0.47061 0.12657 -0.45625 C 0.12309 -0.44954 0.12535 -0.45 0.12188 -0.45 E">
                                      <p:cBhvr>
                                        <p:cTn id="960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iv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134136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8 x 5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19280" y="4005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277 -0.00231 0.00902 -0.00717 0.01076 -0.01018 C 0.0118 -0.0118 0.01128 -0.01457 0.01232 -0.01642 C 0.01406 -0.01966 0.01649 -0.02174 0.01857 -0.02452 C 0.02118 -0.0333 0.02448 -0.0407 0.02777 -0.04903 C 0.0283 -0.05181 0.02864 -0.05458 0.02934 -0.05736 C 0.0302 -0.06013 0.03177 -0.06267 0.03246 -0.06545 C 0.03333 -0.06869 0.03298 -0.07262 0.03385 -0.07586 C 0.03611 -0.08418 0.04166 -0.10037 0.04166 -0.10037 C 0.0434 -0.11633 0.04635 -0.13136 0.04774 -0.14755 C 0.04722 -0.16605 0.04739 -0.18455 0.04618 -0.20282 C 0.04548 -0.21323 0.04045 -0.22086 0.03698 -0.22942 C 0.02934 -0.24815 0.02361 -0.26781 0.01389 -0.28492 C 0.01128 -0.29464 0.00764 -0.2914 0.00156 -0.29718 C -0.00018 -0.2988 -0.00122 -0.30157 -0.00295 -0.30319 C -0.01493 -0.31383 -0.0342 -0.31661 -0.04757 -0.31961 C -0.05591 -0.32794 -0.06407 -0.32724 -0.07379 -0.33187 C -0.09948 -0.34436 -0.13056 -0.34158 -0.15834 -0.34621 C -0.18004 -0.34482 -0.19914 -0.34274 -0.21997 -0.33811 C -0.22448 -0.33557 -0.22952 -0.33465 -0.23386 -0.33187 C -0.23716 -0.32979 -0.24306 -0.32378 -0.24306 -0.32378 C -0.24601 -0.31198 -0.25052 -0.30319 -0.25539 -0.29302 C -0.2566 -0.29047 -0.25712 -0.28747 -0.25834 -0.28492 C -0.26025 -0.28053 -0.26459 -0.27243 -0.26459 -0.27243 C -0.2632 -0.26295 -0.26164 -0.25208 -0.25226 -0.25208 E">
                                      <p:cBhvr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4360" y="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iv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134136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 x 5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4005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85 0.00463 0.0177 0.01157 0.02656 0.01435 C 0.04184 0.01968 0.03489 0.01389 0.04687 0.01875 C 0.05937 0.02361 0.07152 0.02847 0.08437 0.03125 C 0.10277 0.04745 0.18072 0.04375 0.18125 0.04375 C 0.225 0.05532 0.26562 0.0419 0.30781 0.0375 C 0.3217 0.0338 0.34062 0.02083 0.35312 0.0125 C 0.35312 0.0125 0.3677 0.00602 0.37187 0.00417 C 0.3842 -0.00139 0.3809 -0.00509 0.38906 -0.01065 C 0.40208 -0.01898 0.41527 -0.02662 0.425 -0.04167 C 0.43055 -0.05023 0.42656 -0.04792 0.43125 -0.06042 C 0.43333 -0.06574 0.43697 -0.06968 0.43906 -0.075 C 0.44288 -0.08542 0.44704 -0.09421 0.45156 -0.10417 C 0.45468 -0.12454 0.45052 -0.10509 0.46093 -0.12917 C 0.46579 -0.14028 0.46753 -0.15324 0.47187 -0.16458 C 0.47239 -0.16806 0.47222 -0.17176 0.47343 -0.175 C 0.47447 -0.17755 0.47743 -0.17847 0.47812 -0.18125 C 0.47951 -0.18657 0.47899 -0.19236 0.47968 -0.19792 C 0.4809 -0.20764 0.48263 -0.21759 0.48437 -0.22708 C 0.48489 -0.23611 0.48593 -0.24514 0.48593 -0.25417 C 0.48593 -0.25833 0.48454 -0.2625 0.48437 -0.26667 C 0.4835 -0.3081 0.48524 -0.37014 0.48125 -0.41875 C 0.48072 -0.42407 0.48003 -0.43218 0.47812 -0.4375 C 0.47621 -0.44306 0.47447 -0.44907 0.47187 -0.45417 C 0.47083 -0.45625 0.46961 -0.4581 0.46875 -0.46042 C 0.46371 -0.47384 0.46284 -0.48935 0.45312 -0.49792 C 0.45017 -0.50972 0.43802 -0.52731 0.43125 -0.5375 C 0.42934 -0.54051 0.42725 -0.54329 0.425 -0.54583 C 0.42204 -0.54907 0.41562 -0.55417 0.41562 -0.55417 C 0.40746 -0.57037 0.40538 -0.57153 0.39218 -0.58125 C 0.38472 -0.58681 0.38003 -0.59213 0.37187 -0.59583 C 0.36076 -0.61065 0.35625 -0.61088 0.34062 -0.61458 C 0.28263 -0.61273 0.28802 -0.6213 0.25312 -0.59792 C 0.24479 -0.58125 0.25572 -0.60139 0.24531 -0.5875 C 0.24166 -0.58264 0.24045 -0.57454 0.2375 -0.56875 C 0.23854 -0.5581 0.23854 -0.54514 0.24218 -0.53542 E">
                                      <p:cBhvr>
                                        <p:cTn id="160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4360" y="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iv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43280" y="134136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6 x 5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19280" y="4005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0885 0.00463 -0.01771 0.0044 -0.02656 0.00833 C -0.05312 0.00694 -0.07569 0.00324 -0.10156 0 C -0.10677 -0.00069 -0.11198 -0.00116 -0.11718 -0.00208 C -0.12343 -0.00324 -0.13593 -0.00625 -0.13593 -0.00625 C -0.1434 -0.01134 -0.15 -0.01875 -0.15781 -0.02292 C -0.16302 -0.02569 -0.16892 -0.02685 -0.17343 -0.03125 C -0.18125 -0.03912 -0.17899 -0.0375 -0.18906 -0.04375 C -0.20069 -0.05093 -0.21528 -0.05949 -0.225 -0.07083 C -0.24514 -0.09421 -0.26337 -0.12407 -0.27968 -0.15208 C -0.2875 -0.16551 -0.29218 -0.18843 -0.29687 -0.20417 C -0.29635 -0.23542 -0.29618 -0.26667 -0.29531 -0.29792 C -0.29462 -0.31991 -0.28698 -0.33287 -0.27187 -0.33958 C -0.20868 -0.36759 -0.13854 -0.34097 -0.07187 -0.34167 C -0.06302 -0.34375 -0.05416 -0.34583 -0.04531 -0.34792 C -0.03889 -0.34954 -0.03038 -0.35602 -0.02343 -0.35833 C -0.00312 -0.37639 -0.03385 -0.34792 -0.01562 -0.36875 C -0.00816 -0.37731 -0.00017 -0.38056 0.00625 -0.39167 C 0.025 -0.42407 0.00504 -0.3963 0.02032 -0.41667 C 0.02448 -0.43912 0.01771 -0.40764 0.02813 -0.43542 C 0.03125 -0.44375 0.03038 -0.45023 0.03438 -0.45833 C 0.03299 -0.47569 0.03472 -0.48079 0.02657 -0.49167 C 0.02222 -0.50625 0.01927 -0.51574 0.0125 -0.52917 C 0.01025 -0.53356 0.01025 -0.53958 0.00782 -0.54375 C 0.00452 -0.54907 0.00018 -0.55301 -0.00312 -0.55833 C -0.00937 -0.56806 -0.0151 -0.58472 -0.025 -0.58958 C -0.03038 -0.59236 -0.03646 -0.59236 -0.04218 -0.59375 C -0.0493 -0.60116 -0.05416 -0.6125 -0.06093 -0.61875 C -0.07153 -0.62847 -0.08455 -0.64028 -0.09687 -0.64583 C -0.12812 -0.64514 -0.15937 -0.6456 -0.19062 -0.64375 C -0.19288 -0.64352 -0.19479 -0.64074 -0.19687 -0.63958 C -0.21909 -0.62685 -0.22222 -0.59537 -0.2375 -0.575 C -0.23889 -0.56921 -0.24288 -0.56065 -0.23906 -0.55417 C -0.23802 -0.55255 -0.23593 -0.55301 -0.23437 -0.55208 C -0.23229 -0.55093 -0.23021 -0.54931 -0.22812 -0.54792 C -0.22708 -0.54583 -0.22448 -0.54398 -0.225 -0.54167 C -0.22534 -0.53958 -0.22847 -0.54097 -0.22968 -0.53958 C -0.23107 -0.53796 -0.23142 -0.53519 -0.23281 -0.53333 C -0.23489 -0.53056 -0.24184 -0.52292 -0.24531 -0.52292 E">
                                      <p:cBhvr>
                                        <p:cTn id="240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4360" y="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iv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43280" y="1341360"/>
            <a:ext cx="31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0 x 5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4005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25 -0.00069 0.05 -0.00023 0.075 -0.00208 C 0.0783 -0.00231 0.0974 -0.02199 0.1 -0.025 C 0.10226 -0.02754 0.10399 -0.03078 0.10625 -0.03333 C 0.1092 -0.03657 0.11563 -0.04166 0.11563 -0.04166 C 0.11944 -0.04907 0.12483 -0.05254 0.12813 -0.06041 C 0.13559 -0.07777 0.14271 -0.09514 0.15 -0.1125 C 0.16024 -0.13703 0.14566 -0.10972 0.15781 -0.13125 C 0.1599 -0.13981 0.16319 -0.14791 0.16563 -0.15625 C 0.16875 -0.16759 0.16892 -0.18009 0.17188 -0.19166 C 0.17153 -0.21018 0.17639 -0.26504 0.16406 -0.28958 C 0.16198 -0.30301 0.15833 -0.31319 0.15469 -0.325 C 0.14601 -0.35254 0.15451 -0.33564 0.14531 -0.35208 C 0.13941 -0.38356 0.12639 -0.40902 0.11563 -0.4375 C 0.11076 -0.45023 0.1191 -0.4368 0.10938 -0.45416 C 0.10799 -0.45648 0.1059 -0.4581 0.10469 -0.46041 C 0.10017 -0.46875 0.10347 -0.46898 0.09688 -0.475 C 0.09288 -0.47847 0.08715 -0.48078 0.08281 -0.48333 C 0.07031 -0.49051 0.05851 -0.50092 0.04531 -0.50625 C 0.03611 -0.50995 0.02639 -0.51041 0.01719 -0.51458 C 0.00122 -0.51319 -0.00729 -0.51481 -0.02031 -0.50625 C -0.02743 -0.50139 -0.03108 -0.49305 -0.03906 -0.48958 C -0.03976 -0.48842 -0.04601 -0.47754 -0.04687 -0.475 C -0.05 -0.46551 -0.05052 -0.45833 -0.05469 -0.45 C -0.05417 -0.44722 -0.05451 -0.44398 -0.05312 -0.44166 C -0.05208 -0.44004 -0.04983 -0.44051 -0.04844 -0.43958 C -0.03628 -0.43148 -0.05087 -0.43865 -0.03906 -0.43333 C -0.03507 -0.42546 -0.03733 -0.42893 -0.03281 -0.42291 E">
                                      <p:cBhvr>
                                        <p:cTn id="320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4360" y="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iv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3280" y="134136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3 x 5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19280" y="4005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9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104 0.00208 0.00156 0.00486 0.00312 0.00625 C 0.00694 0.00972 0.01562 0.01458 0.01562 0.01458 C 0.04548 0.00972 0.075 0.0162 0.10468 0.01875 C 0.11875 0.01806 0.13281 0.01782 0.14687 0.01667 C 0.15954 0.01551 0.17309 0.00995 0.18593 0.00833 C 0.1901 0.00486 0.19565 0.00347 0.19843 -0.00208 C 0.19947 -0.00417 0.20017 -0.00671 0.20156 -0.00833 C 0.21354 -0.02176 0.2026 -0.00278 0.2125 -0.01875 C 0.2177 -0.02708 0.22239 -0.03634 0.22812 -0.04375 C 0.23142 -0.05718 0.2375 -0.06875 0.24218 -0.08125 C 0.24722 -0.09491 0.24826 -0.11019 0.25468 -0.12292 C 0.25642 -0.13426 0.25885 -0.14514 0.26093 -0.15625 C 0.26041 -0.175 0.26024 -0.19375 0.25937 -0.2125 C 0.25902 -0.22037 0.25642 -0.21875 0.25312 -0.225 C 0.24565 -0.23889 0.24027 -0.25648 0.22812 -0.26458 C 0.22222 -0.26852 0.21354 -0.27199 0.20937 -0.27917 C 0.20381 -0.28889 0.19635 -0.29769 0.1875 -0.30208 C 0.1802 -0.30579 0.16562 -0.3125 0.16562 -0.3125 C 0.15503 -0.32662 0.14565 -0.32546 0.12968 -0.32708 C 0.11666 -0.32639 0.10364 -0.32616 0.09062 -0.325 C 0.08298 -0.32431 0.07934 -0.31782 0.07187 -0.31458 C 0.04965 -0.30463 0.03177 -0.28657 0.01875 -0.26042 C 0.02083 -0.24421 0.01857 -0.23542 0.03281 -0.23542 E">
                                      <p:cBhvr>
                                        <p:cTn id="400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4360" y="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iv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2 x 5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19280" y="4005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104 0.00278 0.00139 0.00625 0.00313 0.00833 C 0.00486 0.01019 0.00747 0.00903 0.00938 0.01042 C 0.01736 0.01644 0.02274 0.02245 0.03125 0.02708 C 0.03455 0.0287 0.03767 0.03102 0.04063 0.03333 C 0.04392 0.03588 0.04653 0.03958 0.05 0.04167 C 0.05642 0.04537 0.08802 0.05532 0.09063 0.05625 C 0.10382 0.06065 0.0934 0.05949 0.10469 0.06458 C 0.11858 0.07083 0.13385 0.06782 0.14844 0.06875 C 0.17188 0.07222 0.19549 0.07477 0.21875 0.07917 C 0.31545 0.07755 0.41128 0.07454 0.50764 0.06458 C 0.52847 0.05764 0.54913 0.05046 0.57031 0.04792 C 0.57917 0.04398 0.58802 0.03773 0.5967 0.03542 C 0.6059 0.02731 0.61806 0.02662 0.62813 0.02083 C 0.63351 0.01782 0.63837 0.01343 0.64375 0.01042 C 0.66302 -0.000229999999999999 0.64653 0.01343 0.66563 0 C 0.67205 -0.0044 0.67813 -0.00972 0.68438 -0.01458 C 0.68698 -0.01667 0.69219 -0.02083 0.69219 -0.02083 C 0.69809 -0.03264 0.70816 -0.04005 0.71563 -0.05 C 0.72188 -0.05833 0.72396 -0.06759 0.73125 -0.075 C 0.7375 -0.0919 0.74878 -0.10324 0.75625 -0.11875 C 0.76597 -0.13866 0.77795 -0.15995 0.78594 -0.18125 C 0.79167 -0.1963 0.78819 -0.19051 0.79531 -0.2 C 0.79809 -0.21898 0.80434 -0.23727 0.80781 -0.25625 C 0.80729 -0.30069 0.80712 -0.34514 0.80625 -0.38958 C 0.8059 -0.40972 0.80642 -0.40579 0.80156 -0.41875 C 0.79896 -0.43657 0.78802 -0.46898 0.77656 -0.47917 C 0.77552 -0.48125 0.775 -0.48403 0.77344 -0.48542 C 0.76458 -0.49375 0.74375 -0.50532 0.73281 -0.50833 C 0.70833 -0.52454 0.65243 -0.51644 0.64063 -0.51667 C 0.63229 -0.51597 0.62396 -0.51551 0.61563 -0.51458 C 0.59931 -0.5125 0.59149 -0.50093 0.58281 -0.48333 C 0.5842 -0.41736 0.5842 -0.44028 0.5842 -0.41458 E">
                                      <p:cBhvr>
                                        <p:cTn id="48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4360" y="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iv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134136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5 x 5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4005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4149 -0.00116 0.06337 0.00278 0.09688 -0.00625 C 0.10781 -0.01528 0.11823 -0.02153 0.12969 -0.02917 C 0.13576 -0.04144 0.12899 -0.02986 0.13906 -0.03958 C 0.14462 -0.04491 0.14757 -0.05347 0.15156 -0.06042 C 0.15521 -0.06667 0.1625 -0.07917 0.1625 -0.07917 C 0.16458 -0.09051 0.16962 -0.1 0.17344 -0.11042 C 0.17917 -0.12546 0.1849 -0.14097 0.19063 -0.15625 C 0.19497 -0.16759 0.19601 -0.17986 0.2 -0.19167 C 0.2066 -0.21065 0.21424 -0.2287 0.22031 -0.24792 C 0.22552 -0.28287 0.22135 -0.26227 0.23594 -0.30833 C 0.24115 -0.32477 0.24167 -0.34028 0.24844 -0.35625 C 0.25139 -0.38032 0.25365 -0.39676 0.25469 -0.42292 C 0.25417 -0.45903 0.25451 -0.49514 0.25313 -0.53125 C 0.25278 -0.53889 0.25399 -0.59421 0.24063 -0.60625 C 0.23976 -0.60995 0.23785 -0.61829 0.23594 -0.62083 C 0.2283 -0.63102 0.21962 -0.63056 0.21094 -0.6375 C 0.20226 -0.64444 0.1941 -0.64884 0.18438 -0.65208 C 0.17569 -0.66366 0.16128 -0.66782 0.15 -0.67292 C 0.13142 -0.68125 0.13611 -0.68287 0.11563 -0.68958 C 0.11354 -0.69028 0.11146 -0.6912 0.10938 -0.69167 C 0.10313 -0.69329 0.09688 -0.69398 0.09063 -0.69583 C 0.08333 -0.69792 0.07726 -0.70324 0.07031 -0.70625 C 0.05347 -0.70509 0.04514 -0.70625 0.03125 -0.7 C 0.02917 -0.69722 0.02743 -0.69375 0.025 -0.69167 C 0.02274 -0.68958 0.01944 -0.68958 0.01719 -0.6875 C 0.00486 -0.67569 0.02309 -0.68519 0.00938 -0.67917 C 0.00104 -0.6625 0.00642 -0.67546 0.00313 -0.63542 C 0.00278 -0.63102 0 -0.61852 0 -0.62292 E">
                                      <p:cBhvr>
                                        <p:cTn id="560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4360" y="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iv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43280" y="134136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7 x 5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19280" y="4005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57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60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3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63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503 0.01018 0.01007 0.01481 0.01875 0.01875 C 0.02309 0.02754 0.03056 0.03032 0.0375 0.03541 C 0.04063 0.03773 0.04392 0.03912 0.04688 0.04166 C 0.04878 0.04328 0.04965 0.04652 0.05156 0.04791 C 0.05156 0.04791 0.06319 0.05324 0.06563 0.05416 C 0.07188 0.05694 0.07639 0.06389 0.08281 0.06666 C 0.09115 0.08333 0.08021 0.06319 0.09063 0.07708 C 0.09774 0.08657 0.08924 0.08125 0.09844 0.08541 C 0.10226 0.09305 0.10694 0.09652 0.1125 0.10208 C 0.1151 0.11273 0.11997 0.11088 0.12656 0.11666 C 0.1309 0.12801 0.13281 0.1287 0.14219 0.13125 C 0.14427 0.13541 0.14479 0.14213 0.14844 0.14375 C 0.1599 0.14884 0.16927 0.15717 0.18125 0.16041 C 0.21406 0.1824 0.25608 0.17824 0.29063 0.17916 C 0.3224 0.18009 0.35417 0.18055 0.38594 0.18125 C 0.41823 0.17916 0.45052 0.17777 0.48281 0.175 C 0.49688 0.17222 0.51094 0.16898 0.525 0.16666 C 0.53385 0.16527 0.54757 0.1662 0.55625 0.16041 C 0.56597 0.15393 0.5717 0.14189 0.58125 0.13541 C 0.58333 0.12407 0.58785 0.12222 0.59375 0.1125 C 0.5974 0.09768 0.60486 0.08194 0.61094 0.06875 C 0.61406 0.06203 0.61441 0.05277 0.61719 0.04583 C 0.6191 0.04143 0.62135 0.0375 0.62344 0.03333 C 0.62431 0.02893 0.62622 0.01227 0.62656 0.01041 C 0.62847 0 0.63281 -0.00718 0.63594 -0.01667 C 0.63785 -0.02269 0.63906 -0.02917 0.64063 -0.03542 C 0.64201 -0.04074 0.64514 -0.04491 0.64688 -0.05 C 0.65278 -0.06783 0.6559 -0.08681 0.6625 -0.10417 C 0.66597 -0.13704 0.67431 -0.16968 0.67969 -0.20209 C 0.68299 -0.22176 0.68299 -0.24236 0.68438 -0.2625 C 0.68351 -0.30463 0.68785 -0.34514 0.66875 -0.37917 C 0.66406 -0.39792 0.65313 -0.41412 0.64375 -0.42917 C 0.63993 -0.44445 0.63542 -0.4507 0.62656 -0.4625 C 0.625 -0.46459 0.62378 -0.46736 0.62188 -0.46875 C 0.61701 -0.47199 0.61007 -0.47616 0.60625 -0.48125 C 0.60469 -0.48334 0.60347 -0.48611 0.60156 -0.4875 C 0.59063 -0.49491 0.56042 -0.49514 0.55156 -0.49584 C 0.52604 -0.5044 0.49427 -0.50116 0.47031 -0.50209 C 0.44167 -0.49977 0.44757 -0.50139 0.42656 -0.4875 C 0.42135 -0.47709 0.41563 -0.47917 0.40938 -0.46667 C 0.39826 -0.44445 0.41563 -0.47824 0.40156 -0.45417 C 0.39167 -0.43727 0.39948 -0.44561 0.39063 -0.4375 C 0.38837 -0.42824 0.38351 -0.42176 0.38125 -0.4125 C 0.38316 -0.40209 0.38073 -0.40417 0.3875 -0.40417 E">
                                      <p:cBhvr>
                                        <p:cTn id="64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7:28:55Z</dcterms:created>
  <dc:creator>Angie Gore</dc:creator>
  <dc:description/>
  <dc:language>en-US</dc:language>
  <cp:lastModifiedBy>Angie Gore</cp:lastModifiedBy>
  <dcterms:modified xsi:type="dcterms:W3CDTF">2006-11-20T20:33:37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11201914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