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C02-02A4-469B-96C6-47168EC1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759-817B-4AEF-A2BC-CE1A3CFD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E57-D957-4514-A971-739B93B6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08F-1AEC-4BC4-9646-9372C5B0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780-94DC-44E0-9616-3C87437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9C2-DFF5-4468-BD68-7D4373F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B23-3132-45A5-B480-0281E0DB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234-C27B-4931-85C6-A45B155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5CC-CCE5-4259-9762-4E7B6F9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EB4-FAB2-44EE-AC61-5E81C1F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05B-7486-4051-8384-6333A7B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DDA-CDF0-481C-9803-AC78729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2ADE-65F5-4CF3-AC2F-F807AC35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5589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66667E-006 -2.22222E-006 C -0.00555 0.00255 -0.01111 0.00533 -0.01562 0.01042 C -0.01736 0.01227 -0.0184 0.01505 -0.02031 0.01667 C -0.03437 0.02847 -0.04965 0.0375 -0.06406 0.04792 C -0.07378 0.05486 -0.07864 0.06111 -0.08906 0.06459 C -0.10173 0.07593 -0.11823 0.07847 -0.13281 0.08334 C -0.19062 0.08195 -0.2908 0.09306 -0.35937 0.06459 C -0.37621 0.05764 -0.38732 0.04584 -0.40312 0.0375 C -0.40642 0.03148 -0.41094 0.02709 -0.41406 0.02084 C -0.41875 0.01134 -0.42014 0.00232 -0.42656 -0.00625 C -0.43055 -0.02199 -0.42517 -0.00254 -0.43125 -0.01875 C -0.43403 -0.02616 -0.43472 -0.03588 -0.43594 -0.04375 C -0.43489 -0.06111 -0.43455 -0.07847 -0.43281 -0.09583 C -0.43125 -0.11111 -0.42587 -0.11991 -0.41719 -0.12916 C -0.4118 -0.13495 -0.40625 -0.14583 -0.4 -0.15 C -0.38993 -0.15671 -0.37882 -0.15995 -0.36875 -0.16666 C -0.21389 -0.16504 -0.12552 -0.16296 0.02969 -0.16458 C 0.05104 -0.16921 0.07309 -0.175 0.09375 -0.18333 C 0.10243 -0.1868 0.11163 -0.18773 0.12031 -0.19166 C 0.12136 -0.19514 0.12153 -0.1993 0.12344 -0.20208 C 0.125 -0.2044 0.12778 -0.2044 0.12969 -0.20625 C 0.13143 -0.20787 0.13299 -0.21018 0.13438 -0.2125 C 0.13959 -0.22106 0.14149 -0.22847 0.14844 -0.23541 C 0.15104 -0.2456 0.15434 -0.26713 0.15938 -0.27708 C 0.1632 -0.30231 0.16632 -0.36944 0.14375 -0.38958 C 0.13941 -0.39838 0.13542 -0.39791 0.12969 -0.40416 C 0.12084 -0.41366 0.11684 -0.42731 0.10781 -0.43541 C 0.10191 -0.44699 0.09167 -0.44977 0.08281 -0.45625 C 0.07379 -0.46296 0.06545 -0.46597 0.05625 -0.47083 C 0.04636 -0.47616 0.03889 -0.48102 0.02813 -0.48333 C 0.00799 -0.49676 -0.01666 -0.5037 -0.03906 -0.50625 C -0.04097 -0.50602 -0.05885 -0.50463 -0.06406 -0.50208 C -0.07413 -0.49699 -0.08333 -0.48796 -0.09375 -0.48333 C -0.09583 -0.47916 -0.09791 -0.475 -0.1 -0.47083 C -0.10104 -0.46875 -0.10312 -0.46458 -0.10312 -0.46435 C -0.10625 -0.44768 -0.0908 -0.43403 -0.07916 -0.42639 E">
                                      <p:cBhvr>
                                        <p:cTn id="72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469 0.00069 0.00955 0.00069 0.01406 0.00208 C 0.01632 0.00278 0.01805 0.00509 0.02031 0.00625 C 0.02934 0.01088 0.03889 0.0162 0.04844 0.01875 C 0.06458 0.0331 0.08628 0.02917 0.10469 0.03125 C 0.14548 0.03588 0.18559 0.04468 0.22639 0.04792 C 0.24531 0.06042 0.29028 0.05532 0.30937 0.05625 C 0.43177 0.05532 0.55416 0.05741 0.67656 0.05185 C 0.69635 0.05116 0.72344 0.01736 0.74375 0.00833 C 0.75312 -0.00417 0.76719 -0.01227 0.775 -0.02708 C 0.78264 -0.04144 0.77378 -0.02986 0.78125 -0.04167 C 0.78559 -0.04861 0.78611 -0.0463 0.78906 -0.05417 C 0.79375 -0.06667 0.79774 -0.07963 0.80312 -0.09167 C 0.80764 -0.11551 0.80069 -0.08681 0.80937 -0.10417 C 0.81146 -0.10856 0.8125 -0.11389 0.81406 -0.11875 C 0.8158 -0.1331 0.81753 -0.13519 0.82187 -0.14792 C 0.82517 -0.15764 0.82534 -0.1662 0.82969 -0.175 C 0.83281 -0.2 0.83594 -0.22546 0.84062 -0.25 C 0.8401 -0.28056 0.83975 -0.31111 0.83906 -0.34167 C 0.83837 -0.37338 0.84444 -0.39931 0.82482 -0.41667 C 0.82205 -0.43218 0.82639 -0.41991 0.81562 -0.42708 C 0.81371 -0.42847 0.81267 -0.43148 0.81094 -0.43333 C 0.80694 -0.43727 0.80295 -0.4412 0.79826 -0.44375 C 0.77864 -0.45532 0.75885 -0.46019 0.7375 -0.4625 C 0.725 -0.46921 0.71146 -0.47523 0.69844 -0.47917 C 0.68767 -0.48241 0.67743 -0.48403 0.66719 -0.48958 C 0.65364 -0.48889 0.6401 -0.48935 0.62656 -0.4875 C 0.62118 -0.48681 0.60903 -0.47778 0.60469 -0.47292 C 0.59948 -0.46713 0.59861 -0.46134 0.59201 -0.45833 C 0.58871 -0.44514 0.59201 -0.40694 0.59201 -0.39375 E">
                                      <p:cBhvr>
                                        <p:cTn id="80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28 0.0081 0.01823 0.01227 0.03437 0.01458 C 0.07812 0.03796 0.13038 0.02824 0.175 0.02916 C 0.21562 0.02986 0.25625 0.03055 0.29687 0.03125 C 0.35017 0.03009 0.3776 0.03703 0.42031 0.02291 C 0.43611 0.01041 0.45989 0.00555 0.47812 0.00208 C 0.48802 -0.00672 0.5 -0.01204 0.51094 -0.01875 C 0.52031 -0.02454 0.52899 -0.03195 0.5375 -0.03959 C 0.54184 -0.04815 0.54844 -0.05023 0.55312 -0.05834 C 0.55642 -0.06436 0.5585 -0.07176 0.5625 -0.07709 C 0.56458 -0.07986 0.56701 -0.08241 0.56875 -0.08542 C 0.57413 -0.09468 0.57725 -0.1051 0.58281 -0.11459 C 0.58385 -0.11945 0.5842 -0.12477 0.58594 -0.12917 C 0.58784 -0.13403 0.59132 -0.13727 0.59375 -0.14167 C 0.596 -0.14561 0.59826 -0.14977 0.6 -0.15417 C 0.60382 -0.16436 0.60399 -0.17523 0.60781 -0.18542 C 0.60937 -0.1963 0.61302 -0.20417 0.61562 -0.21459 C 0.61996 -0.23218 0.62274 -0.25093 0.62656 -0.26875 C 0.62708 -0.27778 0.62812 -0.28681 0.62812 -0.29584 C 0.62812 -0.29723 0.62725 -0.34491 0.625 -0.35834 C 0.62066 -0.38357 0.60677 -0.40139 0.59375 -0.41875 C 0.58455 -0.43102 0.57569 -0.44561 0.5625 -0.45 C 0.55469 -0.46042 0.54514 -0.47014 0.53437 -0.47292 C 0.52656 -0.48334 0.51684 -0.48334 0.50625 -0.48542 C 0.49635 -0.49213 0.48802 -0.49213 0.47656 -0.49375 C 0.46441 -0.49769 0.4533 -0.49861 0.44062 -0.5 C 0.41094 -0.49885 0.38923 -0.50093 0.36232 -0.49375 C 0.34427 -0.48172 0.37344 -0.49977 0.34375 -0.4875 C 0.33923 -0.48565 0.33125 -0.47917 0.33125 -0.47917 C 0.32673 -0.46991 0.3217 -0.46135 0.31719 -0.45209 C 0.31614 -0.45 0.3151 -0.44792 0.31406 -0.44584 C 0.31302 -0.44375 0.31094 -0.43959 0.31094 -0.43959 C 0.31041 -0.42986 0.30833 -0.42014 0.30937 -0.41042 C 0.30955 -0.40834 0.31406 -0.40834 0.31406 -0.40834 E">
                                      <p:cBhvr>
                                        <p:cTn id="88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962 0.00671 0.00504 -0.00347 -0.00937 0.00833 C -0.01354 0.0118 -0.01875 0.01273 -0.02343 0.01481 C -0.02517 0.01528 -0.02639 0.01805 -0.02812 0.01875 C -0.04566 0.02778 -0.02604 0.01342 -0.04375 0.02523 C -0.04548 0.02639 -0.04653 0.0287 -0.04843 0.0294 C -0.05399 0.03102 -0.05989 0.03055 -0.06562 0.03148 C -0.12066 0.05602 -0.18871 0.0412 -0.24062 0.0419 C -0.34618 0.04051 -0.3651 0.04074 -0.44218 0.03148 C -0.45833 0.02292 -0.47986 0.0169 -0.49375 0.00231 C -0.50243 -0.00695 -0.50989 -0.0125 -0.52031 -0.01875 C -0.52639 -0.02662 -0.53212 -0.03241 -0.5375 -0.04144 C -0.54166 -0.06343 -0.53541 -0.03681 -0.54375 -0.05625 C -0.54757 -0.06505 -0.546 -0.07732 -0.54843 -0.08727 C -0.55104 -0.11227 -0.55208 -0.11528 -0.54843 -0.14977 C -0.54705 -0.16343 -0.53073 -0.18079 -0.52031 -0.18102 C -0.45156 -0.18241 -0.38281 -0.18241 -0.31406 -0.1831 C -0.26753 -0.18426 -0.22378 -0.18565 -0.17812 -0.18935 C -0.17187 -0.19213 -0.1658 -0.19398 -0.15937 -0.1956 C -0.12482 -0.21852 -0.08333 -0.21597 -0.05312 -0.25185 C -0.04739 -0.2588 -0.0434 -0.26852 -0.03906 -0.27685 C -0.02205 -0.30972 -0.03385 -0.28264 -0.02187 -0.3081 C -0.01857 -0.31505 -0.0125 -0.32894 -0.0125 -0.32894 C -0.01076 -0.34051 -0.00364 -0.35833 0.00157 -0.36852 C 0.00417 -0.39329 0.00712 -0.42199 0 -0.4456 C -0.00104 -0.44931 -0.00347 -0.45232 -0.00468 -0.45602 C -0.01146 -0.4757 -0.01771 -0.49375 -0.02656 -0.51227 C -0.03229 -0.52408 -0.03871 -0.53866 -0.04687 -0.54769 C -0.05416 -0.55579 -0.06371 -0.55833 -0.07187 -0.56435 C -0.09878 -0.58426 -0.12743 -0.59144 -0.15781 -0.5956 C -0.1776 -0.59445 -0.19496 -0.59259 -0.21406 -0.58935 C -0.21771 -0.58773 -0.22153 -0.5875 -0.225 -0.58519 C -0.2283 -0.58287 -0.23437 -0.57685 -0.23437 -0.57685 C -0.23889 -0.56783 -0.24409 -0.56065 -0.24843 -0.55185 C -0.25208 -0.53241 -0.24288 -0.50602 -0.2625 -0.50602 E">
                                      <p:cBhvr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92 0.00811 -0.01216 0.02639 -0.01719 0.03959 C -0.02066 0.04861 -0.02587 0.05394 -0.03125 0.06042 C -0.04097 0.07223 -0.04566 0.08102 -0.05625 0.08959 C -0.06406 0.10533 -0.07934 0.11227 -0.09063 0.12292 C -0.09809 0.12986 -0.10486 0.13912 -0.1125 0.14584 C -0.11597 0.14885 -0.11997 0.15093 -0.12344 0.15417 C -0.13021 0.16065 -0.13386 0.16713 -0.14219 0.17084 C -0.15868 0.18727 -0.17934 0.19653 -0.19844 0.20625 C -0.20591 0.20996 -0.21285 0.21551 -0.22031 0.21875 C -0.22587 0.2213 -0.23195 0.22084 -0.2375 0.22292 C -0.24375 0.22523 -0.26945 0.23797 -0.27813 0.23959 C -0.31077 0.24537 -0.35938 0.25186 -0.39375 0.25417 C -0.40382 0.25371 -0.44097 0.25417 -0.45938 0.25 C -0.46719 0.24815 -0.48281 0.24375 -0.48281 0.24375 C -0.49011 0.23727 -0.49775 0.23195 -0.50469 0.225 C -0.50573 0.22223 -0.50625 0.21898 -0.50781 0.21667 C -0.50903 0.21482 -0.51146 0.21459 -0.5125 0.2125 C -0.51406 0.20949 -0.51424 0.20533 -0.51563 0.20209 C -0.51736 0.19838 -0.51979 0.19514 -0.52188 0.19167 C -0.52448 0.18148 -0.52761 0.17523 -0.53281 0.16667 C -0.53438 0.15579 -0.53629 0.1463 -0.5375 0.13542 C -0.53698 0.11875 -0.53785 0.10186 -0.53594 0.08542 C -0.53525 0.07917 -0.53177 0.07431 -0.52969 0.06875 C -0.52865 0.06598 -0.52656 0.06042 -0.52656 0.06042 C -0.52448 0.0463 -0.52604 0.04422 -0.51719 0.03542 C -0.51268 0.02523 -0.50972 0.01621 -0.50469 0.00625 C -0.50052 -0.00208 -0.49097 -0.00648 -0.48438 -0.01041 C -0.4757 -0.01551 -0.46806 -0.02407 -0.45938 -0.02916 C -0.44271 -0.03912 -0.45591 -0.02801 -0.44531 -0.0375 C -0.43594 -0.03611 -0.42639 -0.03611 -0.41719 -0.03333 C -0.3967 -0.02685 -0.37969 -0.00694 -0.36094 0.00417 C -0.35261 0.00903 -0.34306 0.01111 -0.33438 0.01459 C -0.32327 0.01922 -0.31146 0.02246 -0.3 0.025 C -0.29271 0.02662 -0.27813 0.02917 -0.27813 0.02917 C -0.27674 0.02894 -0.25139 0.02523 -0.24375 0.02292 C -0.2349 0.02037 -0.22743 0.01343 -0.21875 0.01042 C -0.21094 0.00255 -0.19983 -0.00602 -0.19063 -0.01041 C -0.16216 -0.0243 -0.19323 -0.00463 -0.16719 -0.02083 C -0.15729 -0.02685 -0.14722 -0.03148 -0.1375 -0.0375 C -0.11719 -0.05 -0.12865 -0.04606 -0.11406 -0.05 C -0.09618 -0.06203 -0.07136 -0.07986 -0.05938 -0.10208 C -0.05799 -0.10463 -0.05712 -0.10764 -0.05625 -0.11041 C -0.05556 -0.1125 -0.05556 -0.11481 -0.05469 -0.11666 C -0.05347 -0.11921 -0.05122 -0.1206 -0.05 -0.12291 C -0.04618 -0.13009 -0.0441 -0.14027 -0.04063 -0.14791 C -0.04011 -0.15208 -0.03993 -0.15648 -0.03906 -0.16041 C -0.03837 -0.16342 -0.03594 -0.16574 -0.03594 -0.16875 C -0.03594 -0.17592 -0.03802 -0.18264 -0.03906 -0.18958 C -0.03941 -0.19166 -0.03941 -0.19421 -0.04063 -0.19583 C -0.04271 -0.19861 -0.04584 -0.2 -0.04844 -0.20208 C -0.05295 -0.21088 -0.05834 -0.21944 -0.06406 -0.22708 C -0.07049 -0.24884 -0.079 -0.26805 -0.09688 -0.27291 C -0.10486 -0.28356 -0.09966 -0.27777 -0.11406 -0.2875 C -0.11597 -0.28889 -0.11702 -0.29213 -0.11875 -0.29375 C -0.12066 -0.2956 -0.12292 -0.29629 -0.125 -0.29791 C -0.12986 -0.30185 -0.13438 -0.30625 -0.13906 -0.31041 C -0.14063 -0.3118 -0.14375 -0.31458 -0.14375 -0.31458 C -0.18108 -0.31365 -0.2283 -0.32477 -0.25781 -0.28541 C -0.26146 -0.2706 -0.25903 -0.27662 -0.26406 -0.26666 C -0.26597 -0.25671 -0.26459 -0.26088 -0.26719 -0.25416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278 0.00717 -0.00747 0.01296 -0.00937 0.02083 C -0.01042 0.025 -0.01128 0.03032 -0.01406 0.03333 C -0.0158 0.03518 -0.01823 0.03611 -0.02031 0.0375 C -0.0283 0.05162 -0.03576 0.06064 -0.04687 0.06875 C -0.06806 0.08402 -0.05521 0.07893 -0.06875 0.0831 C -0.07726 0.09097 -0.09271 0.09421 -0.10312 0.09791 C -0.12552 0.09652 -0.14792 0.09629 -0.17031 0.09375 C -0.17743 0.09305 -0.18455 0.08449 -0.19062 0.08125 C -0.20208 0.075 -0.19514 0.08402 -0.20625 0.075 C -0.21302 0.06967 -0.21597 0.06365 -0.22344 0.06041 C -0.23785 0.04606 -0.24375 0.02893 -0.25156 0.0081 C -0.2533 -0.00324 -0.25712 -0.01343 -0.25937 -0.025 C -0.26111 -0.07107 -0.2724 -0.13195 -0.23594 -0.15625 C -0.21076 -0.15394 -0.2191 -0.15371 -0.20156 -0.14792 C -0.1941 -0.14121 -0.18681 -0.13611 -0.17812 -0.13334 C -0.16615 -0.12199 -0.15365 -0.11366 -0.13906 -0.11042 C -0.13316 -0.1051 -0.12726 -0.1044 -0.12031 -0.10209 C -0.11372 -0.0963 -0.1151 -0.0963 -0.10469 -0.09584 C -0.07135 -0.09468 -0.03802 -0.09445 -0.00469 -0.09375 C 0.00486 -0.09167 0.01215 -0.08727 0.02188 -0.08542 C 0.04375 -0.0757 -0.02153 -0.10417 0.05 -0.07917 C 0.0526 -0.07824 0.05365 -0.07338 0.05625 -0.07292 C 0.08958 -0.06574 0.12396 -0.06968 0.15781 -0.06875 C 0.20382 -0.07176 0.25451 -0.06829 0.3 -0.08334 C 0.30729 -0.08588 0.31198 -0.09074 0.31875 -0.09375 C 0.32326 -0.09815 0.32865 -0.10139 0.33281 -0.10625 C 0.33472 -0.10857 0.33576 -0.11204 0.3375 -0.11459 C 0.34722 -0.12871 0.35851 -0.14098 0.36719 -0.15625 C 0.37569 -0.17153 0.38038 -0.19028 0.3875 -0.20625 C 0.39497 -0.22269 0.39531 -0.24283 0.40313 -0.25834 C 0.4059 -0.30602 0.41649 -0.3588 0.39844 -0.40209 C 0.39375 -0.4132 0.39271 -0.42431 0.38594 -0.43334 C 0.38333 -0.44375 0.38142 -0.44375 0.375 -0.45 C 0.37326 -0.45162 0.37205 -0.4544 0.37031 -0.45625 C 0.36736 -0.45926 0.36406 -0.46181 0.36094 -0.46459 C 0.34913 -0.475 0.34149 -0.48496 0.32813 -0.49375 C 0.32622 -0.49514 0.32552 -0.49885 0.32344 -0.5 C 0.3217 -0.50116 0.30156 -0.50417 0.30156 -0.50417 C 0.27413 -0.51644 0.24601 -0.52408 0.21719 -0.52709 C 0.19792 -0.52639 0.17847 -0.52639 0.15938 -0.525 C 0.14861 -0.52431 0.13958 -0.51065 0.12969 -0.50625 C 0.12795 -0.49908 0.12517 -0.4926 0.12344 -0.48542 C 0.12535 -0.45556 0.125 -0.46875 0.125 -0.44584 E">
                                      <p:cBhvr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85 0.00069 0.0177 0.00046 0.02656 0.00208 C 0.0342 0.00347 0.0434 0.01204 0.05 0.01667 C 0.06128 0.02477 0.07048 0.02824 0.08125 0.03542 C 0.08906 0.04931 0.09843 0.06111 0.10625 0.075 C 0.11197 0.09815 0.11406 0.12824 0.09843 0.14375 C 0.09131 0.16273 0.07586 0.16829 0.0625 0.17708 C 0.04583 0.18819 0.05798 0.18403 0.04218 0.1875 C 0.03402 0.19306 0.02586 0.19444 0.01718 0.19792 C 0.00173 0.20417 0.01753 0.20046 0 0.20625 C -0.01719 0.21204 -0.0349 0.21574 -0.05 0.22917 C -0.05747 0.24398 -0.05539 0.2581 -0.05625 0.27708 C -0.054 0.3044 -0.05157 0.31713 -0.02969 0.32292 C -0.02813 0.32569 -0.02709 0.3294 -0.025 0.33125 C -0.02223 0.3338 -0.01858 0.33356 -0.01563 0.33542 C -0.0073 0.34051 -0.00296 0.34537 0.00625 0.34792 C 0.03246 0.36296 0.06006 0.37361 0.0875 0.38333 C 0.09166 0.38472 0.096 0.38565 0.1 0.3875 C 0.10329 0.38912 0.1059 0.39282 0.10937 0.39375 C 0.12222 0.39676 0.13541 0.39606 0.14843 0.39792 C 0.19114 0.39606 0.23402 0.39606 0.27656 0.39167 C 0.28298 0.39097 0.28767 0.38796 0.29375 0.38542 C 0.32065 0.37477 0.3309 0.36667 0.35468 0.34792 C 0.35868 0.34468 0.36336 0.34306 0.36718 0.33958 C 0.37517 0.33241 0.38246 0.32199 0.39062 0.31458 C 0.39652 0.30949 0.40243 0.30648 0.40781 0.3 C 0.41701 0.28889 0.42413 0.27616 0.43281 0.26458 C 0.43524 0.25185 0.43993 0.25347 0.44375 0.24167 C 0.44982 0.22245 0.45243 0.20185 0.45937 0.18333 C 0.45607 0.16991 0.4618 0.15995 0.46562 0.14792 C 0.47447 0.11968 0.47864 0.08935 0.48593 0.06042 C 0.48975 -0.000460000000000002 0.48732 0.05602 0.48125 -0.0625 C 0.47951 -0.09653 0.48402 -0.13843 0.46875 -0.16875 C 0.4677 -0.17384 0.46267 -0.19236 0.46093 -0.19583 C 0.45885 -0.2 0.45642 -0.20394 0.45468 -0.20833 C 0.45381 -0.21088 0.45034 -0.2206 0.44843 -0.22292 C 0.44357 -0.2287 0.43437 -0.23681 0.42812 -0.23958 C 0.41545 -0.25648 0.43194 -0.23681 0.41718 -0.24792 C 0.40277 -0.25903 0.42274 -0.25069 0.40625 -0.25625 C 0.4026 -0.25949 0.39548 -0.26667 0.39062 -0.26875 C 0.37673 -0.275 0.36163 -0.2787 0.34826 -0.2875 C 0.3059 -0.28588 0.31024 -0.28935 0.28593 -0.28125 C 0.28298 -0.2787 0.27899 -0.27824 0.27656 -0.275 C 0.26649 -0.26157 0.27031 -0.25556 0.27031 -0.23542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2066 0.00255 -0.03889 0.01181 -0.05938 0.01458 C -0.08855 0.02755 -0.15435 0.0169 -0.16407 0.01667 C -0.18438 0.01134 -0.20608 0.00093 -0.22344 -0.01458 C -0.22587 -0.01667 -0.22744 -0.0206 -0.22969 -0.02292 C -0.23212 -0.02546 -0.2349 -0.02708 -0.2375 -0.02917 C -0.23907 -0.03264 -0.2408 -0.03611 -0.24219 -0.03958 C -0.24445 -0.04514 -0.24601 -0.05093 -0.24844 -0.05625 C -0.25573 -0.07269 -0.25087 -0.05602 -0.26094 -0.075 C -0.26407 -0.08079 -0.2658 -0.08773 -0.26875 -0.09375 C -0.27535 -0.10741 -0.28264 -0.12014 -0.2875 -0.13542 C -0.29341 -0.15417 -0.29323 -0.17338 -0.3 -0.19167 C -0.30226 -0.21944 -0.30244 -0.20787 -0.29844 -0.24375 C -0.29844 -0.24421 -0.29601 -0.25718 -0.29532 -0.25833 C -0.27969 -0.28333 -0.24219 -0.29977 -0.21875 -0.30417 C -0.20469 -0.30347 -0.19063 -0.3037 -0.17657 -0.30208 C -0.16754 -0.30093 -0.15 -0.29583 -0.15 -0.29583 C -0.14063 -0.28843 -0.13212 -0.28796 -0.12188 -0.28333 C -0.09046 -0.26944 -0.05938 -0.25741 -0.02657 -0.25 C -0.01719 -0.24375 -0.00816 -0.2419 0.00156 -0.2375 C 0.03333 -0.23819 0.0651 -0.23819 0.09687 -0.23958 C 0.10399 -0.23981 0.11875 -0.25185 0.12656 -0.25417 C 0.16753 -0.26597 0.12552 -0.25023 0.15 -0.25833 C 0.16684 -0.26389 0.18246 -0.27269 0.19843 -0.28125 C 0.21145 -0.28819 0.22552 -0.2919 0.23906 -0.29792 C 0.24826 -0.30208 0.25659 -0.30856 0.26562 -0.3125 C 0.26996 -0.32106 0.27621 -0.32616 0.28125 -0.33333 C 0.29218 -0.34907 0.30069 -0.36644 0.30781 -0.38542 C 0.31006 -0.40093 0.31475 -0.41551 0.31718 -0.43125 C 0.31649 -0.46458 0.32048 -0.49907 0.31406 -0.53125 C 0.31319 -0.53565 0.31059 -0.53935 0.30937 -0.54375 C 0.3059 -0.55579 0.30468 -0.56968 0.3 -0.58125 C 0.29826 -0.58565 0.29548 -0.58935 0.29375 -0.59375 C 0.27847 -0.63472 0.29166 -0.60741 0.28281 -0.625 C 0.2802 -0.64213 0.28281 -0.63264 0.27187 -0.65208 C 0.27048 -0.65463 0.26961 -0.65741 0.26875 -0.66042 C 0.26805 -0.66319 0.2684 -0.66644 0.26718 -0.66875 C 0.26614 -0.67083 0.26388 -0.67106 0.2625 -0.67292 C 0.26059 -0.67546 0.25972 -0.6787 0.25781 -0.68125 C 0.25295 -0.68773 0.24496 -0.69005 0.23906 -0.69375 C 0.2184 -0.70648 0.21788 -0.70417 0.19062 -0.70625 C 0.14131 -0.71458 0.16458 -0.71134 0.06093 -0.70625 C 0.05763 -0.70602 0.05156 -0.70208 0.05156 -0.70208 C 0.02621 -0.67685 0.03437 -0.65694 0.03437 -0.6125 E">
                                      <p:cBhvr>
                                        <p:cTn id="40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05556E-006 -1.85185E-006 C -0.03541 0.00046 -0.19652 -0.01111 -0.26093 0.01042 C -0.27083 0.01875 -0.28055 0.02384 -0.29062 0.03125 C -0.30729 0.04352 -0.28455 0.03195 -0.30625 0.04167 C -0.30833 0.04375 -0.31024 0.0463 -0.3125 0.04792 C -0.31389 0.04908 -0.3158 0.04884 -0.31718 0.05 C -0.32291 0.05509 -0.32586 0.06158 -0.33281 0.06459 C -0.34184 0.07662 -0.35173 0.08611 -0.35937 0.1 C -0.36163 0.10394 -0.36354 0.10834 -0.36562 0.1125 C -0.36666 0.11459 -0.36875 0.11875 -0.36875 0.11898 C -0.37118 0.13125 -0.36961 0.12431 -0.37343 0.13959 C -0.37396 0.14167 -0.375 0.14584 -0.375 0.14607 C -0.37708 0.16875 -0.37812 0.17107 -0.375 0.2 C -0.37448 0.20556 -0.36597 0.22176 -0.36406 0.22709 C -0.36076 0.23588 -0.36059 0.24607 -0.35625 0.25417 C -0.35069 0.26435 -0.3335 0.27639 -0.325 0.27917 C -0.31701 0.28565 -0.30885 0.2919 -0.3 0.29584 C -0.29114 0.30463 -0.29618 0.30093 -0.28437 0.30625 C -0.275 0.31042 -0.26614 0.31945 -0.25625 0.32292 C -0.24548 0.32662 -0.23194 0.32894 -0.22031 0.33125 C -0.21823 0.33264 -0.21597 0.33357 -0.21406 0.33542 C -0.21232 0.33704 -0.21146 0.34074 -0.20937 0.34167 C -0.20538 0.34352 -0.20104 0.34306 -0.19687 0.34375 C -0.17986 0.35139 -0.18559 0.35 -0.15781 0.35 C -0.10156 0.35 -0.04531 0.34861 0.01094 0.34792 C 0.03664 0.34491 0.06181 0.33843 0.0875 0.33542 C 0.09827 0.33171 0.10955 0.33079 0.12032 0.32709 C 0.12986 0.32361 0.13889 0.31991 0.14844 0.31667 C 0.1592 0.30718 0.15417 0.30996 0.1625 0.30625 C 0.16545 0.30232 0.17014 0.29722 0.17188 0.29167 C 0.17275 0.28912 0.1724 0.28588 0.17344 0.28334 C 0.17587 0.27778 0.18021 0.27408 0.18282 0.26875 C 0.18768 0.25834 0.19236 0.24468 0.19844 0.23542 C 0.20434 0.22662 0.21233 0.22014 0.21719 0.21042 C 0.22205 0.2007 0.22917 0.18704 0.2375 0.18334 C 0.23941 0.1794 0.24011 0.17454 0.24219 0.17084 C 0.24931 0.15718 0.2599 0.14306 0.26875 0.13125 C 0.27917 0.09653 0.29271 0.06389 0.30313 0.02917 C 0.30486 0.01551 0.30625 0.00625 0.31094 -0.00625 C 0.31146 -0.00972 0.31164 -0.01319 0.3125 -0.01666 C 0.3132 -0.01967 0.31511 -0.02199 0.31563 -0.025 C 0.31667 -0.03032 0.3165 -0.03611 0.31719 -0.04166 C 0.31754 -0.04375 0.31823 -0.04583 0.31875 -0.04791 C 0.31789 -0.1044 0.32691 -0.14097 0.30782 -0.18333 C 0.30573 -0.19421 0.30226 -0.20625 0.29532 -0.2125 C 0.2915 -0.22268 0.29045 -0.22616 0.28282 -0.23125 C 0.28229 -0.23333 0.28247 -0.23588 0.28125 -0.2375 C 0.27934 -0.24004 0.26407 -0.24722 0.2625 -0.24791 C 0.2441 -0.26643 0.22379 -0.28009 0.20313 -0.29375 C 0.19132 -0.30162 0.18177 -0.31435 0.16875 -0.31875 C 0.15764 -0.33356 0.14809 -0.33356 0.13282 -0.33541 C 0.1 -0.33356 0.10382 -0.33611 0.08282 -0.325 C 0.08282 -0.32477 0.07118 -0.31991 0.06875 -0.31875 C 0.06511 -0.31713 0.05938 -0.31041 0.05938 -0.31018 C 0.05591 -0.30324 0.05139 -0.29977 0.04688 -0.29375 C 0.04462 -0.28449 0.03976 -0.27801 0.0375 -0.26875 C 0.03802 -0.26111 0.03629 -0.25254 0.03907 -0.24583 C 0.04063 -0.2419 0.05851 -0.225 0.05851 -0.22477 E">
                                      <p:cBhvr>
                                        <p:cTn id="48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99 0.00393 0.00868 0.00625 0.0125 0.01041 C 0.01388 0.01203 0.01423 0.01481 0.01562 0.01666 C 0.01701 0.01852 0.01875 0.01944 0.02031 0.02083 C 0.02725 0.03472 0.02274 0.02916 0.04531 0.02916 C 0.10937 0.02916 0.17343 0.02777 0.2375 0.02708 C 0.25156 0.025 0.26562 0.02245 0.27968 0.02083 C 0.28541 0.01875 0.29097 0.01597 0.29687 0.01458 C 0.30677 0.0125 0.32656 0.01041 0.32656 0.01041 C 0.34166 0.00532 0.33489 0.0074 0.34687 0.00416 C 0.35486 -0.00116 0.36388 -0.00301 0.37187 -0.00834 C 0.38211 -0.01505 0.39184 -0.02246 0.40312 -0.025 C 0.41597 -0.03473 0.42916 -0.04468 0.44375 -0.04792 C 0.45225 -0.05926 0.45555 -0.05486 0.46406 -0.0625 C 0.48003 -0.07686 0.49548 -0.08866 0.5125 -0.1 C 0.51857 -0.11227 0.5118 -0.10116 0.52343 -0.11042 C 0.5394 -0.12315 0.52465 -0.11574 0.53593 -0.12084 C 0.54097 -0.12755 0.54652 -0.13287 0.55156 -0.13959 C 0.56614 -0.15903 0.54583 -0.1375 0.5625 -0.15417 C 0.56909 -0.17176 0.58038 -0.18496 0.5875 -0.20209 C 0.58923 -0.20625 0.59097 -0.21019 0.59218 -0.21459 C 0.59305 -0.21713 0.5927 -0.22037 0.59375 -0.22292 C 0.59809 -0.23449 0.60086 -0.23797 0.60468 -0.24792 C 0.60642 -0.25996 0.61111 -0.26945 0.61406 -0.28125 C 0.61354 -0.33473 0.61336 -0.3882 0.6125 -0.44167 C 0.61232 -0.45787 0.61302 -0.48889 0.60312 -0.50209 C 0.59305 -0.53542 0.60694 -0.48727 0.59843 -0.525 C 0.59635 -0.53403 0.59513 -0.53195 0.59218 -0.53959 C 0.58767 -0.55162 0.58524 -0.56598 0.57968 -0.57709 C 0.57847 -0.57963 0.57621 -0.58102 0.575 -0.58334 C 0.571 -0.59098 0.56927 -0.6007 0.56562 -0.60834 C 0.56302 -0.61412 0.55694 -0.62269 0.55312 -0.62709 C 0.54947 -0.63125 0.53645 -0.64306 0.53281 -0.64584 C 0.52847 -0.64908 0.52309 -0.64885 0.51875 -0.65209 C 0.50572 -0.66181 0.51927 -0.65602 0.50625 -0.66042 C 0.4868 -0.68635 0.4427 -0.68033 0.42187 -0.68125 C 0.39045 -0.68727 0.40052 -0.68611 0.34218 -0.68125 C 0.33715 -0.68079 0.33298 -0.675 0.32812 -0.67292 C 0.32065 -0.66968 0.31128 -0.66667 0.30468 -0.66042 C 0.30295 -0.6588 0.30173 -0.65602 0.3 -0.65417 C 0.29861 -0.65255 0.29687 -0.65139 0.29531 -0.65 C 0.2868 -0.63311 0.29027 -0.62593 0.29218 -0.6 C 0.29253 -0.59607 0.29531 -0.58843 0.29843 -0.5875 C 0.30399 -0.58588 0.30989 -0.5875 0.31562 -0.5875 E">
                                      <p:cBhvr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798 0.00393 0.0151 0.00717 0.02344 0.01041 C 0.05642 0.03981 0.07656 0.03194 0.11875 0.03333 C 0.13698 0.03264 0.15521 0.03171 0.17344 0.03125 C 0.27864 0.02893 0.48906 0.025 0.48906 0.025 C 0.51389 0.01666 0.5401 0.0162 0.56562 0.0125 C 0.57274 0.00926 0.58107 0.0074 0.5875 0.00208 C 0.60885 -0.01574 0.58055 0.00671 0.59844 -0.01042 C 0.60399 -0.01574 0.61146 -0.02246 0.61719 -0.02709 C 0.61857 -0.02824 0.62048 -0.02824 0.62187 -0.02917 C 0.63646 -0.03889 0.65069 -0.05648 0.65937 -0.075 C 0.66319 -0.08311 0.66736 -0.09144 0.67031 -0.1 C 0.67274 -0.10718 0.675 -0.11644 0.67812 -0.12292 C 0.6809 -0.12871 0.6875 -0.13959 0.6875 -0.13959 C 0.69062 -0.15209 0.68819 -0.14398 0.69687 -0.1625 C 0.69844 -0.16574 0.69878 -0.16968 0.7 -0.17292 C 0.70416 -0.18426 0.70885 -0.19584 0.71406 -0.20625 C 0.71701 -0.22246 0.71458 -0.21204 0.725 -0.23542 C 0.73107 -0.24908 0.73298 -0.25926 0.7375 -0.27292 C 0.73837 -0.2757 0.73941 -0.27848 0.74062 -0.28125 C 0.74201 -0.28473 0.74409 -0.28797 0.74531 -0.29167 C 0.74861 -0.30162 0.75034 -0.31273 0.75312 -0.32292 C 0.75798 -0.34051 0.76406 -0.35741 0.76875 -0.375 C 0.77344 -0.3926 0.77569 -0.40973 0.78125 -0.42709 C 0.78316 -0.45857 0.7842 -0.45602 0.77969 -0.49375 C 0.7783 -0.50533 0.76337 -0.53172 0.75781 -0.54167 C 0.75469 -0.55394 0.7559 -0.55463 0.74844 -0.56459 C 0.74618 -0.57616 0.7408 -0.58727 0.73437 -0.59584 C 0.73229 -0.60417 0.72899 -0.60973 0.725 -0.61667 C 0.72118 -0.63195 0.70729 -0.63866 0.69687 -0.64375 C 0.68837 -0.64792 0.68107 -0.65625 0.67344 -0.6625 C 0.66389 -0.67014 0.64809 -0.67061 0.6375 -0.67292 C 0.59097 -0.67199 0.54809 -0.70463 0.53437 -0.65 C 0.53576 -0.62454 0.53125 -0.625 0.54357 -0.61667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0:42:56Z</dcterms:created>
  <dc:creator>Angie Gore</dc:creator>
  <dc:description/>
  <dc:language>en-US</dc:language>
  <cp:lastModifiedBy>Angie Gore</cp:lastModifiedBy>
  <dcterms:modified xsi:type="dcterms:W3CDTF">2006-11-20T20:34:20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608612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