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applause.wav" ContentType="audio/x-wav"/>
  <Override PartName="/ppt/media/explod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0E81-8396-4C0A-AC16-DC54E724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330-B5B5-47F1-BB3E-D0133B88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A077-3747-4AEE-9270-E02AEF51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3C6-959B-44C7-AF55-1A008A65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C707-BFA2-430C-A425-22696BE2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4BF-93AD-43C2-8236-05553781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2FC5-2E06-42B1-94ED-A45CE57A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0E8A-6F6C-42D7-A2C5-29589076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3C8C-4ECF-4D68-8361-F144DE9D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A922-BACE-4540-834C-7BF6FA65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51CE-EF5F-49BF-A7A6-5468B750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572F-7F78-4C7F-AE4C-745FCFD0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2E7D-249B-4378-A8BF-9C91C9DA7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applaus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applaus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141300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Comic Sans MS"/>
              </a:rPr>
              <a:t>On the screens click on the number you think is the right answ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18900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Four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37372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32720" y="558972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our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148428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 x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371628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306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64500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537372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96360" y="479736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64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55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6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73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97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709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715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3.33333E-006 -0.00023 C 0.00555 0.01134 0.0118 0.01088 0.02031 0.01666 C 0.03107 0.02361 0.01823 0.01852 0.03125 0.02291 C 0.03646 0.02222 0.04184 0.02268 0.04687 0.02083 C 0.05225 0.01898 0.05694 0.01389 0.0625 0.0125 C 0.0868 0.00625 0.10937 -0.00417 0.13281 -0.01459 C 0.14045 -0.02246 0.14427 -0.02431 0.15312 -0.02894 C 0.16146 -0.04537 0.17326 -0.05764 0.18281 -0.07292 C 0.18906 -0.08241 0.19722 -0.09653 0.20156 -0.1081 C 0.20468 -0.11644 0.20659 -0.12338 0.21093 -0.13125 C 0.2158 -0.15047 0.20781 -0.12199 0.21718 -0.14352 C 0.21823 -0.14607 0.21788 -0.14931 0.21875 -0.15232 C 0.21996 -0.15625 0.2217 -0.16042 0.22343 -0.16435 C 0.22899 -0.17662 0.23472 -0.18889 0.23906 -0.20185 C 0.24618 -0.22315 0.25 -0.2463 0.25468 -0.26852 C 0.25521 -0.27408 0.25555 -0.27963 0.25625 -0.28519 C 0.25711 -0.29213 0.25937 -0.30602 0.25937 -0.30579 C 0.25781 -0.33797 0.25781 -0.36875 0.25312 -0.39977 C 0.2526 -0.40741 0.2526 -0.41528 0.25156 -0.42269 C 0.25052 -0.42917 0.24687 -0.44144 0.24687 -0.44121 C 0.24566 -0.45394 0.24514 -0.4669 0.24218 -0.47894 C 0.23889 -0.51042 0.23194 -0.53588 0.21875 -0.56227 C 0.2158 -0.56829 0.21406 -0.57894 0.20937 -0.5831 C 0.20399 -0.58773 0.19132 -0.59884 0.1875 -0.60394 C 0.18593 -0.60602 0.18472 -0.60857 0.18281 -0.61019 C 0.17882 -0.61343 0.17465 -0.61667 0.17031 -0.61852 C 0.16875 -0.61922 0.16701 -0.61968 0.16562 -0.6206 C 0.15972 -0.62454 0.16111 -0.62639 0.15468 -0.63102 C 0.14774 -0.63611 0.14409 -0.63565 0.13593 -0.63727 C 0.12795 -0.64352 0.12291 -0.64792 0.11406 -0.65185 C 0.11093 -0.65324 0.10468 -0.65602 0.10468 -0.65579 C 0.07968 -0.65463 0.05468 -0.65371 0.02968 -0.65185 C 0.02326 -0.65139 0.01093 -0.6456 0.01093 -0.64537 C 0.00382 -0.63843 -0.00452 -0.63334 -0.01094 -0.62477 C -0.01407 -0.6206 -0.01563 -0.61435 -0.01875 -0.61019 C -0.02379 -0.60347 0.00521 -0.60394 0.00521 -0.59861 E">
                                      <p:cBhvr>
                                        <p:cTn id="71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our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1484280"/>
            <a:ext cx="30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2 x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47640" y="371628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92360" y="306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64500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537372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96360" y="479736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72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73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741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747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753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759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765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771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77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89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4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795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4444 0.01157 0.03871 0.00648 0.11718 0.00833 C 0.2144 0.02106 0.31458 0.01019 0.4125 0.00208 C 0.41961 -0.00116 0.42708 -0.00694 0.43437 -0.00856 C 0.44895 -0.01111 0.47812 -0.01481 0.47812 -0.01481 C 0.4802 -0.01551 0.48229 -0.01574 0.48437 -0.0169 C 0.48645 -0.01806 0.48836 -0.02014 0.49062 -0.02083 C 0.50034 -0.02454 0.51041 -0.025 0.52031 -0.02708 C 0.53368 -0.03009 0.54583 -0.03565 0.55937 -0.03773 C 0.56805 -0.04259 0.57951 -0.04537 0.5875 -0.05231 C 0.59913 -0.06181 0.61093 -0.07106 0.62343 -0.0794 C 0.62847 -0.08264 0.63229 -0.08889 0.6375 -0.0919 C 0.64444 -0.09583 0.65416 -0.09954 0.66093 -0.10417 C 0.66822 -0.10972 0.67031 -0.11296 0.67656 -0.11898 C 0.68125 -0.12292 0.68663 -0.12593 0.69062 -0.13125 C 0.69982 -0.14375 0.70815 -0.15694 0.71718 -0.16898 C 0.71996 -0.17963 0.72447 -0.19097 0.72968 -0.2 C 0.73229 -0.21065 0.73715 -0.21921 0.74062 -0.22917 C 0.74618 -0.2456 0.74184 -0.24722 0.75156 -0.26667 C 0.75468 -0.27292 0.75815 -0.27894 0.76093 -0.28542 C 0.76666 -0.29907 0.76857 -0.31505 0.77343 -0.32917 C 0.78454 -0.36157 0.79496 -0.39468 0.80156 -0.4294 C 0.80052 -0.4537 0.79982 -0.47778 0.79843 -0.50208 C 0.79791 -0.51181 0.79496 -0.51852 0.79218 -0.52708 C 0.78541 -0.54838 0.78246 -0.57083 0.77187 -0.58958 C 0.76996 -0.59722 0.76666 -0.60324 0.76406 -0.61042 C 0.76284 -0.61366 0.7625 -0.61759 0.76093 -0.62083 C 0.75972 -0.62338 0.75746 -0.62477 0.75625 -0.62708 C 0.75052 -0.63773 0.75121 -0.65162 0.74062 -0.65625 C 0.72534 -0.67153 0.70434 -0.675 0.68593 -0.67708 C 0.66145 -0.68634 0.68854 -0.67685 0.66406 -0.68333 C 0.65989 -0.68449 0.65156 -0.6875 0.65156 -0.6875 C 0.62447 -0.68681 0.59652 -0.69282 0.57031 -0.68333 C 0.55833 -0.67894 0.54982 -0.66458 0.5375 -0.66042 C 0.52708 -0.64676 0.52916 -0.64051 0.52812 -0.61875 C 0.52916 -0.60579 0.53125 -0.59213 0.53125 -0.57917 E">
                                      <p:cBhvr>
                                        <p:cTn id="798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our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43280" y="148428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5 x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371628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06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64500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537372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96360" y="479736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5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6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80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4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815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0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821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2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833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39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6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857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86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869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4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75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1146 0.01019 0.02674 0.01667 0.03906 0.025 C 0.04132 0.02662 0.04288 0.02986 0.04531 0.03125 C 0.05295 0.03588 0.06962 0.04537 0.07813 0.04584 C 0.1 0.04723 0.12188 0.04723 0.14375 0.04792 C 0.18038 0.05602 0.21788 0.05 0.25469 0.04584 C 0.25677 0.04514 0.25885 0.04422 0.26094 0.04375 C 0.26563 0.04283 0.27031 0.04306 0.275 0.04167 C 0.27986 0.04028 0.28438 0.03704 0.28906 0.03542 C 0.29219 0.03426 0.29531 0.03403 0.29844 0.03334 C 0.30382 0.02871 0.30868 0.02338 0.31406 0.01875 C 0.31927 0.00834 0.32465 0.00764 0.33281 0 C 0.34462 -0.01088 0.35417 -0.02639 0.36406 -0.03958 C 0.36615 -0.04791 0.37431 -0.05717 0.37969 -0.0625 C 0.38559 -0.08588 0.40208 -0.10046 0.40938 -0.12291 C 0.41597 -0.14352 0.42101 -0.16782 0.425 -0.18958 C 0.4276 -0.20347 0.4283 -0.21736 0.43125 -0.23125 C 0.42847 -0.27639 0.42865 -0.31064 0.42656 -0.36041 C 0.42622 -0.37037 0.42309 -0.3912 0.41875 -0.4 C 0.41684 -0.41018 0.41771 -0.41713 0.40938 -0.42083 C 0.40712 -0.42685 0.4059 -0.43379 0.40313 -0.43958 C 0.40191 -0.44213 0.39965 -0.44352 0.39844 -0.44583 C 0.39618 -0.45023 0.39653 -0.45671 0.39375 -0.46041 C 0.38924 -0.46643 0.38212 -0.46689 0.37656 -0.47083 C 0.37066 -0.475 0.36736 -0.48055 0.36094 -0.48333 C 0.35399 -0.49259 0.34028 -0.50162 0.33125 -0.50625 C 0.32656 -0.50856 0.31719 -0.5125 0.31719 -0.5125 C 0.3092 -0.52037 0.30035 -0.52662 0.29063 -0.52916 C 0.28021 -0.53611 0.2724 -0.54074 0.26094 -0.54375 C 0.22674 -0.54236 0.21337 -0.54143 0.18594 -0.53541 C 0.17569 -0.52847 0.1651 -0.52083 0.15469 -0.51458 C 0.14427 -0.50833 0.13993 -0.50694 0.13281 -0.49375 C 0.12882 -0.48634 0.12378 -0.47847 0.12344 -0.46875 C 0.12292 -0.45347 0.12344 -0.43819 0.12344 -0.42291 E">
                                      <p:cBhvr>
                                        <p:cTn id="87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our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148428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8 x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47640" y="371628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2360" y="306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64500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537372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96360" y="479736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5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6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889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4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895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0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901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907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913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8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919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2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2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931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6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937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2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943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49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4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55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-3.33333E-006 -1.11111E-006 C 0.00417 0.02732 0.02032 0.03935 0.0375 0.05208 C 0.05348 0.06389 0.07605 0.08148 0.09375 0.0875 C 0.10556 0.09144 0.11233 0.09051 0.12657 0.09167 C 0.13368 0.09491 0.14132 0.09653 0.14844 0.1 C 0.16407 0.10741 0.16077 0.11088 0.17813 0.1125 C 0.19636 0.11412 0.21459 0.11528 0.23264 0.11875 C 0.23594 0.12014 0.25035 0.12685 0.25313 0.12708 C 0.27396 0.1294 0.31563 0.13125 0.31563 0.13148 C 0.38733 0.1419 0.46216 0.13519 0.53438 0.13333 C 0.58073 0.12523 0.56198 0.12824 0.61077 0.12083 C 0.62049 0.11945 0.62969 0.11829 0.63907 0.11458 C 0.64219 0.11343 0.64532 0.11204 0.64844 0.11042 C 0.65052 0.10926 0.65243 0.10718 0.65469 0.10625 C 0.67414 0.09769 0.66042 0.10648 0.675 0.09792 C 0.68247 0.09352 0.68837 0.08658 0.69532 0.08125 C 0.71893 0.0632 0.74462 0.04954 0.7625 0.02083 C 0.76667 0.01412 0.77466 0.00162 0.77657 -0.00625 C 0.77848 -0.01412 0.78125 -0.02616 0.78438 -0.03333 C 0.78698 -0.03935 0.7908 -0.04421 0.79375 -0.05 C 0.79688 -0.06481 0.80139 -0.07893 0.80782 -0.09167 C 0.81164 -0.1125 0.80608 -0.08449 0.81407 -0.1125 C 0.8191 -0.12986 0.8217 -0.14884 0.825 -0.16667 C 0.829 -0.21435 0.83577 -0.26736 0.82344 -0.3125 C 0.81736 -0.33472 0.80608 -0.34028 0.79219 -0.35208 C 0.78872 -0.35509 0.78629 -0.35949 0.78282 -0.3625 C 0.7757 -0.36852 0.76823 -0.37361 0.76094 -0.37917 C 0.75278 -0.38542 0.74289 -0.38634 0.73438 -0.39167 C 0.69514 -0.41597 0.76545 -0.37847 0.70313 -0.41042 C 0.68785 -0.41829 0.65469 -0.41597 0.64375 -0.41667 C 0.62813 -0.42176 0.61945 -0.42014 0.60157 -0.41875 C 0.59653 -0.41435 0.59028 -0.41157 0.58594 -0.40625 C 0.58594 -0.40602 0.5724 -0.38819 0.56858 -0.38333 C 0.56684 -0.38079 0.5658 -0.37755 0.56407 -0.375 C 0.56111 -0.3706 0.55469 -0.3625 0.55469 -0.36227 C 0.55278 -0.35579 0.5717 -0.32731 0.57136 -0.32153 C 0.5783 -0.31481 0.59948 -0.3206 0.59618 -0.32153 C 0.59323 -0.32245 0.56198 -0.32592 0.55295 -0.32708 E">
                                      <p:cBhvr>
                                        <p:cTn id="958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our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148428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  x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47640" y="371628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92360" y="306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64500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37372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96360" y="479736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Motion origin="layout" path="M 0.00903 -0.0044 C 0.11562 -0.00046 0.03212 -0.14861 0.17847 -0.15764 C 0.18819 -0.15787 0.2033 -0.16736 0.21389 -0.16898 C 0.23212 -0.1757 0.24931 -0.18264 0.26736 -0.19005 C 0.27587 -0.19954 0.28524 -0.20556 0.29601 -0.2088 C 0.30434 -0.21667 0.31302 -0.22269 0.32153 -0.22963 C 0.33385 -0.23982 0.34549 -0.25116 0.35885 -0.25787 C 0.36962 -0.26968 0.37656 -0.28426 0.38785 -0.29514 C 0.4026 -0.32408 0.38437 -0.28959 0.39757 -0.3088 C 0.40295 -0.3169 0.40399 -0.32408 0.41024 -0.33009 C 0.41128 -0.33195 0.41267 -0.33449 0.41354 -0.33658 C 0.41424 -0.33912 0.41424 -0.34167 0.41528 -0.34398 C 0.4191 -0.35278 0.42378 -0.36088 0.4283 -0.36945 C 0.43125 -0.37546 0.43594 -0.3882 0.43594 -0.38773 C 0.43889 -0.41343 0.4349 -0.39213 0.44271 -0.41111 C 0.44497 -0.41759 0.44878 -0.43009 0.44878 -0.42986 C 0.44983 -0.43704 0.45382 -0.44375 0.45399 -0.4507 C 0.45521 -0.5007 0.45694 -0.49213 0.44878 -0.51875 C 0.44774 -0.52847 0.4467 -0.54676 0.44115 -0.55347 C 0.43958 -0.55486 0.43767 -0.55463 0.43594 -0.55625 C 0.43056 -0.55996 0.42604 -0.56459 0.41997 -0.5669 C 0.40538 -0.56621 0.4 -0.56459 0.38785 -0.56088 C 0.38437 -0.55255 0.38177 -0.54746 0.37483 -0.54445 C 0.3717 -0.54097 0.31372 -0.51921 0.31372 -0.51898 E">
                                      <p:cBhvr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our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148428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7 x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47640" y="371628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64500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537372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96360" y="479736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157 -0.00139 0.00295 -0.00347 0.00469 -0.00416 C 0.00764 -0.00555 0.01129 -0.00439 0.01407 -0.00625 C 0.0158 -0.0074 0.0158 -0.01088 0.01719 -0.0125 C 0.01893 -0.01458 0.02136 -0.01527 0.02344 -0.01666 C 0.02743 -0.02477 0.03299 -0.02963 0.0375 -0.0375 C 0.04167 -0.05393 0.03542 -0.03217 0.04375 -0.05 C 0.04948 -0.06227 0.04479 -0.05694 0.04844 -0.06666 C 0.05035 -0.07176 0.05278 -0.07615 0.05469 -0.08125 C 0.0566 -0.10439 0.05747 -0.13287 0.04844 -0.15416 C 0.04271 -0.16759 0.04479 -0.15787 0.0375 -0.17083 C 0.03091 -0.1824 0.02761 -0.19537 0.01875 -0.20416 C 0.01667 -0.2125 0.01476 -0.21597 0.00938 -0.22083 C 0.00782 -0.22731 0.00591 -0.23611 0.00313 -0.24166 C 0.00191 -0.24421 -0.00034 -0.24537 -0.00156 -0.24791 C -0.00764 -0.26064 -0.00764 -0.275 -0.01718 -0.28333 C -0.01962 -0.29328 -0.02691 -0.29953 -0.03437 -0.30208 C -0.04409 -0.31504 -0.06632 -0.31574 -0.07968 -0.31875 C -0.08767 -0.32291 -0.09635 -0.33055 -0.10468 -0.33333 C -0.10868 -0.33472 -0.11302 -0.33449 -0.11718 -0.33541 C -0.12916 -0.33796 -0.14132 -0.34398 -0.15312 -0.34791 C -0.24791 -0.3456 -0.2217 -0.37106 -0.25312 -0.32916 C -0.25573 -0.31898 -0.26146 -0.31227 -0.26406 -0.30208 C -0.26337 -0.29236 -0.26007 -0.27847 -0.2625 -0.26875 C -0.26076 -0.25926 -0.25538 -0.22916 -0.24531 -0.22916 E">
                                      <p:cBhvr>
                                        <p:cTn id="159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our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148428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3 x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47640" y="371628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360" y="306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64500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537372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96360" y="479736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Motion origin="layout" path="M 2.5E-006 -1.85185E-006 C 0.046 -0.00231 0.07413 -0.0037 0.11406 -0.01041 C 0.12222 -0.01759 0.13055 -0.01805 0.13906 -0.02291 C 0.14427 -0.02592 0.14878 -0.03055 0.15469 -0.03148 C 0.17552 -0.03379 0.21719 -0.03541 0.21719 -0.03518 C 0.23698 -0.04074 0.21562 -0.03379 0.22969 -0.04166 C 0.24844 -0.05231 0.26423 -0.05254 0.27812 -0.07708 C 0.28055 -0.08657 0.28194 -0.09329 0.28594 -0.10208 C 0.28559 -0.11991 0.29062 -0.20023 0.27656 -0.225 C 0.27604 -0.22824 0.27413 -0.24699 0.27031 -0.25208 C 0.26771 -0.25555 0.26406 -0.25764 0.26094 -0.26041 C 0.25885 -0.26227 0.25712 -0.26551 0.25469 -0.26666 C 0.25069 -0.26852 0.24635 -0.26805 0.24219 -0.26875 C 0.23489 -0.27523 0.22569 -0.27662 0.21719 -0.27916 C 0.20798 -0.28194 0.19982 -0.28704 0.19062 -0.28958 C 0.17135 -0.30671 0.13559 -0.30046 0.1125 -0.30208 C 0.09844 -0.30509 0.08403 -0.30602 0.07031 -0.3 C 0.06719 -0.29583 0.06406 -0.29166 0.06094 -0.2875 C 0.05937 -0.28541 0.05659 -0.28495 0.05469 -0.28333 C 0.05191 -0.28079 0.04913 -0.27824 0.04687 -0.275 C 0.04444 -0.27129 0.04062 -0.2625 0.04062 -0.26227 C 0.04132 -0.25278 0.05625 -0.22616 0.05625 -0.21643 C 0.05625 -0.21157 0.04219 -0.21875 0.04219 -0.21852 E">
                                      <p:cBhvr>
                                        <p:cTn id="17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our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3280" y="148428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1 x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47640" y="371628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92360" y="306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64500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537372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96360" y="479736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2569 0.00625 0.01146 0.00231 0.04219 0.0125 C 0.05382 0.01643 0.06615 0.01389 0.07813 0.01458 C 0.09913 0.02106 0.11649 0.02615 0.1375 0.02916 C 0.20139 0.02731 0.26892 0.01875 0.33125 0.03518 C 0.33872 0.04282 0.34288 0.04259 0.35156 0.04583 C 0.35469 0.04699 0.36094 0.05 0.36094 0.05 C 0.46337 0.04907 0.57205 0.05185 0.67656 0.04375 C 0.69028 0.04259 0.7066 0.02939 0.72031 0.025 C 0.73038 0.01736 0.73958 0.01319 0.75 0.00625 C 0.7533 0.00393 0.75625 0.00069 0.75938 -0.00209 C 0.76094 -0.00348 0.76406 -0.00625 0.76406 -0.00625 C 0.77083 -0.01968 0.78056 -0.03148 0.78594 -0.04584 C 0.79132 -0.05996 0.79462 -0.07408 0.80313 -0.08542 C 0.80365 -0.08889 0.80365 -0.0926 0.80469 -0.09584 C 0.80625 -0.10047 0.81094 -0.10834 0.81094 -0.10834 C 0.81146 -0.11111 0.81163 -0.11412 0.8125 -0.11667 C 0.81319 -0.11898 0.81493 -0.12061 0.81563 -0.12292 C 0.81701 -0.12824 0.81771 -0.13403 0.81875 -0.13959 C 0.81927 -0.14236 0.82031 -0.14792 0.82031 -0.14792 C 0.81979 -0.15486 0.82083 -0.16227 0.81875 -0.16875 C 0.81528 -0.1794 0.81007 -0.17963 0.80469 -0.18542 C 0.79219 -0.19931 0.7816 -0.20834 0.76563 -0.2125 C 0.75764 -0.22315 0.75608 -0.22292 0.74375 -0.225 C 0.73333 -0.22963 0.72483 -0.23681 0.71406 -0.23959 C 0.69115 -0.23889 0.66823 -0.23936 0.64531 -0.2375 C 0.64201 -0.23727 0.63924 -0.23357 0.63594 -0.23334 C 0.62656 -0.23264 0.61719 -0.23195 0.60781 -0.23125 C 0.60069 -0.22639 0.59358 -0.22547 0.58594 -0.22292 C 0.57517 -0.21436 0.58108 -0.21806 0.56875 -0.2125 C 0.56719 -0.21181 0.56406 -0.21042 0.56406 -0.21042 C 0.5566 -0.19537 0.56042 -0.20139 0.55313 -0.19167 C 0.55139 -0.1838 0.54878 -0.17848 0.54688 -0.17084 C 0.54896 -0.14977 0.54479 -0.15973 0.55313 -0.15417 C 0.5599 -0.14954 0.55538 -0.15 0.55938 -0.15 E">
                                      <p:cBhvr>
                                        <p:cTn id="31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our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148428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2 x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371628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2360" y="306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64500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537372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96360" y="479736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903 0.00301 0.01354 0.01158 0.02344 0.0125 C 0.0842 0.01875 0.14532 0.01574 0.20625 0.01667 C 0.22535 0.02315 0.25799 0.01551 0.27657 0.01459 C 0.29688 0.01042 0.31719 0.00857 0.3375 0.00417 C 0.34549 -0.00277 0.35434 -0.00231 0.3625 -0.00833 C 0.3717 -0.01527 0.37847 -0.02361 0.38907 -0.02708 C 0.39636 -0.0368 0.39184 -0.03171 0.40313 -0.04166 C 0.40469 -0.04305 0.40782 -0.04583 0.40782 -0.04583 C 0.41545 -0.06111 0.42709 -0.07314 0.43594 -0.0875 C 0.44115 -0.09583 0.44341 -0.10625 0.44844 -0.11458 C 0.4507 -0.11852 0.454 -0.12106 0.45625 -0.125 C 0.46042 -0.13194 0.46146 -0.14051 0.46563 -0.14791 C 0.4691 -0.17152 0.46754 -0.1618 0.47032 -0.17708 C 0.4691 -0.20416 0.47014 -0.22014 0.45938 -0.24166 C 0.45538 -0.26805 0.42969 -0.29467 0.4125 -0.30625 C 0.40799 -0.31504 0.4 -0.31805 0.39375 -0.325 C 0.37691 -0.34352 0.36893 -0.34884 0.34688 -0.35208 C 0.3066 -0.35069 0.26667 -0.34884 0.22657 -0.34583 C 0.21615 -0.3412 0.20104 -0.32592 0.19375 -0.31458 C 0.18889 -0.30717 0.1882 -0.30092 0.18125 -0.29791 C 0.17552 -0.28657 0.17413 -0.28125 0.17032 -0.26875 C 0.17101 -0.25486 0.16597 -0.23032 0.17813 -0.225 C 0.1915 -0.22939 0.19063 -0.2324 0.19063 -0.25 E">
                                      <p:cBhvr>
                                        <p:cTn id="39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our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43280" y="148428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9 x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371628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306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64500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37372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96360" y="479736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347 0.01365 0.01702 0.02546 0.02657 0.03125 C 0.03768 0.03819 0.04879 0.04676 0.06094 0.05 C 0.07379 0.05347 0.08716 0.05486 0.1 0.05833 C 0.11493 0.06828 0.10799 0.06551 0.12032 0.06875 C 0.13073 0.07569 0.14115 0.08264 0.15157 0.08958 C 0.16042 0.0956 0.17188 0.09583 0.18125 0.1 C 0.22014 0.13889 0.29028 0.13402 0.33438 0.1375 C 0.34688 0.13958 0.35382 0.14467 0.36563 0.14791 C 0.37622 0.15509 0.38785 0.15764 0.39844 0.16458 C 0.42448 0.16389 0.45035 0.16389 0.47657 0.1625 C 0.4849 0.16203 0.49011 0.15439 0.49688 0.15 C 0.50486 0.14467 0.51476 0.13981 0.52344 0.1375 C 0.53247 0.13148 0.54097 0.12477 0.55 0.11875 C 0.55764 0.11365 0.56615 0.11134 0.57344 0.10416 C 0.58004 0.09768 0.58542 0.08935 0.59219 0.08333 C 0.60382 0.06018 0.5842 0.09791 0.60157 0.07083 C 0.60313 0.06852 0.6033 0.06504 0.60469 0.0625 C 0.6132 0.04676 0.62379 0.03148 0.63125 0.01458 C 0.63507 0.00602 0.63716 -0.00371 0.64063 -0.0125 C 0.64445 -0.02176 0.64844 -0.02986 0.65157 -0.03959 C 0.65504 -0.0507 0.65747 -0.06065 0.6625 -0.07084 C 0.66667 -0.09352 0.67657 -0.11852 0.68438 -0.13959 C 0.68646 -0.15672 0.69271 -0.17107 0.69688 -0.1875 C 0.69827 -0.20348 0.70018 -0.21644 0.70469 -0.23125 C 0.70851 -0.26621 0.71077 -0.275 0.70625 -0.31667 C 0.70521 -0.32662 0.6908 -0.35301 0.68594 -0.36042 C 0.67969 -0.36991 0.6691 -0.37361 0.66094 -0.37917 C 0.65521 -0.39051 0.64184 -0.39329 0.63282 -0.4 C 0.61736 -0.41135 0.60157 -0.42547 0.58438 -0.43125 C 0.56007 -0.43936 0.53143 -0.43936 0.50625 -0.44167 C 0.48959 -0.44098 0.47292 -0.44144 0.45608 -0.43959 C 0.44896 -0.43889 0.44323 -0.43218 0.4375 -0.42709 C 0.43021 -0.42061 0.42587 -0.42199 0.41875 -0.41875 C 0.41233 -0.41598 0.40643 -0.41111 0.4 -0.40834 C 0.39427 -0.37801 0.39375 -0.37292 0.39375 -0.3375 E">
                                      <p:cBhvr>
                                        <p:cTn id="47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our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148428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4 x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371628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92360" y="306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64500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537372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96360" y="479736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1389 0.00625 0.00608 0.00463 0.02344 0.00208 C 0.02552 0.00139 0.02795 0.00162 0.02969 0 C 0.03472 -0.00463 0.03542 -0.01782 0.03906 -0.025 C 0.04253 -0.04861 0.04097 -0.03889 0.04375 -0.05417 C 0.05191 -0.16319 0.05938 -0.27593 0.04219 -0.38333 C 0.03767 -0.41134 0.0316 -0.43843 0.02813 -0.46667 C 0.02778 -0.47014 0.02465 -0.47199 0.02344 -0.475 C 0.0184 -0.48704 0.01441 -0.50023 0.00938 -0.5125 C 0.00191 -0.53102 -0.00191 -0.54444 -0.01875 -0.55 C -0.0217 -0.56204 -0.03403 -0.56319 -0.04219 -0.56875 C -0.07031 -0.5875 -0.0967 -0.59352 -0.12812 -0.59583 C -0.15365 -0.59514 -0.17917 -0.59514 -0.20469 -0.59375 C -0.21372 -0.59329 -0.21892 -0.56759 -0.22969 -0.56042 C -0.23385 -0.55208 -0.23646 -0.54329 -0.24062 -0.53542 C -0.24323 -0.53056 -0.24792 -0.52685 -0.24844 -0.52083 C -0.24931 -0.50903 -0.24844 -0.49722 -0.24844 -0.48542 E">
                                      <p:cBhvr>
                                        <p:cTn id="55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our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3280" y="148428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0 x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371628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306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64500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537372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96360" y="479736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60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61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2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1528 0.00671 -0.00625 -0.00417 0.00782 0.00833 C 0.00955 0.00995 0.01198 0.00949 0.01407 0.01041 C 0.02118 0.01365 0.02709 0.01852 0.03438 0.02083 C 0.05157 0.01828 0.06493 0.01597 0.08282 0.01458 C 0.09427 0.0125 0.1092 0.01689 0.11719 0.00416 C 0.12136 -0.00255 0.12587 -0.00718 0.12969 -0.01459 C 0.13177 -0.01875 0.13594 -0.02709 0.13594 -0.02709 C 0.1382 -0.03936 0.1408 -0.04653 0.14532 -0.05834 C 0.14931 -0.06875 0.15035 -0.08241 0.15157 -0.09375 C 0.15209 -0.10764 0.15226 -0.12153 0.15313 -0.13542 C 0.15469 -0.16181 0.16407 -0.19375 0.17032 -0.21875 C 0.17188 -0.23658 0.17518 -0.24861 0.17657 -0.26667 C 0.17552 -0.29375 0.17466 -0.32084 0.17344 -0.34792 C 0.1724 -0.37269 0.17709 -0.36852 0.16719 -0.37292 C 0.1632 -0.38357 0.15799 -0.39236 0.15313 -0.40209 C 0.15157 -0.4125 0.15157 -0.41736 0.14375 -0.42084 C 0.13959 -0.43172 0.13716 -0.43773 0.12813 -0.44167 C 0.12136 -0.45695 0.11632 -0.47176 0.10782 -0.48542 C 0.09132 -0.51158 0.05 -0.51297 0.02813 -0.51459 C 0.01094 -0.51922 0.00955 -0.52014 -0.01718 -0.51875 C -0.01909 -0.51875 -0.02014 -0.51551 -0.02187 -0.51459 C -0.02482 -0.51273 -0.02812 -0.51181 -0.03125 -0.51042 C -0.03698 -0.50787 -0.03871 -0.50926 -0.04375 -0.50417 C -0.04618 -0.50186 -0.04774 -0.49838 -0.05 -0.49584 C -0.05139 -0.49422 -0.05312 -0.49306 -0.05468 -0.49167 C -0.05625 -0.38403 -0.05625 -0.35556 -0.05625 -0.40625 E">
                                      <p:cBhvr>
                                        <p:cTn id="638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6:42:41Z</dcterms:created>
  <dc:creator>Angie Gore</dc:creator>
  <dc:description/>
  <dc:language>en-US</dc:language>
  <cp:lastModifiedBy>Angie Gore</cp:lastModifiedBy>
  <dcterms:modified xsi:type="dcterms:W3CDTF">2006-11-20T20:38:09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12455378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