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C0B-3EDC-4CD1-853C-11A2CDAF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14F-08BF-4096-99F9-1E1BFD11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CCA-EDB6-4F1D-B052-5360516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22F-49CE-4419-9139-60E837AD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0BD-4E23-442C-AEE1-99FC11D8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5F6-616E-45AC-AC82-AB24C650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0AC-C640-4CE2-9329-F56D1951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2E3-1FFF-45D4-B44D-EC513DB4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943-7270-47EF-A255-E7DC7ED6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26B-75E1-4B44-B8BF-F7E26BCB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3CB-DC8E-4472-B049-A7B48A4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FE0-D0B5-4EC9-B40D-7FA66B3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DC2E-CEAC-4B67-8687-15C441EB2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hre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5661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26 -0.02408 0.00278 -0.05301 0.01094 -0.075 C 0.01389 -0.09422 0.01458 -0.10162 0.01563 -0.125 C 0.0151 -0.18125 0.01493 -0.2375 0.01406 -0.29375 C 0.01372 -0.3213 0.01458 -0.35718 0.00469 -0.38334 C 0.00035 -0.39491 -0.00625 -0.40209 -0.00937 -0.41459 C -0.01389 -0.43241 -0.01892 -0.45996 -0.03125 -0.47084 C -0.04201 -0.49236 -0.05434 -0.51598 -0.07031 -0.53125 C -0.07691 -0.5375 -0.09062 -0.54375 -0.09844 -0.54792 C -0.09948 -0.5507 -0.09983 -0.55417 -0.10156 -0.55625 C -0.10451 -0.55949 -0.10868 -0.56019 -0.1125 -0.56042 C -0.13073 -0.56181 -0.14896 -0.56181 -0.16719 -0.5625 C -0.17396 -0.56204 -0.20833 -0.55973 -0.21719 -0.55834 C -0.22604 -0.55695 -0.23472 -0.55162 -0.24375 -0.55 C -0.25868 -0.54329 -0.26562 -0.52686 -0.27031 -0.50834 C -0.27135 -0.5044 -0.27187 -0.49769 -0.27344 -0.49375 C -0.27951 -0.47755 -0.27413 -0.49699 -0.27812 -0.48125 C -0.27951 -0.46783 -0.28559 -0.44375 -0.27812 -0.43125 C -0.27535 -0.42639 -0.26944 -0.42547 -0.26562 -0.42292 E">
                                      <p:cBhvr>
                                        <p:cTn id="71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25 0.00833 0.02534 0.0081 0.03906 0.01041 C 0.1592 0.00879 0.27847 0.00277 0.39844 0 C 0.43142 -0.00324 0.46389 -0.01366 0.49687 -0.01875 C 0.5118 -0.02662 0.52743 -0.03148 0.54219 -0.03982 C 0.55243 -0.04537 0.56267 -0.05186 0.57344 -0.05648 C 0.60139 -0.06736 0.62864 -0.07824 0.65312 -0.10023 C 0.66267 -0.10857 0.67396 -0.1125 0.68281 -0.12292 C 0.68472 -0.12523 0.68559 -0.12871 0.6875 -0.13125 C 0.69462 -0.14098 0.70278 -0.15 0.70937 -0.16042 C 0.71545 -0.17014 0.71562 -0.17755 0.72344 -0.18542 C 0.72448 -0.1882 0.72534 -0.19121 0.72656 -0.19375 C 0.72951 -0.19954 0.73594 -0.21042 0.73594 -0.21042 C 0.7401 -0.22686 0.73385 -0.2051 0.74219 -0.22292 C 0.74583 -0.23079 0.74583 -0.23982 0.74844 -0.24792 C 0.74913 -0.25023 0.75069 -0.25186 0.75156 -0.25417 C 0.75278 -0.25741 0.75382 -0.26111 0.75469 -0.26459 C 0.75972 -0.28496 0.76302 -0.30556 0.77031 -0.325 C 0.77222 -0.34885 0.77864 -0.37292 0.78437 -0.39584 C 0.78524 -0.40417 0.78767 -0.4125 0.7875 -0.42084 C 0.78698 -0.4507 0.78698 -0.48079 0.78437 -0.51042 C 0.7835 -0.51968 0.77812 -0.52709 0.775 -0.53542 C 0.7684 -0.55301 0.76128 -0.56991 0.75469 -0.5875 C 0.75121 -0.59676 0.75104 -0.60301 0.74375 -0.60625 C 0.73298 -0.62061 0.7184 -0.62639 0.70469 -0.63334 C 0.69896 -0.63611 0.6934 -0.64121 0.6875 -0.64375 C 0.67899 -0.64746 0.66962 -0.64699 0.66094 -0.65 C 0.5835 -0.64815 0.59653 -0.65023 0.55312 -0.64375 C 0.53871 -0.63727 0.56111 -0.64792 0.54219 -0.63542 C 0.53923 -0.63357 0.53594 -0.63264 0.53281 -0.63125 C 0.52969 -0.62986 0.52344 -0.62709 0.52344 -0.62709 C 0.51927 -0.61875 0.51701 -0.62014 0.51094 -0.61459 C 0.50989 -0.6088 0.50642 -0.60394 0.50625 -0.59792 C 0.5059 -0.59051 0.50503 -0.55579 0.5125 -0.54584 C 0.5151 -0.54236 0.52066 -0.53959 0.52344 -0.5375 C 0.53038 -0.53218 0.52534 -0.53334 0.53281 -0.53334 E">
                                      <p:cBhvr>
                                        <p:cTn id="79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468 -0.00162 0.00954 -0.00208 0.01406 -0.00417 C 0.02204 -0.00764 0.02934 -0.01366 0.0375 -0.01667 C 0.05034 -0.02153 0.06319 -0.02639 0.075 -0.03542 C 0.08732 -0.04491 0.07152 -0.03356 0.08437 -0.04583 C 0.0901 -0.05139 0.09756 -0.05417 0.10312 -0.06042 C 0.11232 -0.0706 0.11215 -0.08727 0.12187 -0.09583 C 0.12656 -0.11435 0.13784 -0.12917 0.14531 -0.14583 C 0.15381 -0.16481 0.1585 -0.18704 0.16718 -0.20625 C 0.17031 -0.22292 0.17552 -0.23356 0.17968 -0.25 C 0.18506 -0.2713 0.18298 -0.29444 0.19062 -0.31458 C 0.19166 -0.33889 0.1927 -0.36042 0.19843 -0.38333 C 0.20208 -0.43588 0.20746 -0.50463 0.17656 -0.54583 C 0.17447 -0.55694 0.17274 -0.57106 0.16406 -0.575 C 0.16059 -0.58866 0.15781 -0.59514 0.14687 -0.6 C 0.13975 -0.60718 0.12673 -0.61227 0.12187 -0.61875 C 0.11128 -0.63287 0.12413 -0.61736 0.10937 -0.62917 C 0.10017 -0.63657 0.09322 -0.64537 0.08281 -0.65 C 0.05364 -0.64931 0.02447 -0.64977 -0.00469 -0.64792 C -0.01962 -0.64699 -0.03889 -0.6375 -0.05313 -0.63125 C -0.05834 -0.62894 -0.0632 -0.62338 -0.06875 -0.62083 C -0.07032 -0.61875 -0.07153 -0.6162 -0.07344 -0.61458 C -0.07744 -0.61134 -0.08594 -0.60625 -0.08594 -0.60625 C -0.09011 -0.58426 -0.08941 -0.58102 -0.09063 -0.55 C -0.08855 -0.49306 -0.09948 -0.50324 -0.08438 -0.50833 C -0.08386 -0.50856 -0.08334 -0.50833 -0.08282 -0.50833 E">
                                      <p:cBhvr>
                                        <p:cTn id="87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344 0.01551 0.00868 0.00648 0.03594 0.02084 C 0.04115 0.02361 0.04601 0.02871 0.05156 0.02917 C 0.06094 0.02986 0.07031 0.03056 0.07969 0.03125 C 0.21597 0.02824 0.33733 0.02292 0.46875 0.01667 C 0.5276 0.00625 0.58767 0.00371 0.64688 0.00209 C 0.6651 0.00023 0.68351 -0.00023 0.70156 -0.00416 C 0.7099 -0.00879 0.71806 -0.01296 0.72656 -0.01666 C 0.7316 -0.01898 0.74063 -0.02708 0.74063 -0.02708 C 0.74271 -0.03518 0.74722 -0.03842 0.75 -0.04583 C 0.75174 -0.05046 0.75295 -0.05578 0.75469 -0.06041 C 0.75712 -0.07477 0.76076 -0.08449 0.76406 -0.09791 C 0.76545 -0.10324 0.76719 -0.11458 0.76719 -0.11458 C 0.76667 -0.1412 0.77691 -0.20324 0.74688 -0.21666 C 0.73438 -0.22916 0.72778 -0.23125 0.7125 -0.23333 C 0.69792 -0.24791 0.67396 -0.24328 0.65625 -0.24583 C 0.63854 -0.24514 0.62083 -0.2456 0.60313 -0.24375 C 0.59931 -0.24328 0.58333 -0.23032 0.57969 -0.22708 C 0.57813 -0.22569 0.575 -0.22291 0.575 -0.22291 C 0.57257 -0.21805 0.56927 -0.21365 0.56719 -0.20833 C 0.5658 -0.20439 0.56406 -0.19583 0.56406 -0.19583 C 0.56337 -0.17037 0.57483 -0.125 0.54688 -0.125 E">
                                      <p:cBhvr>
                                        <p:cTn id="95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4.44444E-006 1.68019E-006 C 0.10659 0.00394 0.11857 0.00649 0.26493 -0.00255 C 0.27465 -0.00278 0.28975 -0.01228 0.30034 -0.01391 C 0.31857 -0.02063 0.33576 -0.02758 0.35382 -0.035 C 0.36232 -0.0445 0.3717 -0.05052 0.38246 -0.05377 C 0.39079 -0.06165 0.39947 -0.06767 0.40798 -0.07463 C 0.42031 -0.08482 0.43194 -0.09618 0.44531 -0.10267 C 0.45607 -0.11449 0.46302 -0.12909 0.4743 -0.13998 C 0.48906 -0.16895 0.47083 -0.13442 0.48402 -0.15365 C 0.48941 -0.16176 0.49045 -0.16895 0.4967 -0.17497 C 0.49774 -0.17683 0.49913 -0.17938 0.5 -0.18146 C 0.50069 -0.18401 0.50069 -0.18656 0.50173 -0.18888 C 0.50555 -0.19768 0.51024 -0.2058 0.51475 -0.21437 C 0.5177 -0.2204 0.52239 -0.23314 0.52239 -0.23268 C 0.52534 -0.2584 0.52135 -0.23708 0.52916 -0.25609 C 0.53142 -0.26257 0.53524 -0.27509 0.53524 -0.27486 C 0.53628 -0.28204 0.54027 -0.28876 0.54045 -0.29571 C 0.54166 -0.34554 0.5434 -0.33697 0.53524 -0.36362 C 0.5342 -0.37335 0.53316 -0.39166 0.5276 -0.39838 C 0.52604 -0.39977 0.52413 -0.39954 0.52239 -0.40116 C 0.51701 -0.40487 0.5125 -0.4095 0.50642 -0.41182 C 0.49184 -0.41113 0.48645 -0.4095 0.4743 -0.4058 C 0.47083 -0.39745 0.46822 -0.39235 0.46128 -0.38934 C 0.45816 -0.38586 0.45138 -0.37984 0.45138 -0.37961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337 0.00602 0.02014 0.0037 0.03594 0.00231 C 0.04341 0 0.04775 -0.00255 0.05469 -0.00602 C 0.06702 -0.01204 0.08091 -0.01458 0.09375 -0.01644 C 0.10295 -0.02083 0.11233 -0.02269 0.12188 -0.025 C 0.14288 -0.03889 0.11163 -0.01898 0.13594 -0.03125 C 0.13768 -0.03195 0.13889 -0.03426 0.14063 -0.03519 C 0.15104 -0.04074 0.16407 -0.04259 0.175 -0.0456 C 0.18594 -0.05533 0.20052 -0.05996 0.21094 -0.0706 C 0.21563 -0.07546 0.22032 -0.08033 0.225 -0.08519 C 0.2533 -0.11482 0.22865 -0.09699 0.24532 -0.1081 C 0.25122 -0.12361 0.24462 -0.11065 0.25469 -0.12083 C 0.26111 -0.12708 0.26268 -0.13611 0.27032 -0.13935 C 0.27622 -0.15 0.28368 -0.15741 0.29063 -0.16644 C 0.29636 -0.17408 0.29479 -0.17616 0.3 -0.18519 C 0.30972 -0.20185 0.30347 -0.18403 0.3125 -0.20602 C 0.31719 -0.21736 0.32292 -0.2294 0.32657 -0.24144 C 0.33073 -0.25509 0.33247 -0.26921 0.33907 -0.28102 C 0.34063 -0.29097 0.34254 -0.29861 0.34532 -0.3081 C 0.3467 -0.32431 0.34861 -0.34028 0.35157 -0.35602 C 0.35104 -0.38033 0.35087 -0.40463 0.35 -0.42894 C 0.34966 -0.43889 0.34584 -0.44884 0.34375 -0.4581 C 0.34045 -0.47315 0.33802 -0.48912 0.33438 -0.50394 C 0.33125 -0.51621 0.32205 -0.53704 0.31719 -0.54977 C 0.31354 -0.55972 0.31511 -0.55972 0.31094 -0.56852 C 0.30625 -0.57824 0.30608 -0.57454 0.30313 -0.58519 C 0.30087 -0.59306 0.30295 -0.59583 0.29688 -0.60185 C 0.29271 -0.60602 0.28716 -0.60648 0.28282 -0.61019 C 0.27743 -0.61482 0.26684 -0.62732 0.26094 -0.62894 C 0.24792 -0.63241 0.25573 -0.63056 0.2375 -0.6331 C 0.21042 -0.63241 0.18334 -0.63287 0.15625 -0.63102 C 0.14063 -0.62986 0.12483 -0.61736 0.10938 -0.61227 C 0.10417 -0.60764 0.09896 -0.60787 0.09375 -0.60394 C 0.09045 -0.60139 0.08438 -0.5956 0.08438 -0.5956 C 0.07726 -0.58148 0.07813 -0.57708 0.07344 -0.56227 C 0.0691 -0.54861 0.06441 -0.53472 0.06094 -0.5206 C 0.05851 -0.51065 0.06094 -0.49977 0.06094 -0.48935 E">
                                      <p:cBhvr>
                                        <p:cTn id="15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98900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8143 0.00301 0.16216 -0.00093 0.24375 0.00208 C 0.27188 0.01273 0.25087 0.00694 0.30782 -0.00208 C 0.33802 -0.00671 0.31198 -0.00532 0.34375 -0.0125 C 0.3592 -0.01597 0.37518 -0.01528 0.39063 -0.01875 C 0.40486 -0.02199 0.41702 -0.02894 0.43125 -0.03125 C 0.45 -0.0419 0.47188 -0.04444 0.49219 -0.04792 C 0.51441 -0.05787 0.48872 -0.04769 0.53282 -0.05417 C 0.54775 -0.05648 0.56302 -0.06204 0.57813 -0.06458 C 0.59115 -0.06991 0.62066 -0.07384 0.63125 -0.08333 C 0.64427 -0.09491 0.65851 -0.1037 0.67188 -0.11458 C 0.68073 -0.12176 0.69011 -0.1287 0.69688 -0.13958 C 0.70868 -0.15856 0.72049 -0.17847 0.72969 -0.2 C 0.73438 -0.21088 0.73854 -0.22292 0.74375 -0.23333 C 0.74757 -0.26366 0.7507 -0.28819 0.73594 -0.31458 C 0.73282 -0.32014 0.72969 -0.32569 0.72657 -0.33125 C 0.72518 -0.3338 0.725 -0.3375 0.72344 -0.33958 C 0.72222 -0.3412 0.72032 -0.34097 0.71875 -0.34167 C 0.71389 -0.35023 0.70903 -0.3537 0.70313 -0.36042 C 0.69462 -0.36991 0.68663 -0.38287 0.67657 -0.38958 C 0.67518 -0.39051 0.66337 -0.39352 0.6625 -0.39375 C 0.64913 -0.40556 0.63056 -0.39491 0.61563 -0.39167 C 0.61059 -0.38727 0.60139 -0.38102 0.59688 -0.375 C 0.59219 -0.36875 0.58907 -0.36528 0.58282 -0.3625 C 0.579 -0.35509 0.57448 -0.35116 0.57032 -0.34375 C 0.56927 -0.33935 0.56702 -0.33125 0.56719 -0.32708 C 0.56788 -0.3162 0.57188 -0.30856 0.57188 -0.29792 E">
                                      <p:cBhvr>
                                        <p:cTn id="23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916 -0.00787 -0.00539000000000001 0.00047 0.06875 0.00209 C 0.08541 0.00255 0.11145 -0.00023 0.12968 -0.00208 C 0.13506 -0.00347 0.13993 -0.00717 0.14531 -0.00833 C 0.15659 -0.01064 0.16822 -0.01018 0.17968 -0.0125 C 0.18784 -0.01412 0.19496 -0.01875 0.20312 -0.02083 C 0.2151 -0.03055 0.22378 -0.04236 0.23281 -0.05625 C 0.23472 -0.05926 0.2368 -0.06203 0.23906 -0.06458 C 0.24097 -0.06689 0.24357 -0.06828 0.24531 -0.07083 C 0.25086 -0.07893 0.2559 -0.08727 0.26093 -0.09583 C 0.27031 -0.1118 0.27586 -0.13217 0.28281 -0.15 C 0.29131 -0.17176 0.30052 -0.19305 0.30937 -0.21458 C 0.31406 -0.22615 0.31527 -0.23981 0.31875 -0.25208 C 0.32065 -0.27639 0.3217 -0.27986 0.31875 -0.30833 C 0.31788 -0.3162 0.30711 -0.33703 0.30625 -0.33958 C 0.29357 -0.37338 0.2618 -0.38819 0.23593 -0.39791 C 0.22222 -0.40879 0.2092 -0.40787 0.19375 -0.41041 C 0.16197 -0.41574 0.13055 -0.42268 0.09843 -0.425 C 0.09062 -0.42361 0.08281 -0.42291 0.075 -0.42083 C 0.06597 -0.41852 0.06909 -0.41689 0.0625 -0.4125 C 0.0585 -0.40995 0.05399 -0.40879 0.05 -0.40625 C 0.04392 -0.40208 0.03958 -0.39814 0.03281 -0.39583 C 0.02465 -0.38495 0.01649 -0.375 0.00781 -0.36458 C 0.00034 -0.35578 -0.004 -0.3449 -0.0125 -0.3375 C -0.01928 -0.31041 -0.01632 -0.29768 -0.01407 -0.26041 C -0.01372 -0.25602 -0.01094 -0.25231 -0.01094 -0.24791 C -0.01094 -0.24444 -0.01094 -0.24097 -0.01094 -0.2375 E">
                                      <p:cBhvr>
                                        <p:cTn id="31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1962 0.02014 C 0.02379 0.02153 0.02795 0.02291 0.03212 0.0243 C 0.0342 0.025 0.03837 0.02639 0.03837 0.02662 C 0.12899 0.02569 0.21962 0.02569 0.31024 0.0243 C 0.33386 0.02384 0.35816 0.00393 0.38056 -0.00278 C 0.38264 -0.00417 0.3849 -0.00509 0.38681 -0.00695 C 0.38854 -0.00857 0.38958 -0.01158 0.39149 -0.0132 C 0.39288 -0.01435 0.40156 -0.01713 0.40243 -0.01736 C 0.40747 -0.02176 0.41146 -0.02755 0.41649 -0.03195 C 0.42327 -0.0456 0.43212 -0.05903 0.43993 -0.07153 C 0.44636 -0.08172 0.44497 -0.07454 0.45087 -0.09028 C 0.45521 -0.10162 0.46059 -0.11227 0.46493 -0.12361 C 0.46893 -0.13426 0.47153 -0.14653 0.47587 -0.15695 C 0.48264 -0.17315 0.47882 -0.15741 0.48368 -0.17361 C 0.48733 -0.18565 0.4908 -0.19746 0.49462 -0.20903 C 0.49879 -0.22176 0.50087 -0.23634 0.50556 -0.24861 C 0.50868 -0.25695 0.5132 -0.26505 0.51649 -0.27361 C 0.52066 -0.28472 0.52205 -0.30556 0.52587 -0.3132 C 0.5309 -0.32315 0.53299 -0.33496 0.53524 -0.34653 C 0.53333 -0.42269 0.54462 -0.46505 0.51649 -0.51736 C 0.51215 -0.52547 0.5125 -0.53102 0.50712 -0.5382 C 0.5059 -0.54306 0.5059 -0.54838 0.50399 -0.55278 C 0.50295 -0.55533 0.5007 -0.55672 0.49931 -0.55903 C 0.49393 -0.56806 0.49167 -0.57685 0.48681 -0.58611 C 0.48368 -0.5919 0.48281 -0.59977 0.47899 -0.60486 C 0.47413 -0.61134 0.46181 -0.61644 0.45556 -0.61945 C 0.44375 -0.62547 0.43368 -0.63496 0.42118 -0.6382 C 0.40903 -0.6463 0.40608 -0.64838 0.39149 -0.6507 C 0.36823 -0.64908 0.33837 -0.64792 0.31649 -0.63195 C 0.30938 -0.62685 0.30347 -0.62014 0.29618 -0.61528 C 0.29097 -0.60486 0.28715 -0.59422 0.28212 -0.58403 C 0.27952 -0.54167 0.28056 -0.56736 0.28056 -0.50695 E">
                                      <p:cBhvr>
                                        <p:cTn id="39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51 0.00393 0.02118 0.01111 0.03437 0.01875 C 0.04166 0.02291 0.05156 0.02477 0.05937 0.02708 C 0.09357 0.03727 0.1283 0.04189 0.1625 0.05208 C 0.19739 0.05139 0.23229 0.05185 0.26719 0.05 C 0.27534 0.04953 0.27986 0.03981 0.28594 0.03541 C 0.28993 0.03264 0.29444 0.03171 0.29844 0.02916 C 0.30069 0.02754 0.30243 0.02453 0.30469 0.02291 C 0.31284 0.01689 0.32014 0.01342 0.32812 0.00625 C 0.34236 -0.00648 0.32482 0.02523 0.34687 -0.00417 C 0.35573 -0.01598 0.36614 -0.01922 0.37656 -0.02709 C 0.3868 -0.03473 0.39514 -0.04352 0.40469 -0.05209 C 0.41215 -0.06713 0.40833 -0.06111 0.41562 -0.07084 C 0.42083 -0.09144 0.41215 -0.05996 0.42187 -0.08334 C 0.42969 -0.10209 0.42187 -0.08959 0.42656 -0.10209 C 0.42899 -0.10857 0.43194 -0.11436 0.43437 -0.12084 C 0.43611 -0.12547 0.43576 -0.13079 0.4375 -0.13542 C 0.4434 -0.15093 0.44392 -0.13658 0.44844 -0.16042 C 0.45104 -0.17477 0.45278 -0.18426 0.45937 -0.19584 C 0.4618 -0.2125 0.46719 -0.22801 0.47187 -0.24375 C 0.4743 -0.26574 0.475 -0.26644 0.47187 -0.29584 C 0.47135 -0.30139 0.46701 -0.3051 0.46562 -0.31042 C 0.45989 -0.33102 0.44323 -0.36551 0.42656 -0.37292 C 0.42448 -0.3757 0.42274 -0.37894 0.42031 -0.38125 C 0.41632 -0.38519 0.40208 -0.38889 0.39687 -0.39167 C 0.38368 -0.40926 0.36059 -0.40486 0.34375 -0.40625 C 0.32916 -0.40741 0.31458 -0.40903 0.3 -0.41042 C 0.26719 -0.41667 0.27274 -0.41644 0.21406 -0.41042 C 0.20694 -0.40973 0.20295 -0.39283 0.19687 -0.3875 C 0.19271 -0.37107 0.18281 -0.3551 0.175 -0.34167 C 0.1651 -0.32477 0.17309 -0.33311 0.16406 -0.325 C 0.15989 -0.31644 0.15972 -0.30764 0.15781 -0.29792 C 0.15885 -0.28148 0.15885 -0.27014 0.16406 -0.25625 C 0.16475 -0.2544 0.16441 -0.25139 0.16562 -0.25 C 0.16857 -0.24676 0.17291 -0.24746 0.17656 -0.24584 C 0.1783 -0.23889 0.17812 -0.24167 0.17812 -0.2375 E">
                                      <p:cBhvr>
                                        <p:cTn id="4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9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041 -0.00347 0.01614 -0.0162 0.02656 -0.02083 C 0.02951 -0.02477 0.03298 -0.02731 0.03594 -0.03125 C 0.04375 -0.04167 0.05034 -0.05949 0.05469 -0.07292 C 0.05868 -0.08542 0.05989 -0.09907 0.06562 -0.11042 C 0.07291 -0.15903 0.08038 -0.21921 0.06094 -0.2625 C 0.05903 -0.27245 0.0585 -0.27616 0.05312 -0.28333 C 0.04757 -0.30532 0.03837 -0.3162 0.02969 -0.33542 C 0.02691 -0.34167 0.02291 -0.35139 0.01875 -0.35625 C 0.01753 -0.35764 0.01545 -0.35741 0.01406 -0.35833 C 0.00816 -0.36227 0.0026 -0.36667 -0.00313 -0.37083 C -0.00695 -0.37361 -0.00868 -0.38056 -0.0125 -0.38333 C -0.02014 -0.38889 -0.04549 -0.39398 -0.05469 -0.39583 C -0.08716 -0.39468 -0.11406 -0.39213 -0.14531 -0.38958 C -0.14844 -0.38681 -0.15347 -0.38611 -0.15469 -0.38125 C -0.15521 -0.37917 -0.15521 -0.37662 -0.15625 -0.375 C -0.15747 -0.37315 -0.15955 -0.37245 -0.16094 -0.37083 C -0.1658 -0.36551 -0.16962 -0.35787 -0.17188 -0.35 C -0.17587 -0.33565 -0.17917 -0.31736 -0.1875 -0.30625 C -0.18941 -0.29861 -0.19184 -0.29097 -0.19375 -0.28333 C -0.19618 -0.25139 -0.19531 -0.26944 -0.19531 -0.22917 E">
                                      <p:cBhvr>
                                        <p:cTn id="55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1916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909 0.01273 0.0401 0.01481 0.06094 0.01875 C 0.07031 0.02292 0.07969 0.02708 0.08906 0.03125 C 0.09166 0.03241 0.09444 0.0338 0.09687 0.03542 C 0.09861 0.03657 0.09982 0.03866 0.10156 0.03958 C 0.11354 0.0456 0.12812 0.04815 0.14062 0.05 C 0.1625 0.05833 0.18524 0.06505 0.20781 0.06875 C 0.25833 0.06806 0.30885 0.06782 0.35937 0.06667 C 0.37361 0.0662 0.38489 0.05949 0.39844 0.05625 C 0.42378 0.05046 0.44948 0.04884 0.475 0.04583 C 0.49219 0.04005 0.50434 0.02106 0.51875 0.00833 C 0.52587 0.00185 0.53333 -0.00394 0.54062 -0.01042 C 0.54844 -0.01736 0.55469 -0.03009 0.5625 -0.0375 C 0.57239 -0.04699 0.5835 -0.05532 0.59375 -0.06458 C 0.60104 -0.07917 0.60955 -0.09676 0.62031 -0.10625 C 0.62691 -0.12014 0.63073 -0.12685 0.63437 -0.14167 C 0.63541 -0.14583 0.6375 -0.15417 0.6375 -0.15417 C 0.64028 -0.18079 0.64062 -0.17616 0.6375 -0.21667 C 0.63646 -0.22986 0.63055 -0.24144 0.62812 -0.25417 C 0.62378 -0.27731 0.61788 -0.29792 0.60937 -0.31875 C 0.60607 -0.32685 0.60312 -0.33542 0.6 -0.34375 C 0.59896 -0.34653 0.59896 -0.35069 0.59687 -0.35208 C 0.58576 -0.35949 0.57309 -0.36759 0.56094 -0.37083 C 0.54774 -0.38264 0.5401 -0.37755 0.52031 -0.37917 C 0.46354 -0.38356 0.53837 -0.37894 0.45781 -0.38333 C 0.4335 -0.38866 0.40972 -0.38449 0.38594 -0.37917 C 0.36441 -0.36481 0.39392 -0.38565 0.375 -0.36875 C 0.36406 -0.35903 0.37673 -0.37569 0.36562 -0.3625 C 0.35955 -0.35532 0.35503 -0.3456 0.34844 -0.33958 C 0.33871 -0.32014 0.34618 -0.29676 0.34687 -0.275 C 0.34722 -0.26181 0.34687 -0.24861 0.34687 -0.23542 E">
                                      <p:cBhvr>
                                        <p:cTn id="63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9:38:56Z</dcterms:created>
  <dc:creator>Angie Gore</dc:creator>
  <dc:description/>
  <dc:language>en-US</dc:language>
  <cp:lastModifiedBy>Angie Gore</cp:lastModifiedBy>
  <dcterms:modified xsi:type="dcterms:W3CDTF">2006-11-20T20:33:0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7147483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