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type.wav" ContentType="audio/x-wav"/>
  <Override PartName="/ppt/media/applause.wav" ContentType="audio/x-wav"/>
  <Override PartName="/ppt/media/explode.wav" ContentType="audio/x-wav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C39AA-E37F-4F44-88E1-7666654A9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FC5E4-EC8D-4B00-8B8D-B977B2B05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8E5FF-7B56-4702-9431-D43827A96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D9E5D-9ECD-4254-A849-881CCF1DD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F8C2B-185F-432E-9D69-DEC53F0FF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865A6-71DA-4A97-AB17-992405F09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57D87-4653-4EDC-A750-AB88CC0C1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4BCC8-6D8D-4D26-A2CB-FF5A7C8E4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DCED1-39F4-4BCB-B7A0-87DCB5D55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274CC-1686-4F37-A55B-CFBA82E24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860F2-CBA0-4CC8-A103-13939F4DB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6C8FC-5514-4E64-82AF-B81E6BA35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DBC1D-7D9E-4DB7-8959-593E249181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explode.wav"/><Relationship Id="rId3" Type="http://schemas.openxmlformats.org/officeDocument/2006/relationships/audio" Target="../media/explode.wav"/><Relationship Id="rId4" Type="http://schemas.openxmlformats.org/officeDocument/2006/relationships/audio" Target="../media/explode.wav"/><Relationship Id="rId5" Type="http://schemas.openxmlformats.org/officeDocument/2006/relationships/audio" Target="../media/explode.wav"/><Relationship Id="rId6" Type="http://schemas.openxmlformats.org/officeDocument/2006/relationships/audio" Target="../media/explode.wav"/><Relationship Id="rId7" Type="http://schemas.openxmlformats.org/officeDocument/2006/relationships/audio" Target="../media/explode.wav"/><Relationship Id="rId8" Type="http://schemas.openxmlformats.org/officeDocument/2006/relationships/audio" Target="../media/explode.wav"/><Relationship Id="rId9" Type="http://schemas.openxmlformats.org/officeDocument/2006/relationships/audio" Target="../media/explode.wav"/><Relationship Id="rId10" Type="http://schemas.openxmlformats.org/officeDocument/2006/relationships/audio" Target="../media/explode.wav"/><Relationship Id="rId11" Type="http://schemas.openxmlformats.org/officeDocument/2006/relationships/audio" Target="../media/explode.wav"/><Relationship Id="rId12" Type="http://schemas.openxmlformats.org/officeDocument/2006/relationships/audio" Target="../media/explode.wav"/><Relationship Id="rId13" Type="http://schemas.openxmlformats.org/officeDocument/2006/relationships/audio" Target="../media/applause.wav"/><Relationship Id="rId1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explode.wav"/><Relationship Id="rId3" Type="http://schemas.openxmlformats.org/officeDocument/2006/relationships/audio" Target="../media/explode.wav"/><Relationship Id="rId4" Type="http://schemas.openxmlformats.org/officeDocument/2006/relationships/audio" Target="../media/explode.wav"/><Relationship Id="rId5" Type="http://schemas.openxmlformats.org/officeDocument/2006/relationships/audio" Target="../media/explode.wav"/><Relationship Id="rId6" Type="http://schemas.openxmlformats.org/officeDocument/2006/relationships/audio" Target="../media/explode.wav"/><Relationship Id="rId7" Type="http://schemas.openxmlformats.org/officeDocument/2006/relationships/audio" Target="../media/explode.wav"/><Relationship Id="rId8" Type="http://schemas.openxmlformats.org/officeDocument/2006/relationships/audio" Target="../media/explode.wav"/><Relationship Id="rId9" Type="http://schemas.openxmlformats.org/officeDocument/2006/relationships/audio" Target="../media/explode.wav"/><Relationship Id="rId10" Type="http://schemas.openxmlformats.org/officeDocument/2006/relationships/audio" Target="../media/explode.wav"/><Relationship Id="rId11" Type="http://schemas.openxmlformats.org/officeDocument/2006/relationships/audio" Target="../media/explode.wav"/><Relationship Id="rId12" Type="http://schemas.openxmlformats.org/officeDocument/2006/relationships/audio" Target="../media/explode.wav"/><Relationship Id="rId13" Type="http://schemas.openxmlformats.org/officeDocument/2006/relationships/audio" Target="../media/applause.wav"/><Relationship Id="rId1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explode.wav"/><Relationship Id="rId3" Type="http://schemas.openxmlformats.org/officeDocument/2006/relationships/audio" Target="../media/explode.wav"/><Relationship Id="rId4" Type="http://schemas.openxmlformats.org/officeDocument/2006/relationships/audio" Target="../media/explode.wav"/><Relationship Id="rId5" Type="http://schemas.openxmlformats.org/officeDocument/2006/relationships/audio" Target="../media/explode.wav"/><Relationship Id="rId6" Type="http://schemas.openxmlformats.org/officeDocument/2006/relationships/audio" Target="../media/explode.wav"/><Relationship Id="rId7" Type="http://schemas.openxmlformats.org/officeDocument/2006/relationships/audio" Target="../media/explode.wav"/><Relationship Id="rId8" Type="http://schemas.openxmlformats.org/officeDocument/2006/relationships/audio" Target="../media/explode.wav"/><Relationship Id="rId9" Type="http://schemas.openxmlformats.org/officeDocument/2006/relationships/audio" Target="../media/explode.wav"/><Relationship Id="rId10" Type="http://schemas.openxmlformats.org/officeDocument/2006/relationships/audio" Target="../media/explode.wav"/><Relationship Id="rId11" Type="http://schemas.openxmlformats.org/officeDocument/2006/relationships/audio" Target="../media/explode.wav"/><Relationship Id="rId12" Type="http://schemas.openxmlformats.org/officeDocument/2006/relationships/audio" Target="../media/explode.wav"/><Relationship Id="rId13" Type="http://schemas.openxmlformats.org/officeDocument/2006/relationships/audio" Target="../media/applause.wav"/><Relationship Id="rId1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explode.wav"/><Relationship Id="rId3" Type="http://schemas.openxmlformats.org/officeDocument/2006/relationships/audio" Target="../media/explode.wav"/><Relationship Id="rId4" Type="http://schemas.openxmlformats.org/officeDocument/2006/relationships/audio" Target="../media/explode.wav"/><Relationship Id="rId5" Type="http://schemas.openxmlformats.org/officeDocument/2006/relationships/audio" Target="../media/explode.wav"/><Relationship Id="rId6" Type="http://schemas.openxmlformats.org/officeDocument/2006/relationships/audio" Target="../media/explode.wav"/><Relationship Id="rId7" Type="http://schemas.openxmlformats.org/officeDocument/2006/relationships/audio" Target="../media/explode.wav"/><Relationship Id="rId8" Type="http://schemas.openxmlformats.org/officeDocument/2006/relationships/audio" Target="../media/explode.wav"/><Relationship Id="rId9" Type="http://schemas.openxmlformats.org/officeDocument/2006/relationships/audio" Target="../media/explode.wav"/><Relationship Id="rId10" Type="http://schemas.openxmlformats.org/officeDocument/2006/relationships/audio" Target="../media/explode.wav"/><Relationship Id="rId11" Type="http://schemas.openxmlformats.org/officeDocument/2006/relationships/audio" Target="../media/explode.wav"/><Relationship Id="rId12" Type="http://schemas.openxmlformats.org/officeDocument/2006/relationships/audio" Target="../media/explode.wav"/><Relationship Id="rId13" Type="http://schemas.openxmlformats.org/officeDocument/2006/relationships/audio" Target="../media/applause.wav"/><Relationship Id="rId1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applause.wav"/><Relationship Id="rId3" Type="http://schemas.openxmlformats.org/officeDocument/2006/relationships/audio" Target="../media/explode.wav"/><Relationship Id="rId4" Type="http://schemas.openxmlformats.org/officeDocument/2006/relationships/audio" Target="../media/explode.wav"/><Relationship Id="rId5" Type="http://schemas.openxmlformats.org/officeDocument/2006/relationships/audio" Target="../media/explode.wav"/><Relationship Id="rId6" Type="http://schemas.openxmlformats.org/officeDocument/2006/relationships/audio" Target="../media/explode.wav"/><Relationship Id="rId7" Type="http://schemas.openxmlformats.org/officeDocument/2006/relationships/audio" Target="../media/explode.wav"/><Relationship Id="rId8" Type="http://schemas.openxmlformats.org/officeDocument/2006/relationships/audio" Target="../media/explode.wav"/><Relationship Id="rId9" Type="http://schemas.openxmlformats.org/officeDocument/2006/relationships/audio" Target="../media/explode.wav"/><Relationship Id="rId10" Type="http://schemas.openxmlformats.org/officeDocument/2006/relationships/audio" Target="../media/explode.wav"/><Relationship Id="rId11" Type="http://schemas.openxmlformats.org/officeDocument/2006/relationships/audio" Target="../media/explode.wav"/><Relationship Id="rId12" Type="http://schemas.openxmlformats.org/officeDocument/2006/relationships/audio" Target="../media/explode.wav"/><Relationship Id="rId13" Type="http://schemas.openxmlformats.org/officeDocument/2006/relationships/audio" Target="../media/explode.wav"/><Relationship Id="rId1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explode.wav"/><Relationship Id="rId3" Type="http://schemas.openxmlformats.org/officeDocument/2006/relationships/audio" Target="../media/explode.wav"/><Relationship Id="rId4" Type="http://schemas.openxmlformats.org/officeDocument/2006/relationships/audio" Target="../media/explode.wav"/><Relationship Id="rId5" Type="http://schemas.openxmlformats.org/officeDocument/2006/relationships/audio" Target="../media/explode.wav"/><Relationship Id="rId6" Type="http://schemas.openxmlformats.org/officeDocument/2006/relationships/audio" Target="../media/explode.wav"/><Relationship Id="rId7" Type="http://schemas.openxmlformats.org/officeDocument/2006/relationships/audio" Target="../media/explode.wav"/><Relationship Id="rId8" Type="http://schemas.openxmlformats.org/officeDocument/2006/relationships/audio" Target="../media/explode.wav"/><Relationship Id="rId9" Type="http://schemas.openxmlformats.org/officeDocument/2006/relationships/audio" Target="../media/explode.wav"/><Relationship Id="rId10" Type="http://schemas.openxmlformats.org/officeDocument/2006/relationships/audio" Target="../media/explode.wav"/><Relationship Id="rId11" Type="http://schemas.openxmlformats.org/officeDocument/2006/relationships/audio" Target="../media/explode.wav"/><Relationship Id="rId12" Type="http://schemas.openxmlformats.org/officeDocument/2006/relationships/audio" Target="../media/applause.wav"/><Relationship Id="rId13" Type="http://schemas.openxmlformats.org/officeDocument/2006/relationships/audio" Target="../media/explode.wav"/><Relationship Id="rId1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explode.wav"/><Relationship Id="rId3" Type="http://schemas.openxmlformats.org/officeDocument/2006/relationships/audio" Target="../media/explode.wav"/><Relationship Id="rId4" Type="http://schemas.openxmlformats.org/officeDocument/2006/relationships/audio" Target="../media/explode.wav"/><Relationship Id="rId5" Type="http://schemas.openxmlformats.org/officeDocument/2006/relationships/audio" Target="../media/explode.wav"/><Relationship Id="rId6" Type="http://schemas.openxmlformats.org/officeDocument/2006/relationships/audio" Target="../media/explode.wav"/><Relationship Id="rId7" Type="http://schemas.openxmlformats.org/officeDocument/2006/relationships/audio" Target="../media/explode.wav"/><Relationship Id="rId8" Type="http://schemas.openxmlformats.org/officeDocument/2006/relationships/audio" Target="../media/explode.wav"/><Relationship Id="rId9" Type="http://schemas.openxmlformats.org/officeDocument/2006/relationships/audio" Target="../media/explode.wav"/><Relationship Id="rId10" Type="http://schemas.openxmlformats.org/officeDocument/2006/relationships/audio" Target="../media/explode.wav"/><Relationship Id="rId11" Type="http://schemas.openxmlformats.org/officeDocument/2006/relationships/audio" Target="../media/explode.wav"/><Relationship Id="rId12" Type="http://schemas.openxmlformats.org/officeDocument/2006/relationships/audio" Target="../media/explode.wav"/><Relationship Id="rId13" Type="http://schemas.openxmlformats.org/officeDocument/2006/relationships/audio" Target="../media/applause.wav"/><Relationship Id="rId1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explode.wav"/><Relationship Id="rId3" Type="http://schemas.openxmlformats.org/officeDocument/2006/relationships/audio" Target="../media/explode.wav"/><Relationship Id="rId4" Type="http://schemas.openxmlformats.org/officeDocument/2006/relationships/audio" Target="../media/explode.wav"/><Relationship Id="rId5" Type="http://schemas.openxmlformats.org/officeDocument/2006/relationships/audio" Target="../media/explode.wav"/><Relationship Id="rId6" Type="http://schemas.openxmlformats.org/officeDocument/2006/relationships/audio" Target="../media/explode.wav"/><Relationship Id="rId7" Type="http://schemas.openxmlformats.org/officeDocument/2006/relationships/audio" Target="../media/explode.wav"/><Relationship Id="rId8" Type="http://schemas.openxmlformats.org/officeDocument/2006/relationships/audio" Target="../media/explode.wav"/><Relationship Id="rId9" Type="http://schemas.openxmlformats.org/officeDocument/2006/relationships/audio" Target="../media/explode.wav"/><Relationship Id="rId10" Type="http://schemas.openxmlformats.org/officeDocument/2006/relationships/audio" Target="../media/explode.wav"/><Relationship Id="rId11" Type="http://schemas.openxmlformats.org/officeDocument/2006/relationships/audio" Target="../media/explode.wav"/><Relationship Id="rId12" Type="http://schemas.openxmlformats.org/officeDocument/2006/relationships/audio" Target="../media/explode.wav"/><Relationship Id="rId13" Type="http://schemas.openxmlformats.org/officeDocument/2006/relationships/audio" Target="../media/applause.wav"/><Relationship Id="rId1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explode.wav"/><Relationship Id="rId3" Type="http://schemas.openxmlformats.org/officeDocument/2006/relationships/audio" Target="../media/explode.wav"/><Relationship Id="rId4" Type="http://schemas.openxmlformats.org/officeDocument/2006/relationships/audio" Target="../media/explode.wav"/><Relationship Id="rId5" Type="http://schemas.openxmlformats.org/officeDocument/2006/relationships/audio" Target="../media/explode.wav"/><Relationship Id="rId6" Type="http://schemas.openxmlformats.org/officeDocument/2006/relationships/audio" Target="../media/explode.wav"/><Relationship Id="rId7" Type="http://schemas.openxmlformats.org/officeDocument/2006/relationships/audio" Target="../media/explode.wav"/><Relationship Id="rId8" Type="http://schemas.openxmlformats.org/officeDocument/2006/relationships/audio" Target="../media/explode.wav"/><Relationship Id="rId9" Type="http://schemas.openxmlformats.org/officeDocument/2006/relationships/audio" Target="../media/explode.wav"/><Relationship Id="rId10" Type="http://schemas.openxmlformats.org/officeDocument/2006/relationships/audio" Target="../media/explode.wav"/><Relationship Id="rId11" Type="http://schemas.openxmlformats.org/officeDocument/2006/relationships/audio" Target="../media/explode.wav"/><Relationship Id="rId12" Type="http://schemas.openxmlformats.org/officeDocument/2006/relationships/audio" Target="../media/explode.wav"/><Relationship Id="rId13" Type="http://schemas.openxmlformats.org/officeDocument/2006/relationships/audio" Target="../media/applause.wav"/><Relationship Id="rId1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explode.wav"/><Relationship Id="rId3" Type="http://schemas.openxmlformats.org/officeDocument/2006/relationships/audio" Target="../media/explode.wav"/><Relationship Id="rId4" Type="http://schemas.openxmlformats.org/officeDocument/2006/relationships/audio" Target="../media/explode.wav"/><Relationship Id="rId5" Type="http://schemas.openxmlformats.org/officeDocument/2006/relationships/audio" Target="../media/explode.wav"/><Relationship Id="rId6" Type="http://schemas.openxmlformats.org/officeDocument/2006/relationships/audio" Target="../media/explode.wav"/><Relationship Id="rId7" Type="http://schemas.openxmlformats.org/officeDocument/2006/relationships/audio" Target="../media/explode.wav"/><Relationship Id="rId8" Type="http://schemas.openxmlformats.org/officeDocument/2006/relationships/audio" Target="../media/explode.wav"/><Relationship Id="rId9" Type="http://schemas.openxmlformats.org/officeDocument/2006/relationships/audio" Target="../media/explode.wav"/><Relationship Id="rId10" Type="http://schemas.openxmlformats.org/officeDocument/2006/relationships/audio" Target="../media/explode.wav"/><Relationship Id="rId11" Type="http://schemas.openxmlformats.org/officeDocument/2006/relationships/audio" Target="../media/explode.wav"/><Relationship Id="rId12" Type="http://schemas.openxmlformats.org/officeDocument/2006/relationships/audio" Target="../media/explode.wav"/><Relationship Id="rId13" Type="http://schemas.openxmlformats.org/officeDocument/2006/relationships/audio" Target="../media/applause.wav"/><Relationship Id="rId1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explode.wav"/><Relationship Id="rId3" Type="http://schemas.openxmlformats.org/officeDocument/2006/relationships/audio" Target="../media/explode.wav"/><Relationship Id="rId4" Type="http://schemas.openxmlformats.org/officeDocument/2006/relationships/audio" Target="../media/explode.wav"/><Relationship Id="rId5" Type="http://schemas.openxmlformats.org/officeDocument/2006/relationships/audio" Target="../media/explode.wav"/><Relationship Id="rId6" Type="http://schemas.openxmlformats.org/officeDocument/2006/relationships/audio" Target="../media/explode.wav"/><Relationship Id="rId7" Type="http://schemas.openxmlformats.org/officeDocument/2006/relationships/audio" Target="../media/explode.wav"/><Relationship Id="rId8" Type="http://schemas.openxmlformats.org/officeDocument/2006/relationships/audio" Target="../media/explode.wav"/><Relationship Id="rId9" Type="http://schemas.openxmlformats.org/officeDocument/2006/relationships/audio" Target="../media/explode.wav"/><Relationship Id="rId10" Type="http://schemas.openxmlformats.org/officeDocument/2006/relationships/audio" Target="../media/explode.wav"/><Relationship Id="rId11" Type="http://schemas.openxmlformats.org/officeDocument/2006/relationships/audio" Target="../media/explode.wav"/><Relationship Id="rId12" Type="http://schemas.openxmlformats.org/officeDocument/2006/relationships/audio" Target="../media/explode.wav"/><Relationship Id="rId13" Type="http://schemas.openxmlformats.org/officeDocument/2006/relationships/audio" Target="../media/applause.wav"/><Relationship Id="rId1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explode.wav"/><Relationship Id="rId3" Type="http://schemas.openxmlformats.org/officeDocument/2006/relationships/audio" Target="../media/explode.wav"/><Relationship Id="rId4" Type="http://schemas.openxmlformats.org/officeDocument/2006/relationships/audio" Target="../media/explode.wav"/><Relationship Id="rId5" Type="http://schemas.openxmlformats.org/officeDocument/2006/relationships/audio" Target="../media/explode.wav"/><Relationship Id="rId6" Type="http://schemas.openxmlformats.org/officeDocument/2006/relationships/audio" Target="../media/explode.wav"/><Relationship Id="rId7" Type="http://schemas.openxmlformats.org/officeDocument/2006/relationships/audio" Target="../media/explode.wav"/><Relationship Id="rId8" Type="http://schemas.openxmlformats.org/officeDocument/2006/relationships/audio" Target="../media/explode.wav"/><Relationship Id="rId9" Type="http://schemas.openxmlformats.org/officeDocument/2006/relationships/audio" Target="../media/explode.wav"/><Relationship Id="rId10" Type="http://schemas.openxmlformats.org/officeDocument/2006/relationships/audio" Target="../media/explode.wav"/><Relationship Id="rId11" Type="http://schemas.openxmlformats.org/officeDocument/2006/relationships/audio" Target="../media/explode.wav"/><Relationship Id="rId12" Type="http://schemas.openxmlformats.org/officeDocument/2006/relationships/audio" Target="../media/explode.wav"/><Relationship Id="rId13" Type="http://schemas.openxmlformats.org/officeDocument/2006/relationships/audio" Target="../media/applause.wav"/><Relationship Id="rId1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1413000"/>
            <a:ext cx="6624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0000"/>
                </a:solidFill>
                <a:latin typeface="Comic Sans MS"/>
              </a:rPr>
              <a:t>On the screens click on the number you think is the right answer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332000" y="260280"/>
            <a:ext cx="6696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Two times tabl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27280" y="5373720"/>
            <a:ext cx="4032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Good luck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77080" y="5589720"/>
            <a:ext cx="208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By Angie G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Norwood Primary South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1187280" y="0"/>
            <a:ext cx="7129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Comic Sans MS"/>
              </a:rPr>
              <a:t>Two times tabl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843280" y="1989000"/>
            <a:ext cx="273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3 x 2 =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771640" y="3933720"/>
            <a:ext cx="865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851280" y="3573360"/>
            <a:ext cx="122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1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619280" y="4581360"/>
            <a:ext cx="865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50920" y="5516640"/>
            <a:ext cx="1081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084720" y="5373720"/>
            <a:ext cx="122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1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596360" y="4869000"/>
            <a:ext cx="129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2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716360" y="5300640"/>
            <a:ext cx="122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1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580000" y="4149720"/>
            <a:ext cx="1225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1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95280" y="4437000"/>
            <a:ext cx="865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700360" y="5516640"/>
            <a:ext cx="1511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2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39640" y="2708280"/>
            <a:ext cx="107964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1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380360" y="350028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2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0" dur="indefinite" restart="never" nodeType="tmRoot">
          <p:childTnLst>
            <p:seq>
              <p:cTn id="641" dur="indefinite" nodeType="mainSeq">
                <p:childTnLst>
                  <p:par>
                    <p:cTn id="642" fill="hold">
                      <p:stCondLst>
                        <p:cond delay="0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6" dur="10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7" dur="10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8" dur="10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49" restart="whenNotActive" nodeType="interactiveSeq" fill="hold">
                <p:stCondLst>
                  <p:cond evt="onClick">
                    <p:tgtEl>
                      <p:spTgt spid="169"/>
                    </p:tgtEl>
                  </p:cond>
                </p:stCondLst>
                <p:childTnLst>
                  <p:par>
                    <p:cTn id="650" fill="hold">
                      <p:stCondLst>
                        <p:cond evt="onClick">
                          <p:tgtEl>
                            <p:spTgt spid="169"/>
                          </p:tgtEl>
                        </p:cond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653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5" restart="whenNotActive" nodeType="interactiveSeq" fill="hold">
                <p:stCondLst>
                  <p:cond evt="onClick">
                    <p:tgtEl>
                      <p:spTgt spid="167"/>
                    </p:tgtEl>
                  </p:cond>
                </p:stCondLst>
                <p:childTnLst>
                  <p:par>
                    <p:cTn id="656" fill="hold">
                      <p:stCondLst>
                        <p:cond evt="onClick">
                          <p:tgtEl>
                            <p:spTgt spid="167"/>
                          </p:tgtEl>
                        </p:cond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65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1" restart="whenNotActive" nodeType="interactiveSeq" fill="hold">
                <p:stCondLst>
                  <p:cond evt="onClick">
                    <p:tgtEl>
                      <p:spTgt spid="159"/>
                    </p:tgtEl>
                  </p:cond>
                </p:stCondLst>
                <p:childTnLst>
                  <p:par>
                    <p:cTn id="662" fill="hold">
                      <p:stCondLst>
                        <p:cond evt="onClick">
                          <p:tgtEl>
                            <p:spTgt spid="159"/>
                          </p:tgtEl>
                        </p:cond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66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7" restart="whenNotActive" nodeType="interactiveSeq" fill="hold">
                <p:stCondLst>
                  <p:cond evt="onClick">
                    <p:tgtEl>
                      <p:spTgt spid="160"/>
                    </p:tgtEl>
                  </p:cond>
                </p:stCondLst>
                <p:childTnLst>
                  <p:par>
                    <p:cTn id="668" fill="hold">
                      <p:stCondLst>
                        <p:cond evt="onClick">
                          <p:tgtEl>
                            <p:spTgt spid="160"/>
                          </p:tgtEl>
                        </p:cond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671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3" restart="whenNotActive" nodeType="interactiveSeq" fill="hold">
                <p:stCondLst>
                  <p:cond evt="onClick">
                    <p:tgtEl>
                      <p:spTgt spid="166"/>
                    </p:tgtEl>
                  </p:cond>
                </p:stCondLst>
                <p:childTnLst>
                  <p:par>
                    <p:cTn id="674" fill="hold">
                      <p:stCondLst>
                        <p:cond evt="onClick">
                          <p:tgtEl>
                            <p:spTgt spid="166"/>
                          </p:tgtEl>
                        </p:cond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677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9" restart="whenNotActive" nodeType="interactiveSeq" fill="hold">
                <p:stCondLst>
                  <p:cond evt="onClick">
                    <p:tgtEl>
                      <p:spTgt spid="170"/>
                    </p:tgtEl>
                  </p:cond>
                </p:stCondLst>
                <p:childTnLst>
                  <p:par>
                    <p:cTn id="680" fill="hold">
                      <p:stCondLst>
                        <p:cond evt="onClick">
                          <p:tgtEl>
                            <p:spTgt spid="170"/>
                          </p:tgtEl>
                        </p:cond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68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5" restart="whenNotActive" nodeType="interactiveSeq" fill="hold">
                <p:stCondLst>
                  <p:cond evt="onClick">
                    <p:tgtEl>
                      <p:spTgt spid="168"/>
                    </p:tgtEl>
                  </p:cond>
                </p:stCondLst>
                <p:childTnLst>
                  <p:par>
                    <p:cTn id="686" fill="hold">
                      <p:stCondLst>
                        <p:cond evt="onClick">
                          <p:tgtEl>
                            <p:spTgt spid="168"/>
                          </p:tgtEl>
                        </p:cond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689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1" restart="whenNotActive" nodeType="interactiveSeq" fill="hold">
                <p:stCondLst>
                  <p:cond evt="onClick">
                    <p:tgtEl>
                      <p:spTgt spid="165"/>
                    </p:tgtEl>
                  </p:cond>
                </p:stCondLst>
                <p:childTnLst>
                  <p:par>
                    <p:cTn id="692" fill="hold">
                      <p:stCondLst>
                        <p:cond evt="onClick">
                          <p:tgtEl>
                            <p:spTgt spid="165"/>
                          </p:tgtEl>
                        </p:cond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69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7" restart="whenNotActive" nodeType="interactiveSeq" fill="hold">
                <p:stCondLst>
                  <p:cond evt="onClick">
                    <p:tgtEl>
                      <p:spTgt spid="163"/>
                    </p:tgtEl>
                  </p:cond>
                </p:stCondLst>
                <p:childTnLst>
                  <p:par>
                    <p:cTn id="698" fill="hold">
                      <p:stCondLst>
                        <p:cond evt="onClick">
                          <p:tgtEl>
                            <p:spTgt spid="163"/>
                          </p:tgtEl>
                        </p:cond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70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3" restart="whenNotActive" nodeType="interactiveSeq" fill="hold">
                <p:stCondLst>
                  <p:cond evt="onClick">
                    <p:tgtEl>
                      <p:spTgt spid="164"/>
                    </p:tgtEl>
                  </p:cond>
                </p:stCondLst>
                <p:childTnLst>
                  <p:par>
                    <p:cTn id="704" fill="hold">
                      <p:stCondLst>
                        <p:cond evt="onClick">
                          <p:tgtEl>
                            <p:spTgt spid="164"/>
                          </p:tgtEl>
                        </p:cond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70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9" restart="whenNotActive" nodeType="interactiveSeq" fill="hold">
                <p:stCondLst>
                  <p:cond evt="onClick">
                    <p:tgtEl>
                      <p:spTgt spid="161"/>
                    </p:tgtEl>
                  </p:cond>
                </p:stCondLst>
                <p:childTnLst>
                  <p:par>
                    <p:cTn id="710" fill="hold">
                      <p:stCondLst>
                        <p:cond evt="onClick">
                          <p:tgtEl>
                            <p:spTgt spid="161"/>
                          </p:tgtEl>
                        </p:cond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713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15" restart="whenNotActive" nodeType="interactiveSeq" fill="hold">
                <p:stCondLst>
                  <p:cond evt="onClick">
                    <p:tgtEl>
                      <p:spTgt spid="162"/>
                    </p:tgtEl>
                  </p:cond>
                </p:stCondLst>
                <p:childTnLst>
                  <p:par>
                    <p:cTn id="716" fill="hold">
                      <p:stCondLst>
                        <p:cond evt="onClick">
                          <p:tgtEl>
                            <p:spTgt spid="162"/>
                          </p:tgtEl>
                        </p:cond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applause.wav"/>
                                        </p:tgtEl>
                                      </p:cMediaNode>
                                    </p:audio>
                                    <p:animMotion origin="layout" path="M 0.0276 0.00348 C 0.04722 -0.00579 0.07482 -0.00092 0.09635 -0.00301 C 0.13246 -0.00648 0.1684 -0.01066 0.20451 -0.01413 C 0.22187 -0.01575 0.23854 -0.01969 0.25521 -0.02711 C 0.26684 -0.03221 0.29149 -0.03151 0.29149 -0.03128 C 0.30503 -0.03545 0.31875 -0.03568 0.33246 -0.038 C 0.37986 -0.04588 0.42743 -0.05353 0.475 -0.0621 C 0.49479 -0.07114 0.51493 -0.08273 0.53559 -0.08852 C 0.54323 -0.09362 0.55017 -0.0971 0.55868 -0.09942 C 0.57135 -0.10799 0.58385 -0.11772 0.59809 -0.1212 C 0.61736 -0.13418 0.6342 -0.15156 0.65382 -0.16292 C 0.66024 -0.16662 0.66354 -0.17311 0.67014 -0.17589 C 0.68212 -0.18794 0.69583 -0.19652 0.70955 -0.2044 C 0.71528 -0.21205 0.71944 -0.21158 0.72587 -0.21761 C 0.72778 -0.21946 0.72899 -0.22201 0.73073 -0.2241 C 0.73333 -0.22711 0.73611 -0.23012 0.73906 -0.2329 C 0.75226 -0.24542 0.77101 -0.25863 0.78333 -0.2723 C 0.79844 -0.28899 0.80712 -0.30776 0.81771 -0.32908 C 0.83298 -0.3599 0.84219 -0.38725 0.84861 -0.42317 C 0.84826 -0.45677 0.84792 -0.49038 0.84705 -0.52398 C 0.84705 -0.52977 0.84583 -0.53557 0.84548 -0.54136 C 0.84305 -0.57612 0.84826 -0.56315 0.84062 -0.57867 C 0.83576 -0.5986 0.83611 -0.619 0.81927 -0.62688 C 0.81771 -0.62896 0.81632 -0.63151 0.81423 -0.63337 C 0.81232 -0.63522 0.80972 -0.63568 0.80781 -0.63777 C 0.80625 -0.63939 0.80607 -0.64264 0.80451 -0.64426 C 0.80243 -0.64635 0.79253 -0.64843 0.79149 -0.64866 C 0.78385 -0.65538 0.77969 -0.65562 0.77014 -0.65747 C 0.76198 -0.66095 0.75347 -0.66257 0.74548 -0.66628 C 0.6658 -0.66465 0.66371 -0.67253 0.61771 -0.65955 C 0.61128 -0.6533 0.60555 -0.64982 0.59809 -0.64658 C 0.58281 -0.63128 0.56996 -0.6329 0.56007 -0.60718 C 0.55642 -0.58215 0.55833 -0.59235 0.55521 -0.57636 C 0.55816 -0.54878 0.55712 -0.56477 0.55712 -0.52838 E">
                                      <p:cBhvr>
                                        <p:cTn id="719" dur="2000" fill="hold"/>
                                        <p:tgtEl>
                                          <p:spTgt spid="1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187280" y="0"/>
            <a:ext cx="7129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Comic Sans MS"/>
              </a:rPr>
              <a:t>Two times tabl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3280" y="1989000"/>
            <a:ext cx="309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12 x 2 =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771640" y="3933720"/>
            <a:ext cx="865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851280" y="3573360"/>
            <a:ext cx="122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1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619280" y="4581360"/>
            <a:ext cx="865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50920" y="5516640"/>
            <a:ext cx="1081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084720" y="5373720"/>
            <a:ext cx="122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1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596360" y="4869000"/>
            <a:ext cx="129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2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716360" y="5300640"/>
            <a:ext cx="122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1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580000" y="4149720"/>
            <a:ext cx="1225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1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95280" y="4437000"/>
            <a:ext cx="865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700360" y="5516640"/>
            <a:ext cx="1511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2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39640" y="2708280"/>
            <a:ext cx="107964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1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380360" y="350028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2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0" dur="indefinite" restart="never" nodeType="tmRoot">
          <p:childTnLst>
            <p:seq>
              <p:cTn id="721" dur="indefinite" nodeType="mainSeq">
                <p:childTnLst>
                  <p:par>
                    <p:cTn id="722" fill="hold">
                      <p:stCondLst>
                        <p:cond delay="0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6" dur="10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7" dur="10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8" dur="10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9" restart="whenNotActive" nodeType="interactiveSeq" fill="hold">
                <p:stCondLst>
                  <p:cond evt="onClick">
                    <p:tgtEl>
                      <p:spTgt spid="183"/>
                    </p:tgtEl>
                  </p:cond>
                </p:stCondLst>
                <p:childTnLst>
                  <p:par>
                    <p:cTn id="730" fill="hold">
                      <p:stCondLst>
                        <p:cond evt="onClick">
                          <p:tgtEl>
                            <p:spTgt spid="183"/>
                          </p:tgtEl>
                        </p:cond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733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5" restart="whenNotActive" nodeType="interactiveSeq" fill="hold">
                <p:stCondLst>
                  <p:cond evt="onClick">
                    <p:tgtEl>
                      <p:spTgt spid="181"/>
                    </p:tgtEl>
                  </p:cond>
                </p:stCondLst>
                <p:childTnLst>
                  <p:par>
                    <p:cTn id="736" fill="hold">
                      <p:stCondLst>
                        <p:cond evt="onClick">
                          <p:tgtEl>
                            <p:spTgt spid="181"/>
                          </p:tgtEl>
                        </p:cond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739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1" restart="whenNotActive" nodeType="interactiveSeq" fill="hold">
                <p:stCondLst>
                  <p:cond evt="onClick">
                    <p:tgtEl>
                      <p:spTgt spid="173"/>
                    </p:tgtEl>
                  </p:cond>
                </p:stCondLst>
                <p:childTnLst>
                  <p:par>
                    <p:cTn id="742" fill="hold">
                      <p:stCondLst>
                        <p:cond evt="onClick">
                          <p:tgtEl>
                            <p:spTgt spid="173"/>
                          </p:tgtEl>
                        </p:cond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745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7" restart="whenNotActive" nodeType="interactiveSeq" fill="hold">
                <p:stCondLst>
                  <p:cond evt="onClick">
                    <p:tgtEl>
                      <p:spTgt spid="174"/>
                    </p:tgtEl>
                  </p:cond>
                </p:stCondLst>
                <p:childTnLst>
                  <p:par>
                    <p:cTn id="748" fill="hold">
                      <p:stCondLst>
                        <p:cond evt="onClick">
                          <p:tgtEl>
                            <p:spTgt spid="174"/>
                          </p:tgtEl>
                        </p:cond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751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3" restart="whenNotActive" nodeType="interactiveSeq" fill="hold">
                <p:stCondLst>
                  <p:cond evt="onClick">
                    <p:tgtEl>
                      <p:spTgt spid="180"/>
                    </p:tgtEl>
                  </p:cond>
                </p:stCondLst>
                <p:childTnLst>
                  <p:par>
                    <p:cTn id="754" fill="hold">
                      <p:stCondLst>
                        <p:cond evt="onClick">
                          <p:tgtEl>
                            <p:spTgt spid="180"/>
                          </p:tgtEl>
                        </p:cond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75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9" restart="whenNotActive" nodeType="interactiveSeq" fill="hold">
                <p:stCondLst>
                  <p:cond evt="onClick">
                    <p:tgtEl>
                      <p:spTgt spid="184"/>
                    </p:tgtEl>
                  </p:cond>
                </p:stCondLst>
                <p:childTnLst>
                  <p:par>
                    <p:cTn id="760" fill="hold">
                      <p:stCondLst>
                        <p:cond evt="onClick">
                          <p:tgtEl>
                            <p:spTgt spid="184"/>
                          </p:tgtEl>
                        </p:cond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763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65" restart="whenNotActive" nodeType="interactiveSeq" fill="hold">
                <p:stCondLst>
                  <p:cond evt="onClick">
                    <p:tgtEl>
                      <p:spTgt spid="176"/>
                    </p:tgtEl>
                  </p:cond>
                </p:stCondLst>
                <p:childTnLst>
                  <p:par>
                    <p:cTn id="766" fill="hold">
                      <p:stCondLst>
                        <p:cond evt="onClick">
                          <p:tgtEl>
                            <p:spTgt spid="176"/>
                          </p:tgtEl>
                        </p:cond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76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71" restart="whenNotActive" nodeType="interactiveSeq" fill="hold">
                <p:stCondLst>
                  <p:cond evt="onClick">
                    <p:tgtEl>
                      <p:spTgt spid="182"/>
                    </p:tgtEl>
                  </p:cond>
                </p:stCondLst>
                <p:childTnLst>
                  <p:par>
                    <p:cTn id="772" fill="hold">
                      <p:stCondLst>
                        <p:cond evt="onClick">
                          <p:tgtEl>
                            <p:spTgt spid="182"/>
                          </p:tgtEl>
                        </p:cond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775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77" restart="whenNotActive" nodeType="interactiveSeq" fill="hold">
                <p:stCondLst>
                  <p:cond evt="onClick">
                    <p:tgtEl>
                      <p:spTgt spid="179"/>
                    </p:tgtEl>
                  </p:cond>
                </p:stCondLst>
                <p:childTnLst>
                  <p:par>
                    <p:cTn id="778" fill="hold">
                      <p:stCondLst>
                        <p:cond evt="onClick">
                          <p:tgtEl>
                            <p:spTgt spid="179"/>
                          </p:tgtEl>
                        </p:cond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781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83" restart="whenNotActive" nodeType="interactiveSeq" fill="hold">
                <p:stCondLst>
                  <p:cond evt="onClick">
                    <p:tgtEl>
                      <p:spTgt spid="177"/>
                    </p:tgtEl>
                  </p:cond>
                </p:stCondLst>
                <p:childTnLst>
                  <p:par>
                    <p:cTn id="784" fill="hold">
                      <p:stCondLst>
                        <p:cond evt="onClick">
                          <p:tgtEl>
                            <p:spTgt spid="177"/>
                          </p:tgtEl>
                        </p:cond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78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89" restart="whenNotActive" nodeType="interactiveSeq" fill="hold">
                <p:stCondLst>
                  <p:cond evt="onClick">
                    <p:tgtEl>
                      <p:spTgt spid="175"/>
                    </p:tgtEl>
                  </p:cond>
                </p:stCondLst>
                <p:childTnLst>
                  <p:par>
                    <p:cTn id="790" fill="hold">
                      <p:stCondLst>
                        <p:cond evt="onClick">
                          <p:tgtEl>
                            <p:spTgt spid="175"/>
                          </p:tgtEl>
                        </p:cond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79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95" restart="whenNotActive" nodeType="interactiveSeq" fill="hold">
                <p:stCondLst>
                  <p:cond evt="onClick">
                    <p:tgtEl>
                      <p:spTgt spid="178"/>
                    </p:tgtEl>
                  </p:cond>
                </p:stCondLst>
                <p:childTnLst>
                  <p:par>
                    <p:cTn id="796" fill="hold">
                      <p:stCondLst>
                        <p:cond evt="onClick">
                          <p:tgtEl>
                            <p:spTgt spid="178"/>
                          </p:tgtEl>
                        </p:cond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applause.wav"/>
                                        </p:tgtEl>
                                      </p:cMediaNode>
                                    </p:audio>
                                    <p:animMotion origin="layout" path="M 0 0 C 0.00365 -0.00486 0.00833 -0.00811 0.01163 -0.01321 C 0.01267 -0.01506 0.0125 -0.01761 0.01319 -0.0197 C 0.01458 -0.02364 0.01649 -0.02711 0.01806 -0.03082 C 0.02205 -0.05098 0.02847 -0.06975 0.03281 -0.08992 C 0.0349 -0.09942 0.03941 -0.11819 0.03941 -0.11819 C 0.04097 -0.13302 0.04427 -0.14646 0.04931 -0.1599 C 0.05087 -0.17705 0.05312 -0.19374 0.05746 -0.21019 C 0.05937 -0.29247 0.0684 -0.38262 0.05573 -0.46187 C 0.05434 -0.48296 0.05503 -0.51124 0.04601 -0.52978 C 0.03941 -0.56245 0.01667 -0.59861 -0.00486 -0.61506 C -0.00972 -0.61877 -0.02083 -0.62688 -0.02622 -0.62804 C -0.03438 -0.62966 -0.04254 -0.62966 -0.05069 -0.63036 C -0.07778 -0.62873 -0.09497 -0.62734 -0.11962 -0.61946 C -0.13247 -0.61552 -0.14601 -0.61715 -0.15903 -0.61506 C -0.16719 -0.6095 -0.175 -0.60788 -0.18351 -0.60417 C -0.18507 -0.60278 -0.18663 -0.60092 -0.18837 -0.59977 C -0.19149 -0.59791 -0.19826 -0.59536 -0.19826 -0.59536 C -0.20365 -0.5905 -0.20799 -0.58517 -0.20816 -0.57566 C -0.20868 -0.52607 -0.20816 -0.47647 -0.20816 -0.42688 E">
                                      <p:cBhvr>
                                        <p:cTn id="799" dur="2000" fill="hold"/>
                                        <p:tgtEl>
                                          <p:spTgt spid="1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1187280" y="0"/>
            <a:ext cx="7129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Comic Sans MS"/>
              </a:rPr>
              <a:t>Two times tabl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843280" y="1989000"/>
            <a:ext cx="2665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4 x 2 =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771640" y="3933720"/>
            <a:ext cx="865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851280" y="3573360"/>
            <a:ext cx="122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1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619280" y="4581360"/>
            <a:ext cx="865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50920" y="5516640"/>
            <a:ext cx="1081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084720" y="5373720"/>
            <a:ext cx="122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1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596360" y="4869000"/>
            <a:ext cx="129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2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716360" y="5300640"/>
            <a:ext cx="122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1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580000" y="4149720"/>
            <a:ext cx="1225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1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95280" y="4437000"/>
            <a:ext cx="865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700360" y="5516640"/>
            <a:ext cx="1511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2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39640" y="2708280"/>
            <a:ext cx="107964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1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380360" y="350028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2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0" dur="indefinite" restart="never" nodeType="tmRoot">
          <p:childTnLst>
            <p:seq>
              <p:cTn id="801" dur="indefinite" nodeType="mainSeq">
                <p:childTnLst>
                  <p:par>
                    <p:cTn id="802" fill="hold">
                      <p:stCondLst>
                        <p:cond delay="0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6" dur="100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7" dur="100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8" dur="100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09" restart="whenNotActive" nodeType="interactiveSeq" fill="hold">
                <p:stCondLst>
                  <p:cond evt="onClick">
                    <p:tgtEl>
                      <p:spTgt spid="197"/>
                    </p:tgtEl>
                  </p:cond>
                </p:stCondLst>
                <p:childTnLst>
                  <p:par>
                    <p:cTn id="810" fill="hold">
                      <p:stCondLst>
                        <p:cond evt="onClick">
                          <p:tgtEl>
                            <p:spTgt spid="197"/>
                          </p:tgtEl>
                        </p:cond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813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15" restart="whenNotActive" nodeType="interactiveSeq" fill="hold">
                <p:stCondLst>
                  <p:cond evt="onClick">
                    <p:tgtEl>
                      <p:spTgt spid="195"/>
                    </p:tgtEl>
                  </p:cond>
                </p:stCondLst>
                <p:childTnLst>
                  <p:par>
                    <p:cTn id="816" fill="hold">
                      <p:stCondLst>
                        <p:cond evt="onClick">
                          <p:tgtEl>
                            <p:spTgt spid="195"/>
                          </p:tgtEl>
                        </p:cond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819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1" restart="whenNotActive" nodeType="interactiveSeq" fill="hold">
                <p:stCondLst>
                  <p:cond evt="onClick">
                    <p:tgtEl>
                      <p:spTgt spid="188"/>
                    </p:tgtEl>
                  </p:cond>
                </p:stCondLst>
                <p:childTnLst>
                  <p:par>
                    <p:cTn id="822" fill="hold">
                      <p:stCondLst>
                        <p:cond evt="onClick">
                          <p:tgtEl>
                            <p:spTgt spid="188"/>
                          </p:tgtEl>
                        </p:cond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82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7" restart="whenNotActive" nodeType="interactiveSeq" fill="hold">
                <p:stCondLst>
                  <p:cond evt="onClick">
                    <p:tgtEl>
                      <p:spTgt spid="194"/>
                    </p:tgtEl>
                  </p:cond>
                </p:stCondLst>
                <p:childTnLst>
                  <p:par>
                    <p:cTn id="828" fill="hold">
                      <p:stCondLst>
                        <p:cond evt="onClick">
                          <p:tgtEl>
                            <p:spTgt spid="194"/>
                          </p:tgtEl>
                        </p:cond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831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33" restart="whenNotActive" nodeType="interactiveSeq" fill="hold">
                <p:stCondLst>
                  <p:cond evt="onClick">
                    <p:tgtEl>
                      <p:spTgt spid="198"/>
                    </p:tgtEl>
                  </p:cond>
                </p:stCondLst>
                <p:childTnLst>
                  <p:par>
                    <p:cTn id="834" fill="hold">
                      <p:stCondLst>
                        <p:cond evt="onClick">
                          <p:tgtEl>
                            <p:spTgt spid="198"/>
                          </p:tgtEl>
                        </p:cond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83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39" restart="whenNotActive" nodeType="interactiveSeq" fill="hold">
                <p:stCondLst>
                  <p:cond evt="onClick">
                    <p:tgtEl>
                      <p:spTgt spid="190"/>
                    </p:tgtEl>
                  </p:cond>
                </p:stCondLst>
                <p:childTnLst>
                  <p:par>
                    <p:cTn id="840" fill="hold">
                      <p:stCondLst>
                        <p:cond evt="onClick">
                          <p:tgtEl>
                            <p:spTgt spid="190"/>
                          </p:tgtEl>
                        </p:cond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843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5" restart="whenNotActive" nodeType="interactiveSeq" fill="hold">
                <p:stCondLst>
                  <p:cond evt="onClick">
                    <p:tgtEl>
                      <p:spTgt spid="196"/>
                    </p:tgtEl>
                  </p:cond>
                </p:stCondLst>
                <p:childTnLst>
                  <p:par>
                    <p:cTn id="846" fill="hold">
                      <p:stCondLst>
                        <p:cond evt="onClick">
                          <p:tgtEl>
                            <p:spTgt spid="196"/>
                          </p:tgtEl>
                        </p:cond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849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51" restart="whenNotActive" nodeType="interactiveSeq" fill="hold">
                <p:stCondLst>
                  <p:cond evt="onClick">
                    <p:tgtEl>
                      <p:spTgt spid="193"/>
                    </p:tgtEl>
                  </p:cond>
                </p:stCondLst>
                <p:childTnLst>
                  <p:par>
                    <p:cTn id="852" fill="hold">
                      <p:stCondLst>
                        <p:cond evt="onClick">
                          <p:tgtEl>
                            <p:spTgt spid="193"/>
                          </p:tgtEl>
                        </p:cond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85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57" restart="whenNotActive" nodeType="interactiveSeq" fill="hold">
                <p:stCondLst>
                  <p:cond evt="onClick">
                    <p:tgtEl>
                      <p:spTgt spid="191"/>
                    </p:tgtEl>
                  </p:cond>
                </p:stCondLst>
                <p:childTnLst>
                  <p:par>
                    <p:cTn id="858" fill="hold">
                      <p:stCondLst>
                        <p:cond evt="onClick">
                          <p:tgtEl>
                            <p:spTgt spid="191"/>
                          </p:tgtEl>
                        </p:cond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8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63" restart="whenNotActive" nodeType="interactiveSeq" fill="hold">
                <p:stCondLst>
                  <p:cond evt="onClick">
                    <p:tgtEl>
                      <p:spTgt spid="192"/>
                    </p:tgtEl>
                  </p:cond>
                </p:stCondLst>
                <p:childTnLst>
                  <p:par>
                    <p:cTn id="864" fill="hold">
                      <p:stCondLst>
                        <p:cond evt="onClick">
                          <p:tgtEl>
                            <p:spTgt spid="192"/>
                          </p:tgtEl>
                        </p:cond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86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69" restart="whenNotActive" nodeType="interactiveSeq" fill="hold">
                <p:stCondLst>
                  <p:cond evt="onClick">
                    <p:tgtEl>
                      <p:spTgt spid="189"/>
                    </p:tgtEl>
                  </p:cond>
                </p:stCondLst>
                <p:childTnLst>
                  <p:par>
                    <p:cTn id="870" fill="hold">
                      <p:stCondLst>
                        <p:cond evt="onClick">
                          <p:tgtEl>
                            <p:spTgt spid="189"/>
                          </p:tgtEl>
                        </p:cond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873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75" restart="whenNotActive" nodeType="interactiveSeq" fill="hold">
                <p:stCondLst>
                  <p:cond evt="onClick">
                    <p:tgtEl>
                      <p:spTgt spid="187"/>
                    </p:tgtEl>
                  </p:cond>
                </p:stCondLst>
                <p:childTnLst>
                  <p:par>
                    <p:cTn id="876" fill="hold">
                      <p:stCondLst>
                        <p:cond evt="onClick">
                          <p:tgtEl>
                            <p:spTgt spid="187"/>
                          </p:tgtEl>
                        </p:cond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applause.wav"/>
                                        </p:tgtEl>
                                      </p:cMediaNode>
                                    </p:audio>
                                    <p:animMotion origin="layout" path="M 0 0 C 0.02326 0.02057 0.04097 0.02867 0.0684 0.0326 C 0.08472 0.03977 0.10035 0.04277 0.11753 0.04439 C 0.18524 0.07445 0.3316 0.04208 0.3316 0.04208 C 0.35417 0.04 0.37587 0.03537 0.39826 0.0326 C 0.41354 0.02589 0.42934 0.02358 0.44375 0.01387 C 0.44948 0.00277 0.45729 -0.00463 0.46667 -0.00948 C 0.47552 -0.02127 0.48698 -0.03006 0.49826 -0.03746 C 0.5 -0.04047 0.50139 -0.04393 0.50347 -0.04671 C 0.50503 -0.04879 0.50746 -0.04925 0.50868 -0.05156 C 0.51042 -0.05503 0.51076 -0.05943 0.51215 -0.06312 C 0.51892 -0.08093 0.51597 -0.06844 0.52101 -0.08416 C 0.5243 -0.09434 0.52448 -0.10058 0.52969 -0.10983 C 0.53107 -0.12532 0.53351 -0.13896 0.53507 -0.15422 C 0.5342 -0.18497 0.53889 -0.24162 0.52448 -0.27122 C 0.52101 -0.28995 0.52552 -0.27099 0.51753 -0.28971 C 0.51667 -0.29179 0.51667 -0.2948 0.5158 -0.29688 C 0.51094 -0.30844 0.50937 -0.3096 0.50347 -0.31792 C 0.49913 -0.33526 0.5059 -0.31445 0.49462 -0.32717 C 0.49253 -0.32948 0.49288 -0.33388 0.49114 -0.33665 C 0.48923 -0.33966 0.48646 -0.34104 0.4842 -0.34359 C 0.47743 -0.35122 0.47031 -0.36047 0.46302 -0.36694 C 0.44792 -0.38012 0.41944 -0.38289 0.40173 -0.38798 C 0.38923 -0.39168 0.3776 -0.39838 0.36493 -0.40185 C 0.3467 -0.39977 0.32621 -0.40393 0.31042 -0.39029 C 0.30851 -0.38521 0.30538 -0.38127 0.30347 -0.37619 C 0.30052 -0.36833 0.29913 -0.35862 0.29635 -0.35052 C 0.29531 -0.34729 0.29375 -0.34451 0.29288 -0.34127 C 0.29149 -0.33665 0.28941 -0.32717 0.28941 -0.32717 C 0.2875 -0.28047 0.29826 -0.28509 0.27708 -0.28509 E">
                                      <p:cBhvr>
                                        <p:cTn id="879" dur="2000" fill="hold"/>
                                        <p:tgtEl>
                                          <p:spTgt spid="1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1187280" y="0"/>
            <a:ext cx="7129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Comic Sans MS"/>
              </a:rPr>
              <a:t>Two times tabl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843280" y="1989000"/>
            <a:ext cx="309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10 x 2 =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771640" y="3933720"/>
            <a:ext cx="865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851280" y="3573360"/>
            <a:ext cx="122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1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619280" y="4581360"/>
            <a:ext cx="865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50920" y="5516640"/>
            <a:ext cx="1081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084720" y="5373720"/>
            <a:ext cx="122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1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596360" y="4869000"/>
            <a:ext cx="129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2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716360" y="5300640"/>
            <a:ext cx="122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1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580000" y="4149720"/>
            <a:ext cx="1225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1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5280" y="4437000"/>
            <a:ext cx="865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700360" y="5516640"/>
            <a:ext cx="1511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2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39640" y="2708280"/>
            <a:ext cx="107964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1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380360" y="350028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2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0" dur="indefinite" restart="never" nodeType="tmRoot">
          <p:childTnLst>
            <p:seq>
              <p:cTn id="881" dur="indefinite" nodeType="mainSeq">
                <p:childTnLst>
                  <p:par>
                    <p:cTn id="882" fill="hold">
                      <p:stCondLst>
                        <p:cond delay="0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86" dur="100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87" dur="100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8" dur="100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89" restart="whenNotActive" nodeType="interactiveSeq" fill="hold">
                <p:stCondLst>
                  <p:cond evt="onClick">
                    <p:tgtEl>
                      <p:spTgt spid="211"/>
                    </p:tgtEl>
                  </p:cond>
                </p:stCondLst>
                <p:childTnLst>
                  <p:par>
                    <p:cTn id="890" fill="hold">
                      <p:stCondLst>
                        <p:cond evt="onClick">
                          <p:tgtEl>
                            <p:spTgt spid="211"/>
                          </p:tgtEl>
                        </p:cond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89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95" restart="whenNotActive" nodeType="interactiveSeq" fill="hold">
                <p:stCondLst>
                  <p:cond evt="onClick">
                    <p:tgtEl>
                      <p:spTgt spid="209"/>
                    </p:tgtEl>
                  </p:cond>
                </p:stCondLst>
                <p:childTnLst>
                  <p:par>
                    <p:cTn id="896" fill="hold">
                      <p:stCondLst>
                        <p:cond evt="onClick">
                          <p:tgtEl>
                            <p:spTgt spid="209"/>
                          </p:tgtEl>
                        </p:cond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899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01" restart="whenNotActive" nodeType="interactiveSeq" fill="hold">
                <p:stCondLst>
                  <p:cond evt="onClick">
                    <p:tgtEl>
                      <p:spTgt spid="201"/>
                    </p:tgtEl>
                  </p:cond>
                </p:stCondLst>
                <p:childTnLst>
                  <p:par>
                    <p:cTn id="902" fill="hold">
                      <p:stCondLst>
                        <p:cond evt="onClick">
                          <p:tgtEl>
                            <p:spTgt spid="201"/>
                          </p:tgtEl>
                        </p:cond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905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07" restart="whenNotActive" nodeType="interactiveSeq" fill="hold">
                <p:stCondLst>
                  <p:cond evt="onClick">
                    <p:tgtEl>
                      <p:spTgt spid="202"/>
                    </p:tgtEl>
                  </p:cond>
                </p:stCondLst>
                <p:childTnLst>
                  <p:par>
                    <p:cTn id="908" fill="hold">
                      <p:stCondLst>
                        <p:cond evt="onClick">
                          <p:tgtEl>
                            <p:spTgt spid="202"/>
                          </p:tgtEl>
                        </p:cond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911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13" restart="whenNotActive" nodeType="interactiveSeq" fill="hold">
                <p:stCondLst>
                  <p:cond evt="onClick">
                    <p:tgtEl>
                      <p:spTgt spid="208"/>
                    </p:tgtEl>
                  </p:cond>
                </p:stCondLst>
                <p:childTnLst>
                  <p:par>
                    <p:cTn id="914" fill="hold">
                      <p:stCondLst>
                        <p:cond evt="onClick">
                          <p:tgtEl>
                            <p:spTgt spid="208"/>
                          </p:tgtEl>
                        </p:cond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917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19" restart="whenNotActive" nodeType="interactiveSeq" fill="hold">
                <p:stCondLst>
                  <p:cond evt="onClick">
                    <p:tgtEl>
                      <p:spTgt spid="212"/>
                    </p:tgtEl>
                  </p:cond>
                </p:stCondLst>
                <p:childTnLst>
                  <p:par>
                    <p:cTn id="920" fill="hold">
                      <p:stCondLst>
                        <p:cond evt="onClick">
                          <p:tgtEl>
                            <p:spTgt spid="212"/>
                          </p:tgtEl>
                        </p:cond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923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5" restart="whenNotActive" nodeType="interactiveSeq" fill="hold">
                <p:stCondLst>
                  <p:cond evt="onClick">
                    <p:tgtEl>
                      <p:spTgt spid="204"/>
                    </p:tgtEl>
                  </p:cond>
                </p:stCondLst>
                <p:childTnLst>
                  <p:par>
                    <p:cTn id="926" fill="hold">
                      <p:stCondLst>
                        <p:cond evt="onClick">
                          <p:tgtEl>
                            <p:spTgt spid="204"/>
                          </p:tgtEl>
                        </p:cond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92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31" restart="whenNotActive" nodeType="interactiveSeq" fill="hold">
                <p:stCondLst>
                  <p:cond evt="onClick">
                    <p:tgtEl>
                      <p:spTgt spid="207"/>
                    </p:tgtEl>
                  </p:cond>
                </p:stCondLst>
                <p:childTnLst>
                  <p:par>
                    <p:cTn id="932" fill="hold">
                      <p:stCondLst>
                        <p:cond evt="onClick">
                          <p:tgtEl>
                            <p:spTgt spid="207"/>
                          </p:tgtEl>
                        </p:cond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935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37" restart="whenNotActive" nodeType="interactiveSeq" fill="hold">
                <p:stCondLst>
                  <p:cond evt="onClick">
                    <p:tgtEl>
                      <p:spTgt spid="205"/>
                    </p:tgtEl>
                  </p:cond>
                </p:stCondLst>
                <p:childTnLst>
                  <p:par>
                    <p:cTn id="938" fill="hold">
                      <p:stCondLst>
                        <p:cond evt="onClick">
                          <p:tgtEl>
                            <p:spTgt spid="205"/>
                          </p:tgtEl>
                        </p:cond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941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43" restart="whenNotActive" nodeType="interactiveSeq" fill="hold">
                <p:stCondLst>
                  <p:cond evt="onClick">
                    <p:tgtEl>
                      <p:spTgt spid="206"/>
                    </p:tgtEl>
                  </p:cond>
                </p:stCondLst>
                <p:childTnLst>
                  <p:par>
                    <p:cTn id="944" fill="hold">
                      <p:stCondLst>
                        <p:cond evt="onClick">
                          <p:tgtEl>
                            <p:spTgt spid="206"/>
                          </p:tgtEl>
                        </p:cond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94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49" restart="whenNotActive" nodeType="interactiveSeq" fill="hold">
                <p:stCondLst>
                  <p:cond evt="onClick">
                    <p:tgtEl>
                      <p:spTgt spid="203"/>
                    </p:tgtEl>
                  </p:cond>
                </p:stCondLst>
                <p:childTnLst>
                  <p:par>
                    <p:cTn id="950" fill="hold">
                      <p:stCondLst>
                        <p:cond evt="onClick">
                          <p:tgtEl>
                            <p:spTgt spid="203"/>
                          </p:tgtEl>
                        </p:cond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953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55" restart="whenNotActive" nodeType="interactiveSeq" fill="hold">
                <p:stCondLst>
                  <p:cond evt="onClick">
                    <p:tgtEl>
                      <p:spTgt spid="210"/>
                    </p:tgtEl>
                  </p:cond>
                </p:stCondLst>
                <p:childTnLst>
                  <p:par>
                    <p:cTn id="956" fill="hold">
                      <p:stCondLst>
                        <p:cond evt="onClick">
                          <p:tgtEl>
                            <p:spTgt spid="210"/>
                          </p:tgtEl>
                        </p:cond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applause.wav"/>
                                        </p:tgtEl>
                                      </p:cMediaNode>
                                    </p:audio>
                                    <p:animMotion origin="layout" path="M 0.03542 0.00279 C 0.06163 -0.00648 0.09063 -0.00927 0.11736 -0.01483 C 0.13299 -0.02224 0.14983 -0.02734 0.16493 -0.03661 C 0.19358 -0.05422 0.21875 -0.06929 0.24861 -0.08482 C 0.26858 -0.09524 0.28837 -0.11355 0.30764 -0.1263 C 0.32344 -0.13673 0.33889 -0.14391 0.35347 -0.15689 C 0.36215 -0.16477 0.37136 -0.17473 0.37969 -0.18331 C 0.39202 -0.19582 0.39636 -0.22201 0.4092 -0.2336 C 0.41268 -0.2431 0.41945 -0.25005 0.4224 -0.25979 C 0.42656 -0.27346 0.42361 -0.2679 0.43056 -0.2774 C 0.43368 -0.28991 0.4382 -0.29733 0.44375 -0.30799 C 0.4474 -0.32259 0.44913 -0.33464 0.45521 -0.34739 C 0.4599 -0.35712 0.46997 -0.37589 0.46997 -0.37566 C 0.475 -0.39698 0.48195 -0.41668 0.48785 -0.43708 C 0.49323 -0.45585 0.49636 -0.47508 0.50104 -0.49409 C 0.50469 -0.50869 0.50764 -0.52004 0.5092 -0.53557 C 0.50816 -0.55318 0.50851 -0.57103 0.5059 -0.58818 C 0.50521 -0.59327 0.50122 -0.59652 0.49948 -0.60115 C 0.48698 -0.63476 0.44254 -0.6475 0.41736 -0.65144 C 0.40538 -0.65075 0.3934 -0.65052 0.38143 -0.64936 C 0.37327 -0.64866 0.37604 -0.64635 0.36823 -0.64287 C 0.35868 -0.63847 0.34844 -0.63615 0.33872 -0.63174 C 0.33177 -0.62479 0.32413 -0.61946 0.3158 -0.61645 C 0.31198 -0.6088 0.3092 -0.60417 0.30261 -0.60115 C 0.29705 -0.59049 0.29202 -0.58192 0.28785 -0.57056 C 0.28368 -0.54716 0.27882 -0.53348 0.29774 -0.52676 C 0.30868 -0.52977 0.30313 -0.52908 0.31424 -0.52908 E">
                                      <p:cBhvr>
                                        <p:cTn id="959" dur="2000" fill="hold"/>
                                        <p:tgtEl>
                                          <p:spTgt spid="2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187280" y="0"/>
            <a:ext cx="7129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Comic Sans MS"/>
              </a:rPr>
              <a:t>Two times tabl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843280" y="1989000"/>
            <a:ext cx="3384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1  x 2 =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71640" y="3933720"/>
            <a:ext cx="865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851280" y="3573360"/>
            <a:ext cx="122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1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619280" y="4581360"/>
            <a:ext cx="865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50920" y="5516640"/>
            <a:ext cx="1081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84720" y="5373720"/>
            <a:ext cx="122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1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596360" y="4869000"/>
            <a:ext cx="129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2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716360" y="5300640"/>
            <a:ext cx="122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1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80000" y="4149720"/>
            <a:ext cx="1225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1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95280" y="4437000"/>
            <a:ext cx="865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700360" y="5516640"/>
            <a:ext cx="1511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2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9640" y="2708280"/>
            <a:ext cx="107964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1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380360" y="350028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2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10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10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10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animMotion origin="layout" path="M 4.44444E-006 1.68019E-006 C 0.10659 0.00394 0.11857 0.00649 0.26493 -0.00255 C 0.27465 -0.00278 0.28975 -0.01228 0.30034 -0.01391 C 0.31857 -0.02063 0.33576 -0.02758 0.35382 -0.035 C 0.36232 -0.0445 0.3717 -0.05052 0.38246 -0.05377 C 0.39079 -0.06165 0.39947 -0.06767 0.40798 -0.07463 C 0.42031 -0.08482 0.43194 -0.09618 0.44531 -0.10267 C 0.45607 -0.11449 0.46302 -0.12909 0.4743 -0.13998 C 0.48906 -0.16895 0.47083 -0.13442 0.48402 -0.15365 C 0.48941 -0.16176 0.49045 -0.16895 0.4967 -0.17497 C 0.49774 -0.17683 0.49913 -0.17938 0.5 -0.18146 C 0.50069 -0.18401 0.50069 -0.18656 0.50173 -0.18888 C 0.50555 -0.19768 0.51024 -0.2058 0.51475 -0.21437 C 0.5177 -0.2204 0.52239 -0.23314 0.52239 -0.23268 C 0.52534 -0.2584 0.52135 -0.23708 0.52916 -0.25609 C 0.53142 -0.26257 0.53524 -0.27509 0.53524 -0.27486 C 0.53628 -0.28204 0.54027 -0.28876 0.54045 -0.29571 C 0.54166 -0.34554 0.5434 -0.33697 0.53524 -0.36362 C 0.5342 -0.37335 0.53316 -0.39166 0.5276 -0.39838 C 0.52604 -0.39977 0.52413 -0.39954 0.52239 -0.40116 C 0.51701 -0.40487 0.5125 -0.4095 0.50642 -0.41182 C 0.49184 -0.41113 0.48645 -0.4095 0.4743 -0.4058 C 0.47083 -0.39745 0.46822 -0.39235 0.46128 -0.38934 C 0.45816 -0.38586 0.45138 -0.37984 0.45138 -0.37961 E">
                                      <p:cBhvr>
                                        <p:cTn id="13" dur="2000" fill="hold"/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" restart="whenNotActive" nodeType="interactiveSeq" fill="hold">
                <p:stCondLst>
                  <p:cond evt="onClick">
                    <p:tgtEl>
                      <p:spTgt spid="5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5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" restart="whenNotActive" nodeType="interactiveSeq" fill="hold">
                <p:stCondLst>
                  <p:cond evt="onClick">
                    <p:tgtEl>
                      <p:spTgt spid="5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5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2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" restart="whenNotActive" nodeType="interactiveSeq" fill="hold">
                <p:stCondLst>
                  <p:cond evt="onClick">
                    <p:tgtEl>
                      <p:spTgt spid="47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47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30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" restart="whenNotActive" nodeType="interactiveSeq" fill="hold">
                <p:stCondLst>
                  <p:cond evt="onClick">
                    <p:tgtEl>
                      <p:spTgt spid="48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48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36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" restart="whenNotActive" nodeType="interactiveSeq" fill="hold">
                <p:stCondLst>
                  <p:cond evt="onClick">
                    <p:tgtEl>
                      <p:spTgt spid="54"/>
                    </p:tgtEl>
                  </p:cond>
                </p:stCondLst>
                <p:childTnLst>
                  <p:par>
                    <p:cTn id="39" fill="hold">
                      <p:stCondLst>
                        <p:cond evt="onClick">
                          <p:tgtEl>
                            <p:spTgt spid="54"/>
                          </p:tgtEl>
                        </p:cond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4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" restart="whenNotActive" nodeType="interactiveSeq" fill="hold">
                <p:stCondLst>
                  <p:cond evt="onClick">
                    <p:tgtEl>
                      <p:spTgt spid="58"/>
                    </p:tgtEl>
                  </p:cond>
                </p:stCondLst>
                <p:childTnLst>
                  <p:par>
                    <p:cTn id="45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" restart="whenNotActive" nodeType="interactiveSeq" fill="hold">
                <p:stCondLst>
                  <p:cond evt="onClick">
                    <p:tgtEl>
                      <p:spTgt spid="50"/>
                    </p:tgtEl>
                  </p:cond>
                </p:stCondLst>
                <p:childTnLst>
                  <p:par>
                    <p:cTn id="51" fill="hold">
                      <p:stCondLst>
                        <p:cond evt="onClick">
                          <p:tgtEl>
                            <p:spTgt spid="50"/>
                          </p:tgtEl>
                        </p:cond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5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" restart="whenNotActive" nodeType="interactiveSeq" fill="hold">
                <p:stCondLst>
                  <p:cond evt="onClick">
                    <p:tgtEl>
                      <p:spTgt spid="56"/>
                    </p:tgtEl>
                  </p:cond>
                </p:stCondLst>
                <p:childTnLst>
                  <p:par>
                    <p:cTn id="57" fill="hold">
                      <p:stCondLst>
                        <p:cond evt="onClick">
                          <p:tgtEl>
                            <p:spTgt spid="56"/>
                          </p:tgtEl>
                        </p:cond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60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" restart="whenNotActive" nodeType="interactiveSeq" fill="hold">
                <p:stCondLst>
                  <p:cond evt="onClick">
                    <p:tgtEl>
                      <p:spTgt spid="53"/>
                    </p:tgtEl>
                  </p:cond>
                </p:stCondLst>
                <p:childTnLst>
                  <p:par>
                    <p:cTn id="63" fill="hold">
                      <p:stCondLst>
                        <p:cond evt="onClick">
                          <p:tgtEl>
                            <p:spTgt spid="53"/>
                          </p:tgtEl>
                        </p:cond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66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" restart="whenNotActive" nodeType="interactiveSeq" fill="hold">
                <p:stCondLst>
                  <p:cond evt="onClick">
                    <p:tgtEl>
                      <p:spTgt spid="51"/>
                    </p:tgtEl>
                  </p:cond>
                </p:stCondLst>
                <p:childTnLst>
                  <p:par>
                    <p:cTn id="69" fill="hold">
                      <p:stCondLst>
                        <p:cond evt="onClick">
                          <p:tgtEl>
                            <p:spTgt spid="51"/>
                          </p:tgtEl>
                        </p:cond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7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" restart="whenNotActive" nodeType="interactiveSeq" fill="hold">
                <p:stCondLst>
                  <p:cond evt="onClick">
                    <p:tgtEl>
                      <p:spTgt spid="52"/>
                    </p:tgtEl>
                  </p:cond>
                </p:stCondLst>
                <p:childTnLst>
                  <p:par>
                    <p:cTn id="75" fill="hold">
                      <p:stCondLst>
                        <p:cond evt="onClick">
                          <p:tgtEl>
                            <p:spTgt spid="52"/>
                          </p:tgtEl>
                        </p:cond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78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187280" y="0"/>
            <a:ext cx="7129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Comic Sans MS"/>
              </a:rPr>
              <a:t>Two times tabl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843280" y="1989000"/>
            <a:ext cx="280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5 x 2 =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771640" y="3933720"/>
            <a:ext cx="865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851280" y="3573360"/>
            <a:ext cx="122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1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619280" y="4581360"/>
            <a:ext cx="865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50920" y="5516640"/>
            <a:ext cx="1081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084720" y="5373720"/>
            <a:ext cx="122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1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596360" y="4869000"/>
            <a:ext cx="129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2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5300640"/>
            <a:ext cx="122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1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580000" y="4149720"/>
            <a:ext cx="1225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1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95280" y="4437000"/>
            <a:ext cx="865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700360" y="5516640"/>
            <a:ext cx="1511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2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39640" y="2708280"/>
            <a:ext cx="107964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1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380360" y="350028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2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6" dur="10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7" dur="10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" dur="10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9" restart="whenNotActive" nodeType="interactiveSeq" fill="hold">
                <p:stCondLst>
                  <p:cond evt="onClick">
                    <p:tgtEl>
                      <p:spTgt spid="71"/>
                    </p:tgtEl>
                  </p:cond>
                </p:stCondLst>
                <p:childTnLst>
                  <p:par>
                    <p:cTn id="90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9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5" restart="whenNotActive" nodeType="interactiveSeq" fill="hold">
                <p:stCondLst>
                  <p:cond evt="onClick">
                    <p:tgtEl>
                      <p:spTgt spid="69"/>
                    </p:tgtEl>
                  </p:cond>
                </p:stCondLst>
                <p:childTnLst>
                  <p:par>
                    <p:cTn id="96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9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1" restart="whenNotActive" nodeType="interactiveSeq" fill="hold">
                <p:stCondLst>
                  <p:cond evt="onClick">
                    <p:tgtEl>
                      <p:spTgt spid="61"/>
                    </p:tgtEl>
                  </p:cond>
                </p:stCondLst>
                <p:childTnLst>
                  <p:par>
                    <p:cTn id="102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0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7" restart="whenNotActive" nodeType="interactiveSeq" fill="hold">
                <p:stCondLst>
                  <p:cond evt="onClick">
                    <p:tgtEl>
                      <p:spTgt spid="68"/>
                    </p:tgtEl>
                  </p:cond>
                </p:stCondLst>
                <p:childTnLst>
                  <p:par>
                    <p:cTn id="108" fill="hold">
                      <p:stCondLst>
                        <p:cond evt="onClick">
                          <p:tgtEl>
                            <p:spTgt spid="68"/>
                          </p:tgtEl>
                        </p:cond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1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3" restart="whenNotActive" nodeType="interactiveSeq" fill="hold">
                <p:stCondLst>
                  <p:cond evt="onClick">
                    <p:tgtEl>
                      <p:spTgt spid="72"/>
                    </p:tgtEl>
                  </p:cond>
                </p:stCondLst>
                <p:childTnLst>
                  <p:par>
                    <p:cTn id="114" fill="hold">
                      <p:stCondLst>
                        <p:cond evt="onClick">
                          <p:tgtEl>
                            <p:spTgt spid="72"/>
                          </p:tgtEl>
                        </p:cond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1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9" restart="whenNotActive" nodeType="interactiveSeq" fill="hold">
                <p:stCondLst>
                  <p:cond evt="onClick">
                    <p:tgtEl>
                      <p:spTgt spid="64"/>
                    </p:tgtEl>
                  </p:cond>
                </p:stCondLst>
                <p:childTnLst>
                  <p:par>
                    <p:cTn id="120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2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5" restart="whenNotActive" nodeType="interactiveSeq" fill="hold">
                <p:stCondLst>
                  <p:cond evt="onClick">
                    <p:tgtEl>
                      <p:spTgt spid="70"/>
                    </p:tgtEl>
                  </p:cond>
                </p:stCondLst>
                <p:childTnLst>
                  <p:par>
                    <p:cTn id="126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2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1" restart="whenNotActive" nodeType="interactiveSeq" fill="hold">
                <p:stCondLst>
                  <p:cond evt="onClick">
                    <p:tgtEl>
                      <p:spTgt spid="67"/>
                    </p:tgtEl>
                  </p:cond>
                </p:stCondLst>
                <p:childTnLst>
                  <p:par>
                    <p:cTn id="132" fill="hold">
                      <p:stCondLst>
                        <p:cond evt="onClick">
                          <p:tgtEl>
                            <p:spTgt spid="67"/>
                          </p:tgtEl>
                        </p:cond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3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7" restart="whenNotActive" nodeType="interactiveSeq" fill="hold">
                <p:stCondLst>
                  <p:cond evt="onClick">
                    <p:tgtEl>
                      <p:spTgt spid="65"/>
                    </p:tgtEl>
                  </p:cond>
                </p:stCondLst>
                <p:childTnLst>
                  <p:par>
                    <p:cTn id="138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4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3" restart="whenNotActive" nodeType="interactiveSeq" fill="hold">
                <p:stCondLst>
                  <p:cond evt="onClick">
                    <p:tgtEl>
                      <p:spTgt spid="66"/>
                    </p:tgtEl>
                  </p:cond>
                </p:stCondLst>
                <p:childTnLst>
                  <p:par>
                    <p:cTn id="144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4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9" restart="whenNotActive" nodeType="interactiveSeq" fill="hold">
                <p:stCondLst>
                  <p:cond evt="onClick">
                    <p:tgtEl>
                      <p:spTgt spid="62"/>
                    </p:tgtEl>
                  </p:cond>
                </p:stCondLst>
                <p:childTnLst>
                  <p:par>
                    <p:cTn id="150" fill="hold">
                      <p:stCondLst>
                        <p:cond evt="onClick">
                          <p:tgtEl>
                            <p:spTgt spid="62"/>
                          </p:tgtEl>
                        </p:cond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applause.wav"/>
                                        </p:tgtEl>
                                      </p:cMediaNode>
                                    </p:audio>
                                    <p:animMotion origin="layout" path="M 0 0 C 0.03142 -0.00139 0.05955 -0.00255 0.0901 -0.00881 C 0.1099 -0.01738 0.13038 -0.02549 0.1507 -0.03059 C 0.16302 -0.03708 0.17587 -0.04195 0.18837 -0.04821 C 0.19045 -0.04937 0.19271 -0.0496 0.19497 -0.05029 C 0.19722 -0.05099 0.19948 -0.05145 0.20156 -0.05261 C 0.20747 -0.05562 0.21285 -0.06118 0.21788 -0.06559 C 0.21962 -0.06698 0.22292 -0.06999 0.22292 -0.06999 C 0.22622 -0.07671 0.23038 -0.08366 0.23438 -0.08969 C 0.23906 -0.09664 0.24531 -0.10174 0.24913 -0.10939 C 0.25677 -0.12468 0.25243 -0.11959 0.26059 -0.127 C 0.26285 -0.1314 0.26493 -0.13581 0.26719 -0.13998 C 0.26875 -0.14299 0.27205 -0.14879 0.27205 -0.14879 C 0.27604 -0.1715 0.27066 -0.14531 0.27691 -0.16408 C 0.2783 -0.16825 0.28021 -0.17729 0.28021 -0.17729 C 0.28142 -0.20232 0.29167 -0.25655 0.26719 -0.26698 C 0.2625 -0.27602 0.2566 -0.28088 0.24913 -0.28459 C 0.23229 -0.30707 0.22292 -0.308 0.2 -0.31078 C 0.19149 -0.30846 0.18351 -0.30591 0.17535 -0.30197 C 0.16945 -0.29015 0.16389 -0.28042 0.16059 -0.26698 C 0.16111 -0.25979 0.16042 -0.25215 0.16215 -0.24519 C 0.16337 -0.24056 0.17205 -0.23847 0.17205 -0.23847 E">
                                      <p:cBhvr>
                                        <p:cTn id="153" dur="2000" fill="hold"/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4" restart="whenNotActive" nodeType="interactiveSeq" fill="hold">
                <p:stCondLst>
                  <p:cond evt="onClick">
                    <p:tgtEl>
                      <p:spTgt spid="63"/>
                    </p:tgtEl>
                  </p:cond>
                </p:stCondLst>
                <p:childTnLst>
                  <p:par>
                    <p:cTn id="155" fill="hold">
                      <p:stCondLst>
                        <p:cond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58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1258920" y="0"/>
            <a:ext cx="712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Comic Sans MS"/>
              </a:rPr>
              <a:t>Two times tabl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843280" y="1989000"/>
            <a:ext cx="2881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9 x 2 =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771640" y="3933720"/>
            <a:ext cx="865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851280" y="3573360"/>
            <a:ext cx="122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1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619280" y="4581360"/>
            <a:ext cx="865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0920" y="5516640"/>
            <a:ext cx="1081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084720" y="5373720"/>
            <a:ext cx="122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1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596360" y="4869000"/>
            <a:ext cx="129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2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716360" y="5300640"/>
            <a:ext cx="122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1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580000" y="4149720"/>
            <a:ext cx="1225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1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5280" y="4437000"/>
            <a:ext cx="865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00360" y="5516640"/>
            <a:ext cx="1511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2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39640" y="270828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1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380360" y="350028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2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6" dur="10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7" dur="10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8" dur="10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9" restart="whenNotActive" nodeType="interactiveSeq" fill="hold">
                <p:stCondLst>
                  <p:cond evt="onClick">
                    <p:tgtEl>
                      <p:spTgt spid="83"/>
                    </p:tgtEl>
                  </p:cond>
                </p:stCondLst>
                <p:childTnLst>
                  <p:par>
                    <p:cTn id="170" fill="hold">
                      <p:stCondLst>
                        <p:cond evt="onClick">
                          <p:tgtEl>
                            <p:spTgt spid="83"/>
                          </p:tgtEl>
                        </p:cond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7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5" restart="whenNotActive" nodeType="interactiveSeq" fill="hold">
                <p:stCondLst>
                  <p:cond evt="onClick">
                    <p:tgtEl>
                      <p:spTgt spid="75"/>
                    </p:tgtEl>
                  </p:cond>
                </p:stCondLst>
                <p:childTnLst>
                  <p:par>
                    <p:cTn id="176" fill="hold">
                      <p:stCondLst>
                        <p:cond evt="onClick">
                          <p:tgtEl>
                            <p:spTgt spid="75"/>
                          </p:tgtEl>
                        </p:cond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7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1" restart="whenNotActive" nodeType="interactiveSeq" fill="hold">
                <p:stCondLst>
                  <p:cond evt="onClick">
                    <p:tgtEl>
                      <p:spTgt spid="76"/>
                    </p:tgtEl>
                  </p:cond>
                </p:stCondLst>
                <p:childTnLst>
                  <p:par>
                    <p:cTn id="182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8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7" restart="whenNotActive" nodeType="interactiveSeq" fill="hold">
                <p:stCondLst>
                  <p:cond evt="onClick">
                    <p:tgtEl>
                      <p:spTgt spid="82"/>
                    </p:tgtEl>
                  </p:cond>
                </p:stCondLst>
                <p:childTnLst>
                  <p:par>
                    <p:cTn id="188" fill="hold">
                      <p:stCondLst>
                        <p:cond evt="onClick">
                          <p:tgtEl>
                            <p:spTgt spid="82"/>
                          </p:tgtEl>
                        </p:cond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9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3" restart="whenNotActive" nodeType="interactiveSeq" fill="hold">
                <p:stCondLst>
                  <p:cond evt="onClick">
                    <p:tgtEl>
                      <p:spTgt spid="86"/>
                    </p:tgtEl>
                  </p:cond>
                </p:stCondLst>
                <p:childTnLst>
                  <p:par>
                    <p:cTn id="194" fill="hold">
                      <p:stCondLst>
                        <p:cond evt="onClick">
                          <p:tgtEl>
                            <p:spTgt spid="86"/>
                          </p:tgtEl>
                        </p:cond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9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9" restart="whenNotActive" nodeType="interactiveSeq" fill="hold">
                <p:stCondLst>
                  <p:cond evt="onClick">
                    <p:tgtEl>
                      <p:spTgt spid="78"/>
                    </p:tgtEl>
                  </p:cond>
                </p:stCondLst>
                <p:childTnLst>
                  <p:par>
                    <p:cTn id="200" fill="hold">
                      <p:stCondLst>
                        <p:cond evt="onClick">
                          <p:tgtEl>
                            <p:spTgt spid="78"/>
                          </p:tgtEl>
                        </p:cond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20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5" restart="whenNotActive" nodeType="interactiveSeq" fill="hold">
                <p:stCondLst>
                  <p:cond evt="onClick">
                    <p:tgtEl>
                      <p:spTgt spid="84"/>
                    </p:tgtEl>
                  </p:cond>
                </p:stCondLst>
                <p:childTnLst>
                  <p:par>
                    <p:cTn id="206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20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1" restart="whenNotActive" nodeType="interactiveSeq" fill="hold">
                <p:stCondLst>
                  <p:cond evt="onClick">
                    <p:tgtEl>
                      <p:spTgt spid="81"/>
                    </p:tgtEl>
                  </p:cond>
                </p:stCondLst>
                <p:childTnLst>
                  <p:par>
                    <p:cTn id="212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215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7" restart="whenNotActive" nodeType="interactiveSeq" fill="hold">
                <p:stCondLst>
                  <p:cond evt="onClick">
                    <p:tgtEl>
                      <p:spTgt spid="79"/>
                    </p:tgtEl>
                  </p:cond>
                </p:stCondLst>
                <p:childTnLst>
                  <p:par>
                    <p:cTn id="218" fill="hold">
                      <p:stCondLst>
                        <p:cond evt="onClick">
                          <p:tgtEl>
                            <p:spTgt spid="79"/>
                          </p:tgtEl>
                        </p:cond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22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3" restart="whenNotActive" nodeType="interactiveSeq" fill="hold">
                <p:stCondLst>
                  <p:cond evt="onClick">
                    <p:tgtEl>
                      <p:spTgt spid="80"/>
                    </p:tgtEl>
                  </p:cond>
                </p:stCondLst>
                <p:childTnLst>
                  <p:par>
                    <p:cTn id="224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22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9" restart="whenNotActive" nodeType="interactiveSeq" fill="hold">
                <p:stCondLst>
                  <p:cond evt="onClick">
                    <p:tgtEl>
                      <p:spTgt spid="77"/>
                    </p:tgtEl>
                  </p:cond>
                </p:stCondLst>
                <p:childTnLst>
                  <p:par>
                    <p:cTn id="230" fill="hold">
                      <p:stCondLst>
                        <p:cond evt="onClick">
                          <p:tgtEl>
                            <p:spTgt spid="77"/>
                          </p:tgtEl>
                        </p:cond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23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5" restart="whenNotActive" nodeType="interactiveSeq" fill="hold">
                <p:stCondLst>
                  <p:cond evt="onClick">
                    <p:tgtEl>
                      <p:spTgt spid="85"/>
                    </p:tgtEl>
                  </p:cond>
                </p:stCondLst>
                <p:childTnLst>
                  <p:par>
                    <p:cTn id="236" fill="hold">
                      <p:stCondLst>
                        <p:cond evt="onClick">
                          <p:tgtEl>
                            <p:spTgt spid="85"/>
                          </p:tgtEl>
                        </p:cond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applause.wav"/>
                                        </p:tgtEl>
                                      </p:cMediaNode>
                                    </p:audio>
                                    <p:animMotion origin="layout" path="M 0.00382 0.01089 C 0.01337 0.01854 0.03056 0.03105 0.04271 0.03175 C 0.08664 0.03384 0.17448 0.03592 0.17448 0.03615 C 0.18924 0.04311 0.20487 0.04473 0.22049 0.04635 C 0.23594 0.05539 0.24775 0.0591 0.26511 0.06118 C 0.29167 0.06767 0.26702 0.06234 0.32553 0.06118 C 0.36841 0.06002 0.41077 0.05979 0.45365 0.0591 C 0.47344 0.05423 0.49393 0.05516 0.51407 0.05284 C 0.52535 0.0482 0.53629 0.04171 0.54809 0.03801 C 0.55278 0.03638 0.56216 0.03407 0.56216 0.0343 C 0.56806 0.03036 0.57362 0.02804 0.58004 0.02549 C 0.58907 0.01808 0.5948 0.01298 0.60487 0.00881 C 0.6073 0.00672 0.6099 0.00487 0.61216 0.00255 C 0.61355 0.00069 0.61389 -0.00209 0.61563 -0.00371 C 0.61997 -0.00811 0.62778 -0.01228 0.63334 -0.01437 C 0.64375 -0.02688 0.63247 -0.01483 0.64757 -0.0248 C 0.66424 -0.03569 0.64636 -0.02781 0.66007 -0.03337 C 0.66094 -0.03685 0.66563 -0.04983 0.66702 -0.05214 C 0.66893 -0.05539 0.67223 -0.05724 0.67414 -0.06049 C 0.67674 -0.06443 0.68125 -0.073 0.68125 -0.07277 C 0.6823 -0.08992 0.6849 -0.10846 0.68125 -0.12538 C 0.67969 -0.13372 0.67292 -0.13951 0.66702 -0.14438 C 0.65955 -0.15064 0.64757 -0.16385 0.63872 -0.16756 C 0.62917 -0.17845 0.62518 -0.17613 0.61007 -0.17798 C 0.60782 -0.17729 0.60556 -0.17683 0.60313 -0.1759 C 0.59966 -0.17451 0.59254 -0.17173 0.59254 -0.1715 C 0.58664 -0.16709 0.58108 -0.16362 0.57448 -0.1613 C 0.56875 -0.15666 0.56528 -0.1511 0.55851 -0.14855 C 0.54879 -0.13696 0.55157 -0.12839 0.55157 -0.11078 E">
                                      <p:cBhvr>
                                        <p:cTn id="239" dur="2000" fill="hold"/>
                                        <p:tgtEl>
                                          <p:spTgt spid="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187280" y="0"/>
            <a:ext cx="7129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Comic Sans MS"/>
              </a:rPr>
              <a:t>Two times tabl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843280" y="1989000"/>
            <a:ext cx="280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3 x 2 =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771640" y="3933720"/>
            <a:ext cx="865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851280" y="3573360"/>
            <a:ext cx="122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1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619280" y="4581360"/>
            <a:ext cx="865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0920" y="5516640"/>
            <a:ext cx="1081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84720" y="5373720"/>
            <a:ext cx="122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1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596360" y="4869000"/>
            <a:ext cx="129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2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716360" y="5300640"/>
            <a:ext cx="122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1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80000" y="4149720"/>
            <a:ext cx="1225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1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95280" y="4437000"/>
            <a:ext cx="865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700360" y="5516640"/>
            <a:ext cx="1511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2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24000" y="2997360"/>
            <a:ext cx="1295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1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350028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2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0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6" dur="10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7" dur="10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8" dur="10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9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250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25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5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256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25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1" restart="whenNotActive" nodeType="interactiveSeq" fill="hold">
                <p:stCondLst>
                  <p:cond evt="onClick">
                    <p:tgtEl>
                      <p:spTgt spid="89"/>
                    </p:tgtEl>
                  </p:cond>
                </p:stCondLst>
                <p:childTnLst>
                  <p:par>
                    <p:cTn id="262" fill="hold">
                      <p:stCondLst>
                        <p:cond evt="onClick">
                          <p:tgtEl>
                            <p:spTgt spid="89"/>
                          </p:tgtEl>
                        </p:cond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26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7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268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27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3" restart="whenNotActive" nodeType="interactiveSeq" fill="hold">
                <p:stCondLst>
                  <p:cond evt="onClick">
                    <p:tgtEl>
                      <p:spTgt spid="96"/>
                    </p:tgtEl>
                  </p:cond>
                </p:stCondLst>
                <p:childTnLst>
                  <p:par>
                    <p:cTn id="274" fill="hold">
                      <p:stCondLst>
                        <p:cond evt="onClick">
                          <p:tgtEl>
                            <p:spTgt spid="96"/>
                          </p:tgtEl>
                        </p:cond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27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9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280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28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5" restart="whenNotActive" nodeType="interactiveSeq" fill="hold">
                <p:stCondLst>
                  <p:cond evt="onClick">
                    <p:tgtEl>
                      <p:spTgt spid="98"/>
                    </p:tgtEl>
                  </p:cond>
                </p:stCondLst>
                <p:childTnLst>
                  <p:par>
                    <p:cTn id="286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28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1" restart="whenNotActive" nodeType="interactiveSeq" fill="hold">
                <p:stCondLst>
                  <p:cond evt="onClick">
                    <p:tgtEl>
                      <p:spTgt spid="95"/>
                    </p:tgtEl>
                  </p:cond>
                </p:stCondLst>
                <p:childTnLst>
                  <p:par>
                    <p:cTn id="292" fill="hold">
                      <p:stCondLst>
                        <p:cond evt="onClick">
                          <p:tgtEl>
                            <p:spTgt spid="95"/>
                          </p:tgtEl>
                        </p:cond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29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7" restart="whenNotActive" nodeType="interactiveSeq" fill="hold">
                <p:stCondLst>
                  <p:cond evt="onClick">
                    <p:tgtEl>
                      <p:spTgt spid="93"/>
                    </p:tgtEl>
                  </p:cond>
                </p:stCondLst>
                <p:childTnLst>
                  <p:par>
                    <p:cTn id="298" fill="hold">
                      <p:stCondLst>
                        <p:cond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30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3" restart="whenNotActive" nodeType="interactiveSeq" fill="hold">
                <p:stCondLst>
                  <p:cond evt="onClick">
                    <p:tgtEl>
                      <p:spTgt spid="94"/>
                    </p:tgtEl>
                  </p:cond>
                </p:stCondLst>
                <p:childTnLst>
                  <p:par>
                    <p:cTn id="304" fill="hold">
                      <p:stCondLst>
                        <p:cond evt="onClick">
                          <p:tgtEl>
                            <p:spTgt spid="94"/>
                          </p:tgtEl>
                        </p:cond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30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9" restart="whenNotActive" nodeType="interactiveSeq" fill="hold">
                <p:stCondLst>
                  <p:cond evt="onClick">
                    <p:tgtEl>
                      <p:spTgt spid="91"/>
                    </p:tgtEl>
                  </p:cond>
                </p:stCondLst>
                <p:childTnLst>
                  <p:par>
                    <p:cTn id="310" fill="hold">
                      <p:stCondLst>
                        <p:cond evt="onClick">
                          <p:tgtEl>
                            <p:spTgt spid="91"/>
                          </p:tgtEl>
                        </p:cond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31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5" restart="whenNotActive" nodeType="interactiveSeq" fill="hold">
                <p:stCondLst>
                  <p:cond evt="onClick">
                    <p:tgtEl>
                      <p:spTgt spid="92"/>
                    </p:tgtEl>
                  </p:cond>
                </p:stCondLst>
                <p:childTnLst>
                  <p:par>
                    <p:cTn id="316" fill="hold">
                      <p:stCondLst>
                        <p:cond evt="onClick">
                          <p:tgtEl>
                            <p:spTgt spid="92"/>
                          </p:tgtEl>
                        </p:cond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applause.wav"/>
                                        </p:tgtEl>
                                      </p:cMediaNode>
                                    </p:audio>
                                    <p:animMotion origin="layout" path="M 0 0 C 0.00052 0.00232 0.00035 0.0051 0.00156 0.00672 C 0.00434 0.01043 0.01684 0.01321 0.02135 0.01529 C 0.04097 0.02433 0.05955 0.03244 0.08038 0.03476 C 0.08368 0.03615 0.08663 0.0387 0.0901 0.03916 C 0.1 0.04055 0.11962 0.04357 0.11962 0.04357 C 0.19965 0.04194 0.27934 0.04194 0.35903 0.03059 C 0.38125 0.02201 0.40417 0.01668 0.42621 0.00672 C 0.45017 -0.00441 0.47465 -0.01715 0.5 -0.02179 C 0.50521 -0.0241 0.51111 -0.0248 0.51614 -0.02828 C 0.5217 -0.03175 0.52517 -0.03963 0.53108 -0.04172 C 0.5401 -0.04519 0.55069 -0.04867 0.55903 -0.05493 C 0.57257 -0.06512 0.58507 -0.07857 0.6 -0.08529 C 0.62187 -0.10568 0.64444 -0.1219 0.66719 -0.14021 C 0.67465 -0.15273 0.68385 -0.16315 0.69184 -0.17497 C 0.69548 -0.1803 0.7033 -0.19027 0.7033 -0.19027 C 0.70903 -0.20533 0.71805 -0.2153 0.72465 -0.22967 C 0.73351 -0.24913 0.74271 -0.26883 0.75087 -0.28876 C 0.75503 -0.29873 0.7592 -0.30869 0.76215 -0.31935 C 0.76337 -0.32306 0.76423 -0.32677 0.76562 -0.33025 C 0.77673 -0.35806 0.78767 -0.38448 0.79184 -0.41576 C 0.78976 -0.53581 0.79913 -0.49062 0.77535 -0.55365 C 0.7717 -0.57358 0.77708 -0.55249 0.76875 -0.56663 C 0.76771 -0.56848 0.76788 -0.57127 0.76719 -0.57335 C 0.76614 -0.57567 0.76493 -0.57775 0.76389 -0.57984 C 0.76111 -0.59166 0.75955 -0.59745 0.75399 -0.60835 C 0.75017 -0.61599 0.74167 -0.62156 0.73611 -0.62573 C 0.72048 -0.63731 0.70382 -0.64728 0.6868 -0.65423 C 0.65781 -0.65284 0.6441 -0.65122 0.61805 -0.64543 C 0.61111 -0.64079 0.60573 -0.6387 0.59809 -0.63662 C 0.57309 -0.61692 0.60364 -0.6394 0.58351 -0.62804 C 0.5816 -0.62712 0.58021 -0.6248 0.57864 -0.62364 C 0.57708 -0.62248 0.57517 -0.62202 0.57361 -0.62132 C 0.56875 -0.61924 0.55903 -0.61483 0.55903 -0.61483 C 0.55573 -0.61043 0.55017 -0.60765 0.54913 -0.60162 C 0.54705 -0.5905 0.54861 -0.5956 0.5441 -0.58633 C 0.53819 -0.55574 0.54253 -0.58054 0.54253 -0.50985 E">
                                      <p:cBhvr>
                                        <p:cTn id="319" dur="2000" fill="hold"/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187280" y="0"/>
            <a:ext cx="7129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Comic Sans MS"/>
              </a:rPr>
              <a:t>Two times tabl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843280" y="1989000"/>
            <a:ext cx="273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7 x 2 =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771640" y="3933720"/>
            <a:ext cx="865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851280" y="3573360"/>
            <a:ext cx="122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1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619280" y="4581360"/>
            <a:ext cx="865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50920" y="5516640"/>
            <a:ext cx="1081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084720" y="5373720"/>
            <a:ext cx="122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1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596360" y="4869000"/>
            <a:ext cx="129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2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716360" y="5300640"/>
            <a:ext cx="122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1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580000" y="4149720"/>
            <a:ext cx="1225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1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95280" y="4437000"/>
            <a:ext cx="865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700360" y="5516640"/>
            <a:ext cx="1511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2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39640" y="2708280"/>
            <a:ext cx="107964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1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380360" y="350028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2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0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6" dur="10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7" dur="10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8" dur="10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9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330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33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5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336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33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1" restart="whenNotActive" nodeType="interactiveSeq" fill="hold">
                <p:stCondLst>
                  <p:cond evt="onClick">
                    <p:tgtEl>
                      <p:spTgt spid="103"/>
                    </p:tgtEl>
                  </p:cond>
                </p:stCondLst>
                <p:childTnLst>
                  <p:par>
                    <p:cTn id="342" fill="hold">
                      <p:stCondLst>
                        <p:cond evt="onClick">
                          <p:tgtEl>
                            <p:spTgt spid="103"/>
                          </p:tgtEl>
                        </p:cond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34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7" restart="whenNotActive" nodeType="interactiveSeq" fill="hold">
                <p:stCondLst>
                  <p:cond evt="onClick">
                    <p:tgtEl>
                      <p:spTgt spid="104"/>
                    </p:tgtEl>
                  </p:cond>
                </p:stCondLst>
                <p:childTnLst>
                  <p:par>
                    <p:cTn id="348" fill="hold">
                      <p:stCondLst>
                        <p:cond evt="onClick">
                          <p:tgtEl>
                            <p:spTgt spid="104"/>
                          </p:tgtEl>
                        </p:cond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35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3" restart="whenNotActive" nodeType="interactiveSeq" fill="hold">
                <p:stCondLst>
                  <p:cond evt="onClick">
                    <p:tgtEl>
                      <p:spTgt spid="110"/>
                    </p:tgtEl>
                  </p:cond>
                </p:stCondLst>
                <p:childTnLst>
                  <p:par>
                    <p:cTn id="354" fill="hold">
                      <p:stCondLst>
                        <p:cond evt="onClick">
                          <p:tgtEl>
                            <p:spTgt spid="110"/>
                          </p:tgtEl>
                        </p:cond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35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9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360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36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5" restart="whenNotActive" nodeType="interactiveSeq" fill="hold">
                <p:stCondLst>
                  <p:cond evt="onClick">
                    <p:tgtEl>
                      <p:spTgt spid="106"/>
                    </p:tgtEl>
                  </p:cond>
                </p:stCondLst>
                <p:childTnLst>
                  <p:par>
                    <p:cTn id="366" fill="hold">
                      <p:stCondLst>
                        <p:cond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36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1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372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37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7" restart="whenNotActive" nodeType="interactiveSeq" fill="hold">
                <p:stCondLst>
                  <p:cond evt="onClick">
                    <p:tgtEl>
                      <p:spTgt spid="109"/>
                    </p:tgtEl>
                  </p:cond>
                </p:stCondLst>
                <p:childTnLst>
                  <p:par>
                    <p:cTn id="378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38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3" restart="whenNotActive" nodeType="interactiveSeq" fill="hold">
                <p:stCondLst>
                  <p:cond evt="onClick">
                    <p:tgtEl>
                      <p:spTgt spid="108"/>
                    </p:tgtEl>
                  </p:cond>
                </p:stCondLst>
                <p:childTnLst>
                  <p:par>
                    <p:cTn id="384" fill="hold">
                      <p:stCondLst>
                        <p:cond evt="onClick">
                          <p:tgtEl>
                            <p:spTgt spid="108"/>
                          </p:tgtEl>
                        </p:cond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38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9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390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39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5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396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applause.wav"/>
                                        </p:tgtEl>
                                      </p:cMediaNode>
                                    </p:audio>
                                    <p:animMotion origin="layout" path="M 0 0 C 0.02552 0.00603 0.04097 0.00324 0.07049 0.00232 C 0.08212 -0.01414 0.09149 -0.03152 0.10486 -0.04589 C 0.10695 -0.054 0.11476 -0.0679 0.11476 -0.0679 C 0.11892 -0.08552 0.12726 -0.10359 0.13611 -0.11842 C 0.13872 -0.13256 0.14497 -0.14693 0.15087 -0.15968 C 0.15521 -0.1905 0.14844 -0.15365 0.15729 -0.17729 C 0.16215 -0.19027 0.15556 -0.19027 0.16563 -0.19907 C 0.17326 -0.24032 0.18247 -0.29154 0.16389 -0.32816 C 0.16007 -0.34461 0.15625 -0.35968 0.14913 -0.37428 C 0.1467 -0.39143 0.14011 -0.40278 0.13438 -0.41784 C 0.12951 -0.45191 0.13646 -0.41182 0.12951 -0.43546 C 0.12726 -0.44334 0.12847 -0.45214 0.12465 -0.45956 C 0.11927 -0.47022 0.1158 -0.48297 0.11146 -0.49455 C 0.10573 -0.50962 0.09983 -0.52885 0.08854 -0.53835 C 0.0842 -0.54206 0.07986 -0.546 0.07535 -0.54925 C 0.07326 -0.55064 0.07101 -0.55203 0.06892 -0.55365 C 0.06545 -0.55643 0.06181 -0.55875 0.05903 -0.56246 C 0.05747 -0.56454 0.05608 -0.56709 0.05417 -0.56895 C 0.04497 -0.57775 0.03195 -0.58053 0.02136 -0.58216 C 0.00538 -0.58888 0.00365 -0.59421 -0.01319 -0.59745 C -0.03507 -0.59652 -0.05868 -0.6051 -0.07864 -0.59305 C -0.08628 -0.58841 -0.09045 -0.581 -0.09844 -0.57775 C -0.10503 -0.56338 -0.10139 -0.57428 -0.1 -0.54484 C -0.09844 -0.51031 -0.09844 -0.5175 -0.09844 -0.49896 E">
                                      <p:cBhvr>
                                        <p:cTn id="399" dur="2000" fill="hold"/>
                                        <p:tgtEl>
                                          <p:spTgt spid="1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187280" y="0"/>
            <a:ext cx="7129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Comic Sans MS"/>
              </a:rPr>
              <a:t>Two times tabl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843280" y="1989000"/>
            <a:ext cx="2665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2 x 2 =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771640" y="3933720"/>
            <a:ext cx="865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851280" y="3573360"/>
            <a:ext cx="122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1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619280" y="4581360"/>
            <a:ext cx="865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50920" y="5516640"/>
            <a:ext cx="1081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084720" y="5373720"/>
            <a:ext cx="122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1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596360" y="4869000"/>
            <a:ext cx="129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2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716360" y="5300640"/>
            <a:ext cx="122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1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580000" y="4149720"/>
            <a:ext cx="1225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1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95280" y="4437000"/>
            <a:ext cx="865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700360" y="5516640"/>
            <a:ext cx="1511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2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39640" y="2708280"/>
            <a:ext cx="107964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1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380360" y="350028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2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0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6" dur="10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7" dur="10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8" dur="10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9" restart="whenNotActive" nodeType="interactiveSeq" fill="hold">
                <p:stCondLst>
                  <p:cond evt="onClick">
                    <p:tgtEl>
                      <p:spTgt spid="127"/>
                    </p:tgtEl>
                  </p:cond>
                </p:stCondLst>
                <p:childTnLst>
                  <p:par>
                    <p:cTn id="410" fill="hold">
                      <p:stCondLst>
                        <p:cond evt="onClick">
                          <p:tgtEl>
                            <p:spTgt spid="127"/>
                          </p:tgtEl>
                        </p:cond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41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5" restart="whenNotActive" nodeType="interactiveSeq" fill="hold">
                <p:stCondLst>
                  <p:cond evt="onClick">
                    <p:tgtEl>
                      <p:spTgt spid="117"/>
                    </p:tgtEl>
                  </p:cond>
                </p:stCondLst>
                <p:childTnLst>
                  <p:par>
                    <p:cTn id="416" fill="hold">
                      <p:stCondLst>
                        <p:cond evt="onClick">
                          <p:tgtEl>
                            <p:spTgt spid="117"/>
                          </p:tgtEl>
                        </p:cond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41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1" restart="whenNotActive" nodeType="interactiveSeq" fill="hold">
                <p:stCondLst>
                  <p:cond evt="onClick">
                    <p:tgtEl>
                      <p:spTgt spid="118"/>
                    </p:tgtEl>
                  </p:cond>
                </p:stCondLst>
                <p:childTnLst>
                  <p:par>
                    <p:cTn id="422" fill="hold">
                      <p:stCondLst>
                        <p:cond evt="onClick">
                          <p:tgtEl>
                            <p:spTgt spid="118"/>
                          </p:tgtEl>
                        </p:cond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42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7" restart="whenNotActive" nodeType="interactiveSeq" fill="hold">
                <p:stCondLst>
                  <p:cond evt="onClick">
                    <p:tgtEl>
                      <p:spTgt spid="124"/>
                    </p:tgtEl>
                  </p:cond>
                </p:stCondLst>
                <p:childTnLst>
                  <p:par>
                    <p:cTn id="428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43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3" restart="whenNotActive" nodeType="interactiveSeq" fill="hold">
                <p:stCondLst>
                  <p:cond evt="onClick">
                    <p:tgtEl>
                      <p:spTgt spid="128"/>
                    </p:tgtEl>
                  </p:cond>
                </p:stCondLst>
                <p:childTnLst>
                  <p:par>
                    <p:cTn id="434" fill="hold">
                      <p:stCondLst>
                        <p:cond evt="onClick">
                          <p:tgtEl>
                            <p:spTgt spid="128"/>
                          </p:tgtEl>
                        </p:cond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43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9" restart="whenNotActive" nodeType="interactiveSeq" fill="hold">
                <p:stCondLst>
                  <p:cond evt="onClick">
                    <p:tgtEl>
                      <p:spTgt spid="120"/>
                    </p:tgtEl>
                  </p:cond>
                </p:stCondLst>
                <p:childTnLst>
                  <p:par>
                    <p:cTn id="440" fill="hold">
                      <p:stCondLst>
                        <p:cond evt="onClick">
                          <p:tgtEl>
                            <p:spTgt spid="120"/>
                          </p:tgtEl>
                        </p:cond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44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5" restart="whenNotActive" nodeType="interactiveSeq" fill="hold">
                <p:stCondLst>
                  <p:cond evt="onClick">
                    <p:tgtEl>
                      <p:spTgt spid="126"/>
                    </p:tgtEl>
                  </p:cond>
                </p:stCondLst>
                <p:childTnLst>
                  <p:par>
                    <p:cTn id="446" fill="hold">
                      <p:stCondLst>
                        <p:cond evt="onClick">
                          <p:tgtEl>
                            <p:spTgt spid="126"/>
                          </p:tgtEl>
                        </p:cond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44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1" restart="whenNotActive" nodeType="interactiveSeq" fill="hold">
                <p:stCondLst>
                  <p:cond evt="onClick">
                    <p:tgtEl>
                      <p:spTgt spid="123"/>
                    </p:tgtEl>
                  </p:cond>
                </p:stCondLst>
                <p:childTnLst>
                  <p:par>
                    <p:cTn id="452" fill="hold">
                      <p:stCondLst>
                        <p:cond evt="onClick">
                          <p:tgtEl>
                            <p:spTgt spid="123"/>
                          </p:tgtEl>
                        </p:cond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45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7" restart="whenNotActive" nodeType="interactiveSeq" fill="hold">
                <p:stCondLst>
                  <p:cond evt="onClick">
                    <p:tgtEl>
                      <p:spTgt spid="121"/>
                    </p:tgtEl>
                  </p:cond>
                </p:stCondLst>
                <p:childTnLst>
                  <p:par>
                    <p:cTn id="458" fill="hold">
                      <p:stCondLst>
                        <p:cond evt="onClick">
                          <p:tgtEl>
                            <p:spTgt spid="121"/>
                          </p:tgtEl>
                        </p:cond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46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3" restart="whenNotActive" nodeType="interactiveSeq" fill="hold">
                <p:stCondLst>
                  <p:cond evt="onClick">
                    <p:tgtEl>
                      <p:spTgt spid="122"/>
                    </p:tgtEl>
                  </p:cond>
                </p:stCondLst>
                <p:childTnLst>
                  <p:par>
                    <p:cTn id="464" fill="hold">
                      <p:stCondLst>
                        <p:cond evt="onClick">
                          <p:tgtEl>
                            <p:spTgt spid="122"/>
                          </p:tgtEl>
                        </p:cond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46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9" restart="whenNotActive" nodeType="interactiveSeq" fill="hold">
                <p:stCondLst>
                  <p:cond evt="onClick">
                    <p:tgtEl>
                      <p:spTgt spid="119"/>
                    </p:tgtEl>
                  </p:cond>
                </p:stCondLst>
                <p:childTnLst>
                  <p:par>
                    <p:cTn id="470" fill="hold">
                      <p:stCondLst>
                        <p:cond evt="onClick">
                          <p:tgtEl>
                            <p:spTgt spid="119"/>
                          </p:tgtEl>
                        </p:cond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47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5" restart="whenNotActive" nodeType="interactiveSeq" fill="hold">
                <p:stCondLst>
                  <p:cond evt="onClick">
                    <p:tgtEl>
                      <p:spTgt spid="125"/>
                    </p:tgtEl>
                  </p:cond>
                </p:stCondLst>
                <p:childTnLst>
                  <p:par>
                    <p:cTn id="476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applause.wav"/>
                                        </p:tgtEl>
                                      </p:cMediaNode>
                                    </p:audio>
                                    <p:animMotion origin="layout" path="M 0 0 C 0.05937 0.00348 0.11927 -0.00394 0.17882 -0.00649 C 0.20243 -0.01043 0.22552 -0.01321 0.2493 -0.0153 C 0.28698 -0.02248 0.32448 -0.03268 0.36232 -0.03708 C 0.37934 -0.04102 0.39601 -0.04589 0.41319 -0.04821 C 0.41632 -0.0496 0.41979 -0.05029 0.42309 -0.05238 C 0.42621 -0.05469 0.42934 -0.05748 0.43264 -0.0591 C 0.43594 -0.06049 0.43941 -0.06026 0.44253 -0.06118 C 0.45017 -0.06327 0.45677 -0.06767 0.46406 -0.06999 C 0.47639 -0.08111 0.49271 -0.0832 0.5066 -0.08969 C 0.52222 -0.09687 0.53611 -0.10916 0.55243 -0.11379 C 0.56476 -0.12468 0.57726 -0.13279 0.59184 -0.13789 C 0.60052 -0.14577 0.61076 -0.14647 0.61979 -0.15319 C 0.62222 -0.15481 0.62396 -0.15782 0.62621 -0.15968 C 0.63194 -0.16408 0.64184 -0.16918 0.64757 -0.17497 C 0.64948 -0.17683 0.65035 -0.1803 0.65243 -0.18169 C 0.65503 -0.18332 0.65798 -0.18308 0.66076 -0.18378 C 0.66979 -0.19282 0.67969 -0.20023 0.69028 -0.20556 C 0.70087 -0.23407 0.68663 -0.20093 0.69844 -0.21669 C 0.70226 -0.22179 0.70503 -0.22827 0.70833 -0.23407 C 0.71354 -0.24311 0.71805 -0.25608 0.72135 -0.26698 C 0.72621 -0.2825 0.73177 -0.29108 0.73455 -0.30846 C 0.73385 -0.33511 0.73993 -0.39444 0.71649 -0.41576 C 0.7125 -0.42364 0.71232 -0.43569 0.7066 -0.44195 C 0.7026 -0.44635 0.69774 -0.44867 0.69357 -0.45284 C 0.68976 -0.46744 0.69531 -0.45191 0.68194 -0.46396 C 0.67465 -0.47045 0.66423 -0.47532 0.65573 -0.47926 C 0.64149 -0.47856 0.62743 -0.4781 0.61319 -0.47694 C 0.6059 -0.47625 0.59705 -0.47138 0.59028 -0.46837 C 0.58489 -0.46605 0.57934 -0.46675 0.57361 -0.46605 C 0.57153 -0.46535 0.56927 -0.46489 0.56719 -0.46396 C 0.56371 -0.46257 0.55729 -0.45956 0.55729 -0.45956 C 0.55521 -0.45724 0.55312 -0.45469 0.55087 -0.45284 C 0.54948 -0.45168 0.54739 -0.45214 0.54601 -0.45075 C 0.5408 -0.44496 0.53611 -0.43198 0.53281 -0.42457 C 0.53073 -0.41298 0.52587 -0.40325 0.52309 -0.39166 C 0.52361 -0.38586 0.52396 -0.38007 0.52465 -0.37428 C 0.52482 -0.37196 0.52482 -0.36918 0.52621 -0.36756 C 0.52743 -0.36593 0.53107 -0.36547 0.53107 -0.36547 E">
                                      <p:cBhvr>
                                        <p:cTn id="479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187280" y="0"/>
            <a:ext cx="7129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Comic Sans MS"/>
              </a:rPr>
              <a:t>Two times tabl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843280" y="1989000"/>
            <a:ext cx="2665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8 x 2 =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771640" y="3933720"/>
            <a:ext cx="865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851280" y="3573360"/>
            <a:ext cx="122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1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19280" y="4581360"/>
            <a:ext cx="865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50920" y="5516640"/>
            <a:ext cx="1081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84720" y="5373720"/>
            <a:ext cx="122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1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596360" y="4869000"/>
            <a:ext cx="129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2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716360" y="5300640"/>
            <a:ext cx="122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1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580000" y="4149720"/>
            <a:ext cx="1225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1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95280" y="4437000"/>
            <a:ext cx="865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700360" y="5516640"/>
            <a:ext cx="1511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2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39640" y="2708280"/>
            <a:ext cx="107964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1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380360" y="350028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2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fill="hold">
                      <p:stCondLst>
                        <p:cond delay="0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6" dur="100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7" dur="100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8" dur="100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9" restart="whenNotActive" nodeType="interactiveSeq" fill="hold">
                <p:stCondLst>
                  <p:cond evt="onClick">
                    <p:tgtEl>
                      <p:spTgt spid="141"/>
                    </p:tgtEl>
                  </p:cond>
                </p:stCondLst>
                <p:childTnLst>
                  <p:par>
                    <p:cTn id="490" fill="hold">
                      <p:stCondLst>
                        <p:cond evt="onClick">
                          <p:tgtEl>
                            <p:spTgt spid="141"/>
                          </p:tgtEl>
                        </p:cond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49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5" restart="whenNotActive" nodeType="interactiveSeq" fill="hold">
                <p:stCondLst>
                  <p:cond evt="onClick">
                    <p:tgtEl>
                      <p:spTgt spid="139"/>
                    </p:tgtEl>
                  </p:cond>
                </p:stCondLst>
                <p:childTnLst>
                  <p:par>
                    <p:cTn id="496" fill="hold">
                      <p:stCondLst>
                        <p:cond evt="onClick">
                          <p:tgtEl>
                            <p:spTgt spid="139"/>
                          </p:tgtEl>
                        </p:cond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49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1" restart="whenNotActive" nodeType="interactiveSeq" fill="hold">
                <p:stCondLst>
                  <p:cond evt="onClick">
                    <p:tgtEl>
                      <p:spTgt spid="131"/>
                    </p:tgtEl>
                  </p:cond>
                </p:stCondLst>
                <p:childTnLst>
                  <p:par>
                    <p:cTn id="502" fill="hold">
                      <p:stCondLst>
                        <p:cond evt="onClick">
                          <p:tgtEl>
                            <p:spTgt spid="131"/>
                          </p:tgtEl>
                        </p:cond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50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7" restart="whenNotActive" nodeType="interactiveSeq" fill="hold">
                <p:stCondLst>
                  <p:cond evt="onClick">
                    <p:tgtEl>
                      <p:spTgt spid="132"/>
                    </p:tgtEl>
                  </p:cond>
                </p:stCondLst>
                <p:childTnLst>
                  <p:par>
                    <p:cTn id="508" fill="hold">
                      <p:stCondLst>
                        <p:cond evt="onClick">
                          <p:tgtEl>
                            <p:spTgt spid="132"/>
                          </p:tgtEl>
                        </p:cond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51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3" restart="whenNotActive" nodeType="interactiveSeq" fill="hold">
                <p:stCondLst>
                  <p:cond evt="onClick">
                    <p:tgtEl>
                      <p:spTgt spid="138"/>
                    </p:tgtEl>
                  </p:cond>
                </p:stCondLst>
                <p:childTnLst>
                  <p:par>
                    <p:cTn id="514" fill="hold">
                      <p:stCondLst>
                        <p:cond evt="onClick">
                          <p:tgtEl>
                            <p:spTgt spid="138"/>
                          </p:tgtEl>
                        </p:cond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51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9" restart="whenNotActive" nodeType="interactiveSeq" fill="hold">
                <p:stCondLst>
                  <p:cond evt="onClick">
                    <p:tgtEl>
                      <p:spTgt spid="142"/>
                    </p:tgtEl>
                  </p:cond>
                </p:stCondLst>
                <p:childTnLst>
                  <p:par>
                    <p:cTn id="520" fill="hold">
                      <p:stCondLst>
                        <p:cond evt="onClick">
                          <p:tgtEl>
                            <p:spTgt spid="142"/>
                          </p:tgtEl>
                        </p:cond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52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5" restart="whenNotActive" nodeType="interactiveSeq" fill="hold">
                <p:stCondLst>
                  <p:cond evt="onClick">
                    <p:tgtEl>
                      <p:spTgt spid="134"/>
                    </p:tgtEl>
                  </p:cond>
                </p:stCondLst>
                <p:childTnLst>
                  <p:par>
                    <p:cTn id="526" fill="hold">
                      <p:stCondLst>
                        <p:cond evt="onClick">
                          <p:tgtEl>
                            <p:spTgt spid="134"/>
                          </p:tgtEl>
                        </p:cond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52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1" restart="whenNotActive" nodeType="interactiveSeq" fill="hold">
                <p:stCondLst>
                  <p:cond evt="onClick">
                    <p:tgtEl>
                      <p:spTgt spid="140"/>
                    </p:tgtEl>
                  </p:cond>
                </p:stCondLst>
                <p:childTnLst>
                  <p:par>
                    <p:cTn id="532" fill="hold">
                      <p:stCondLst>
                        <p:cond evt="onClick">
                          <p:tgtEl>
                            <p:spTgt spid="140"/>
                          </p:tgtEl>
                        </p:cond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53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7" restart="whenNotActive" nodeType="interactiveSeq" fill="hold">
                <p:stCondLst>
                  <p:cond evt="onClick">
                    <p:tgtEl>
                      <p:spTgt spid="135"/>
                    </p:tgtEl>
                  </p:cond>
                </p:stCondLst>
                <p:childTnLst>
                  <p:par>
                    <p:cTn id="538" fill="hold">
                      <p:stCondLst>
                        <p:cond evt="onClick">
                          <p:tgtEl>
                            <p:spTgt spid="135"/>
                          </p:tgtEl>
                        </p:cond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54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3" restart="whenNotActive" nodeType="interactiveSeq" fill="hold">
                <p:stCondLst>
                  <p:cond evt="onClick">
                    <p:tgtEl>
                      <p:spTgt spid="136"/>
                    </p:tgtEl>
                  </p:cond>
                </p:stCondLst>
                <p:childTnLst>
                  <p:par>
                    <p:cTn id="544" fill="hold">
                      <p:stCondLst>
                        <p:cond evt="onClick">
                          <p:tgtEl>
                            <p:spTgt spid="136"/>
                          </p:tgtEl>
                        </p:cond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54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9" restart="whenNotActive" nodeType="interactiveSeq" fill="hold">
                <p:stCondLst>
                  <p:cond evt="onClick">
                    <p:tgtEl>
                      <p:spTgt spid="133"/>
                    </p:tgtEl>
                  </p:cond>
                </p:stCondLst>
                <p:childTnLst>
                  <p:par>
                    <p:cTn id="550" fill="hold">
                      <p:stCondLst>
                        <p:cond evt="onClick">
                          <p:tgtEl>
                            <p:spTgt spid="133"/>
                          </p:tgtEl>
                        </p:cond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55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5" restart="whenNotActive" nodeType="interactiveSeq" fill="hold">
                <p:stCondLst>
                  <p:cond evt="onClick">
                    <p:tgtEl>
                      <p:spTgt spid="137"/>
                    </p:tgtEl>
                  </p:cond>
                </p:stCondLst>
                <p:childTnLst>
                  <p:par>
                    <p:cTn id="556" fill="hold">
                      <p:stCondLst>
                        <p:cond evt="onClick">
                          <p:tgtEl>
                            <p:spTgt spid="137"/>
                          </p:tgtEl>
                        </p:cond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applause.wav"/>
                                        </p:tgtEl>
                                      </p:cMediaNode>
                                    </p:audio>
                                    <p:animMotion origin="layout" path="M 0.05121 3.0591E-006 C 0.05764 -0.00557 0.06406 -0.00487 0.07101 -0.00881 C 0.07847 -0.01275 0.08646 -0.0153 0.09392 -0.01924 C 0.09618 -0.02086 0.09809 -0.02271 0.10052 -0.02364 C 0.10382 -0.02503 0.12569 -0.02735 0.1283 -0.02804 C 0.14236 -0.03198 0.15503 -0.03639 0.16927 -0.03847 C 0.17639 -0.0445 0.18455 -0.04658 0.19219 -0.05145 C 0.20937 -0.06211 0.19358 -0.05446 0.20538 -0.06003 C 0.20764 -0.0642 0.20972 -0.0686 0.21198 -0.07277 C 0.21302 -0.07486 0.21528 -0.07903 0.21528 -0.0788 C 0.21858 -0.09641 0.21996 -0.09757 0.22674 -0.11124 C 0.22726 -0.1131 0.2276 -0.11541 0.2283 -0.1175 C 0.22917 -0.11982 0.2309 -0.12144 0.2316 -0.12399 C 0.23316 -0.12862 0.23333 -0.13395 0.23489 -0.13859 C 0.24028 -0.15551 0.24809 -0.17057 0.25295 -0.18772 C 0.25573 -0.19769 0.26441 -0.21553 0.26441 -0.2153 C 0.26996 -0.23986 0.26667 -0.23036 0.27257 -0.24519 C 0.2743 -0.25979 0.27726 -0.27393 0.28073 -0.28784 C 0.28281 -0.30823 0.28698 -0.32793 0.29062 -0.34763 C 0.2901 -0.38587 0.30226 -0.43616 0.28403 -0.47115 C 0.2816 -0.48459 0.27587 -0.49734 0.27101 -0.50962 C 0.26267 -0.53071 0.25608 -0.5518 0.23646 -0.55643 C 0.23003 -0.56315 0.22448 -0.56941 0.21684 -0.57358 C 0.20434 -0.58054 0.18906 -0.57984 0.17587 -0.58424 C 0.13108 -0.58285 0.11962 -0.58842 0.08906 -0.57776 C 0.08576 -0.57127 0.08403 -0.56478 0.08073 -0.55852 C 0.07604 -0.53326 0.0743 -0.52144 0.0743 -0.49456 E">
                                      <p:cBhvr>
                                        <p:cTn id="559" dur="2000" fill="hold"/>
                                        <p:tgtEl>
                                          <p:spTgt spid="1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1187280" y="0"/>
            <a:ext cx="7129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Comic Sans MS"/>
              </a:rPr>
              <a:t>Two times tabl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843280" y="1989000"/>
            <a:ext cx="2952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11 x 2 =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771640" y="3933720"/>
            <a:ext cx="865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851280" y="3573360"/>
            <a:ext cx="122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1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19280" y="4581360"/>
            <a:ext cx="865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50920" y="5516640"/>
            <a:ext cx="1081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084720" y="5373720"/>
            <a:ext cx="122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1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596360" y="4869000"/>
            <a:ext cx="129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2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716360" y="5300640"/>
            <a:ext cx="122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1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580000" y="4149720"/>
            <a:ext cx="1225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1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95280" y="4437000"/>
            <a:ext cx="865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700360" y="5516640"/>
            <a:ext cx="1511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2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39640" y="2708280"/>
            <a:ext cx="107964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1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380360" y="350028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2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0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6" dur="10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7" dur="10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8" dur="10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9" restart="whenNotActive" nodeType="interactiveSeq" fill="hold">
                <p:stCondLst>
                  <p:cond evt="onClick">
                    <p:tgtEl>
                      <p:spTgt spid="155"/>
                    </p:tgtEl>
                  </p:cond>
                </p:stCondLst>
                <p:childTnLst>
                  <p:par>
                    <p:cTn id="570" fill="hold">
                      <p:stCondLst>
                        <p:cond evt="onClick">
                          <p:tgtEl>
                            <p:spTgt spid="155"/>
                          </p:tgtEl>
                        </p:cond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57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5" restart="whenNotActive" nodeType="interactiveSeq" fill="hold">
                <p:stCondLst>
                  <p:cond evt="onClick">
                    <p:tgtEl>
                      <p:spTgt spid="153"/>
                    </p:tgtEl>
                  </p:cond>
                </p:stCondLst>
                <p:childTnLst>
                  <p:par>
                    <p:cTn id="576" fill="hold">
                      <p:stCondLst>
                        <p:cond evt="onClick">
                          <p:tgtEl>
                            <p:spTgt spid="153"/>
                          </p:tgtEl>
                        </p:cond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57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1" restart="whenNotActive" nodeType="interactiveSeq" fill="hold">
                <p:stCondLst>
                  <p:cond evt="onClick">
                    <p:tgtEl>
                      <p:spTgt spid="145"/>
                    </p:tgtEl>
                  </p:cond>
                </p:stCondLst>
                <p:childTnLst>
                  <p:par>
                    <p:cTn id="582" fill="hold">
                      <p:stCondLst>
                        <p:cond evt="onClick">
                          <p:tgtEl>
                            <p:spTgt spid="145"/>
                          </p:tgtEl>
                        </p:cond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58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7" restart="whenNotActive" nodeType="interactiveSeq" fill="hold">
                <p:stCondLst>
                  <p:cond evt="onClick">
                    <p:tgtEl>
                      <p:spTgt spid="146"/>
                    </p:tgtEl>
                  </p:cond>
                </p:stCondLst>
                <p:childTnLst>
                  <p:par>
                    <p:cTn id="588" fill="hold">
                      <p:stCondLst>
                        <p:cond evt="onClick">
                          <p:tgtEl>
                            <p:spTgt spid="146"/>
                          </p:tgtEl>
                        </p:cond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59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3" restart="whenNotActive" nodeType="interactiveSeq" fill="hold">
                <p:stCondLst>
                  <p:cond evt="onClick">
                    <p:tgtEl>
                      <p:spTgt spid="152"/>
                    </p:tgtEl>
                  </p:cond>
                </p:stCondLst>
                <p:childTnLst>
                  <p:par>
                    <p:cTn id="594" fill="hold">
                      <p:stCondLst>
                        <p:cond evt="onClick">
                          <p:tgtEl>
                            <p:spTgt spid="152"/>
                          </p:tgtEl>
                        </p:cond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59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9" restart="whenNotActive" nodeType="interactiveSeq" fill="hold">
                <p:stCondLst>
                  <p:cond evt="onClick">
                    <p:tgtEl>
                      <p:spTgt spid="148"/>
                    </p:tgtEl>
                  </p:cond>
                </p:stCondLst>
                <p:childTnLst>
                  <p:par>
                    <p:cTn id="600" fill="hold">
                      <p:stCondLst>
                        <p:cond evt="onClick">
                          <p:tgtEl>
                            <p:spTgt spid="148"/>
                          </p:tgtEl>
                        </p:cond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60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5" restart="whenNotActive" nodeType="interactiveSeq" fill="hold">
                <p:stCondLst>
                  <p:cond evt="onClick">
                    <p:tgtEl>
                      <p:spTgt spid="154"/>
                    </p:tgtEl>
                  </p:cond>
                </p:stCondLst>
                <p:childTnLst>
                  <p:par>
                    <p:cTn id="606" fill="hold">
                      <p:stCondLst>
                        <p:cond evt="onClick">
                          <p:tgtEl>
                            <p:spTgt spid="154"/>
                          </p:tgtEl>
                        </p:cond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609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1" restart="whenNotActive" nodeType="interactiveSeq" fill="hold">
                <p:stCondLst>
                  <p:cond evt="onClick">
                    <p:tgtEl>
                      <p:spTgt spid="151"/>
                    </p:tgtEl>
                  </p:cond>
                </p:stCondLst>
                <p:childTnLst>
                  <p:par>
                    <p:cTn id="612" fill="hold">
                      <p:stCondLst>
                        <p:cond evt="onClick">
                          <p:tgtEl>
                            <p:spTgt spid="151"/>
                          </p:tgtEl>
                        </p:cond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615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7" restart="whenNotActive" nodeType="interactiveSeq" fill="hold">
                <p:stCondLst>
                  <p:cond evt="onClick">
                    <p:tgtEl>
                      <p:spTgt spid="149"/>
                    </p:tgtEl>
                  </p:cond>
                </p:stCondLst>
                <p:childTnLst>
                  <p:par>
                    <p:cTn id="618" fill="hold">
                      <p:stCondLst>
                        <p:cond evt="onClick">
                          <p:tgtEl>
                            <p:spTgt spid="149"/>
                          </p:tgtEl>
                        </p:cond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62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3" restart="whenNotActive" nodeType="interactiveSeq" fill="hold">
                <p:stCondLst>
                  <p:cond evt="onClick">
                    <p:tgtEl>
                      <p:spTgt spid="150"/>
                    </p:tgtEl>
                  </p:cond>
                </p:stCondLst>
                <p:childTnLst>
                  <p:par>
                    <p:cTn id="624" fill="hold">
                      <p:stCondLst>
                        <p:cond evt="onClick">
                          <p:tgtEl>
                            <p:spTgt spid="150"/>
                          </p:tgtEl>
                        </p:cond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62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9" restart="whenNotActive" nodeType="interactiveSeq" fill="hold">
                <p:stCondLst>
                  <p:cond evt="onClick">
                    <p:tgtEl>
                      <p:spTgt spid="147"/>
                    </p:tgtEl>
                  </p:cond>
                </p:stCondLst>
                <p:childTnLst>
                  <p:par>
                    <p:cTn id="630" fill="hold">
                      <p:stCondLst>
                        <p:cond evt="onClick">
                          <p:tgtEl>
                            <p:spTgt spid="147"/>
                          </p:tgtEl>
                        </p:cond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63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5" restart="whenNotActive" nodeType="interactiveSeq" fill="hold">
                <p:stCondLst>
                  <p:cond evt="onClick">
                    <p:tgtEl>
                      <p:spTgt spid="156"/>
                    </p:tgtEl>
                  </p:cond>
                </p:stCondLst>
                <p:childTnLst>
                  <p:par>
                    <p:cTn id="636" fill="hold">
                      <p:stCondLst>
                        <p:cond evt="onClick">
                          <p:tgtEl>
                            <p:spTgt spid="156"/>
                          </p:tgtEl>
                        </p:cond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applause.wav"/>
                                        </p:tgtEl>
                                      </p:cMediaNode>
                                    </p:audio>
                                    <p:animMotion origin="layout" path="M 0.00678 -2.76941E-006 C 0.01806 -0.01784 0.02205 -0.0336 0.03039 -0.05492 C 0.03195 -0.05863 0.03316 -0.06211 0.03455 -0.06581 C 0.03629 -0.07022 0.04011 -0.07879 0.04011 -0.07856 C 0.04132 -0.09015 0.04323 -0.10011 0.04428 -0.1117 C 0.04375 -0.15481 0.04428 -0.19791 0.04289 -0.24079 C 0.04271 -0.24774 0.03768 -0.26048 0.03577 -0.26697 C 0.03351 -0.27624 0.03299 -0.28644 0.03039 -0.29548 C 0.02744 -0.30637 0.0224 -0.31309 0.01806 -0.3219 C 0.01112 -0.33557 0.00816 -0.34345 -0.00277 -0.34809 C -0.00868 -0.36176 -0.02083 -0.3657 -0.03055 -0.36778 C -0.03454 -0.37033 -0.03888 -0.37149 -0.04288 -0.37427 C -0.04444 -0.3752 -0.04548 -0.37752 -0.04704 -0.37868 C -0.05208 -0.38215 -0.05816 -0.38517 -0.06354 -0.38748 C -0.07256 -0.39675 -0.0868 -0.39698 -0.09809 -0.40046 C -0.11822 -0.41645 -0.13038 -0.40625 -0.15902 -0.40486 C -0.16684 -0.40324 -0.17482 -0.40231 -0.18246 -0.39837 C -0.18437 -0.39652 -0.19114 -0.38957 -0.19218 -0.38748 C -0.19305 -0.38563 -0.19288 -0.38285 -0.19357 -0.38099 C -0.19461 -0.37844 -0.19652 -0.37682 -0.19756 -0.37427 C -0.20243 -0.36338 -0.19861 -0.36871 -0.20191 -0.35898 C -0.20468 -0.35063 -0.20711 -0.34438 -0.20868 -0.33488 C -0.20781 -0.30382 -0.20746 -0.29015 -0.20312 -0.26489 C -0.2059 -0.25353 -0.20486 -0.26095 -0.20312 -0.2431 C -0.20277 -0.238 -0.20191 -0.22781 -0.20191 -0.22758 E">
                                      <p:cBhvr>
                                        <p:cTn id="639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1T19:38:56Z</dcterms:created>
  <dc:creator>Angie Gore</dc:creator>
  <dc:description/>
  <dc:language>en-US</dc:language>
  <cp:lastModifiedBy>Angie Gore</cp:lastModifiedBy>
  <dcterms:modified xsi:type="dcterms:W3CDTF">2006-11-20T20:38:30Z</dcterms:modified>
  <cp:revision>7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377459059</vt:r8>
  </property>
  <property fmtid="{D5CDD505-2E9C-101B-9397-08002B2CF9AE}" pid="3" name="_AuthorEmail">
    <vt:lpwstr>angiegore@blueyonder.co.uk</vt:lpwstr>
  </property>
  <property fmtid="{D5CDD505-2E9C-101B-9397-08002B2CF9AE}" pid="4" name="_AuthorEmailDisplayName">
    <vt:lpwstr>Angie Gore</vt:lpwstr>
  </property>
  <property fmtid="{D5CDD505-2E9C-101B-9397-08002B2CF9AE}" pid="5" name="_EmailSubject">
    <vt:lpwstr>Possible resources</vt:lpwstr>
  </property>
</Properties>
</file>