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4E79-FF85-40AE-A179-E36117CBE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F002-8B2A-4A86-92D3-CE403BD7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E2F4-FBF1-432F-9C30-4FA0EC3E2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937E-74F7-48EE-A7ED-A19F212BB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3C1B-E06C-434D-B8B1-906A7ED9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164B-BA12-449E-8D44-30404535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CCB4-F73A-43BB-AC33-702E45AC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9B14-DE1E-4613-9C91-61B4D5E5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3631-3539-46E7-A2AF-B055AC9A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0990-F763-41AC-A37B-3C6FE8B3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B315-1807-4D0B-B473-0FABDAC6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9389-C150-445C-822E-D0BA47AA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D6D2-52E9-4621-92FE-AA51268FF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260280"/>
            <a:ext cx="69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ultiplying by t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00360" y="1989000"/>
            <a:ext cx="619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You make a move to the lef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56000" y="4437000"/>
            <a:ext cx="676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Yes, you make a move to the lef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60436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056360" y="573408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9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5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16000" y="260280"/>
            <a:ext cx="69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ultiplying by t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2560" y="170172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3640" y="177336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8720" y="314172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47640" y="314172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84360" y="306864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314172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95640" y="3141720"/>
            <a:ext cx="6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56000" y="508464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hat nex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24720" y="630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ccff"/>
                </a:solidFill>
                <a:latin typeface="Curlz MT"/>
              </a:rPr>
              <a:t>By A.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60436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521 0.00878 0.00886 0.01942 0.0158 0.02566 C 0.03056 0.03907 0.04757 0.04694 0.0632 0.05826 C 0.06684 0.06104 0.06979 0.06543 0.07361 0.06774 C 0.08038 0.07167 0.08767 0.07399 0.09462 0.07699 C 0.09792 0.07838 0.10035 0.08208 0.10347 0.08393 C 0.10955 0.0874 0.11632 0.08902 0.12274 0.0911 C 0.1441 0.0978 0.16823 0.09688 0.18941 0.09803 C 0.21042 0.09549 0.24445 0.09364 0.2684 0.08624 C 0.29479 0.07815 0.27708 0.08092 0.30174 0.07237 C 0.31788 0.06682 0.33455 0.06566 0.35087 0.06058 C 0.36788 0.05526 0.38472 0.04971 0.40174 0.04439 C 0.40521 0.04324 0.40886 0.043 0.41233 0.04185 C 0.4158 0.04069 0.42274 0.03722 0.42274 0.03722 C 0.43785 0.0215 0.4566 0.01202 0.47361 0 C 0.48351 -0.00694 0.49549 -0.01249 0.50347 -0.02359 C 0.50538 -0.03098 0.50573 -0.04254 0.50174 -0.04925 C 0.49948 -0.05318 0.49531 -0.05457 0.49288 -0.0585 C 0.4882 -0.06613 0.48785 -0.06937 0.48073 -0.0726 C 0.4717 -0.08393 0.45938 -0.08833 0.4474 -0.09133 C 0.43906 -0.08994 0.42743 -0.08948 0.41927 -0.08416 C 0.40608 -0.07538 0.42188 -0.08278 0.40868 -0.07723 C 0.40399 -0.07306 0.39965 -0.07122 0.39462 -0.06798 E">
                                      <p:cBhvr>
                                        <p:cTn id="56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 0.01632 0.01826 0.01771 0.01873 C 0.02222 0.02057 0.02691 0.02034 0.0316 0.02104 C 0.04288 0.03075 0.05312 0.03005 0.06667 0.0326 C 0.08316 0.0356 0.10538 0.04346 0.12292 0.04439 C 0.14809 0.04578 0.17309 0.04601 0.19826 0.0467 C 0.2651 0.05549 0.33472 0.0474 0.40191 0.04208 C 0.41406 0.03676 0.39878 0.04416 0.4158 0.0326 C 0.42257 0.02797 0.42986 0.02636 0.43698 0.02335 C 0.43993 0.01133 0.43646 0.01988 0.44566 0.01179 C 0.45052 0.0074 0.45486 0.00208 0.45972 -0.00232 C 0.46146 -0.00393 0.46319 -0.00532 0.46493 -0.00694 C 0.46753 -0.01758 0.4743 -0.02336 0.47899 -0.0326 C 0.4809 -0.04047 0.48229 -0.04833 0.48437 -0.05619 C 0.4842 -0.05943 0.48368 -0.07908 0.48073 -0.08648 C 0.46962 -0.11353 0.44601 -0.12486 0.42639 -0.13781 C 0.39462 -0.13526 0.40139 -0.14266 0.38611 -0.12139 C 0.38299 -0.10914 0.38246 -0.09688 0.38246 -0.08417 E">
                                      <p:cBhvr>
                                        <p:cTn id="59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 0.01632 0.01826 0.01771 0.01873 C 0.02222 0.02057 0.02691 0.02034 0.0316 0.02104 C 0.04288 0.03075 0.05312 0.03005 0.06667 0.0326 C 0.08316 0.0356 0.10538 0.04346 0.12292 0.04439 C 0.14809 0.04578 0.17309 0.04601 0.19826 0.0467 C 0.2651 0.05549 0.33472 0.0474 0.40191 0.04208 C 0.41406 0.03676 0.39878 0.04416 0.4158 0.0326 C 0.42257 0.02797 0.42986 0.02636 0.43698 0.02335 C 0.43993 0.01133 0.43646 0.01988 0.44566 0.01179 C 0.45052 0.0074 0.45486 0.00208 0.45972 -0.00232 C 0.46146 -0.00393 0.46319 -0.00532 0.46493 -0.00694 C 0.46753 -0.01758 0.4743 -0.02336 0.47899 -0.0326 C 0.4809 -0.04047 0.48229 -0.04833 0.48437 -0.05619 C 0.4842 -0.05943 0.48368 -0.07908 0.48073 -0.08648 C 0.46962 -0.11353 0.44601 -0.12486 0.42639 -0.13781 C 0.39462 -0.13526 0.40139 -0.14266 0.38611 -0.12139 C 0.38299 -0.10914 0.38246 -0.09688 0.38246 -0.08417 E">
                                      <p:cBhvr>
                                        <p:cTn id="62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05556E-006 3.87283E-006 C 0.00938 0.01433 0.01667 0.02057 0.02917 0.02705 C 0.03299 0.02913 0.04063 0.03306 0.04063 0.03352 C 0.13698 0.03213 0.23334 0.0319 0.32969 0.03005 C 0.33646 0.03005 0.3441 0.02266 0.35087 0.02081 C 0.36702 0.01664 0.38334 0.01433 0.39948 0.01202 C 0.40816 -0.00833 0.41025 -0.02104 0.4132 -0.04509 C 0.4099 -0.06821 0.40417 -0.07399 0.38976 -0.08116 C 0.38386 -0.08694 0.38073 -0.09226 0.37414 -0.08694 E">
                                      <p:cBhvr>
                                        <p:cTn id="65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41 0.01896 C 0.05034 0.02566 0.04236 0.02242 0.05989 0.02821 C 0.07968 0.04138 0.10191 0.04462 0.12309 0.05156 C 0.15121 0.05063 0.18211 0.06127 0.20729 0.04462 C 0.21215 0.04138 0.21475 0.03653 0.21961 0.03283 C 0.22413 0.02936 0.22986 0.02844 0.2335 0.02358 C 0.23645 0.01965 0.24236 0.01202 0.24236 0.01225 C 0.24357 0.0074 0.24375 0.00208 0.24583 -0.00208 C 0.24704 -0.0044 0.24843 -0.00648 0.2493 -0.00902 C 0.25086 -0.01364 0.25173 -0.0185 0.25295 -0.02312 C 0.25347 -0.02544 0.25468 -0.03006 0.25468 -0.02983 C 0.25382 -0.04786 0.25694 -0.06266 0.24757 -0.07445 C 0.246 -0.0807 0.24687 -0.08393 0.24062 -0.08393 C 0.23819 -0.08393 0.23593 -0.08255 0.2335 -0.08162 C 0.23177 -0.08093 0.22829 -0.07931 0.22829 -0.07908 E">
                                      <p:cBhvr>
                                        <p:cTn id="68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0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6000"/>
                            </p:stCondLst>
                            <p:childTnLst>
                              <p:par>
                                <p:cTn id="80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16000" y="260280"/>
            <a:ext cx="69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ultiplying by t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66920" y="148608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55736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88000" y="155736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3789360"/>
            <a:ext cx="51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ake a move to the…lef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00720" y="256536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659640" y="256536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48360" y="3068640"/>
            <a:ext cx="1511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916360" y="3068640"/>
            <a:ext cx="1511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4869000"/>
            <a:ext cx="504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Yes a move to the lef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24720" y="630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ccff"/>
                </a:solidFill>
                <a:latin typeface="Curlz MT"/>
              </a:rPr>
              <a:t>By A.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60436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7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8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9000"/>
                            </p:stCondLst>
                            <p:childTnLst>
                              <p:par>
                                <p:cTn id="10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2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16000" y="260280"/>
            <a:ext cx="69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ultiplying by t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66920" y="148608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56000" y="155736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88000" y="155736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00720" y="256536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59640" y="256536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48360" y="3068640"/>
            <a:ext cx="1511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916360" y="3068640"/>
            <a:ext cx="1511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3429000"/>
            <a:ext cx="57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Make the move to the left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458136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Something missing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2565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566100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Yes that’s righ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24720" y="630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ccff"/>
                </a:solidFill>
                <a:latin typeface="Curlz MT"/>
              </a:rPr>
              <a:t>By A.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71640" y="436572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16 x 10 = 1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60436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573 3.58382E-006 L -0.24427 3.58382E-006 E">
                                      <p:cBhvr>
                                        <p:cTn id="141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500"/>
                            </p:stCondLst>
                            <p:childTnLst>
                              <p:par>
                                <p:cTn id="143" nodeType="after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1962 3.58382E-006 L -0.23038 3.58382E-006 E">
                                      <p:cBhvr>
                                        <p:cTn id="14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2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6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16000" y="260280"/>
            <a:ext cx="69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ultiplying by t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2560" y="170172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71640" y="177336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03640" y="177336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314172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47640" y="3141720"/>
            <a:ext cx="6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84360" y="306864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314172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95640" y="3141720"/>
            <a:ext cx="6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56000" y="508464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hat nex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24720" y="630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ccff"/>
                </a:solidFill>
                <a:latin typeface="Curlz MT"/>
              </a:rPr>
              <a:t>By A.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60436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521 0.00878 0.00886 0.01942 0.0158 0.02566 C 0.03056 0.03907 0.04757 0.04694 0.0632 0.05826 C 0.06684 0.06104 0.06979 0.06543 0.07361 0.06774 C 0.08038 0.07167 0.08767 0.07399 0.09462 0.07699 C 0.09792 0.07838 0.10035 0.08208 0.10347 0.08393 C 0.10955 0.0874 0.11632 0.08902 0.12274 0.0911 C 0.1441 0.0978 0.16823 0.09688 0.18941 0.09803 C 0.21042 0.09549 0.24445 0.09364 0.2684 0.08624 C 0.29479 0.07815 0.27708 0.08092 0.30174 0.07237 C 0.31788 0.06682 0.33455 0.06566 0.35087 0.06058 C 0.36788 0.05526 0.38472 0.04971 0.40174 0.04439 C 0.40521 0.04324 0.40886 0.043 0.41233 0.04185 C 0.4158 0.04069 0.42274 0.03722 0.42274 0.03722 C 0.43785 0.0215 0.4566 0.01202 0.47361 0 C 0.48351 -0.00694 0.49549 -0.01249 0.50347 -0.02359 C 0.50538 -0.03098 0.50573 -0.04254 0.50174 -0.04925 C 0.49948 -0.05318 0.49531 -0.05457 0.49288 -0.0585 C 0.4882 -0.06613 0.48785 -0.06937 0.48073 -0.0726 C 0.4717 -0.08393 0.45938 -0.08833 0.4474 -0.09133 C 0.43906 -0.08994 0.42743 -0.08948 0.41927 -0.08416 C 0.40608 -0.07538 0.42188 -0.08278 0.40868 -0.07723 C 0.40399 -0.07306 0.39965 -0.07122 0.39462 -0.06798 E">
                                      <p:cBhvr>
                                        <p:cTn id="204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 0.01632 0.01826 0.01771 0.01873 C 0.02222 0.02057 0.02691 0.02034 0.0316 0.02104 C 0.04288 0.03075 0.05312 0.03005 0.06667 0.0326 C 0.08316 0.0356 0.10538 0.04346 0.12292 0.04439 C 0.14809 0.04578 0.17309 0.04601 0.19826 0.0467 C 0.2651 0.05549 0.33472 0.0474 0.40191 0.04208 C 0.41406 0.03676 0.39878 0.04416 0.4158 0.0326 C 0.42257 0.02797 0.42986 0.02636 0.43698 0.02335 C 0.43993 0.01133 0.43646 0.01988 0.44566 0.01179 C 0.45052 0.0074 0.45486 0.00208 0.45972 -0.00232 C 0.46146 -0.00393 0.46319 -0.00532 0.46493 -0.00694 C 0.46753 -0.01758 0.4743 -0.02336 0.47899 -0.0326 C 0.4809 -0.04047 0.48229 -0.04833 0.48437 -0.05619 C 0.4842 -0.05943 0.48368 -0.07908 0.48073 -0.08648 C 0.46962 -0.11353 0.44601 -0.12486 0.42639 -0.13781 C 0.39462 -0.13526 0.40139 -0.14266 0.38611 -0.12139 C 0.38299 -0.10914 0.38246 -0.09688 0.38246 -0.08417 E">
                                      <p:cBhvr>
                                        <p:cTn id="207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 0.01632 0.01826 0.01771 0.01873 C 0.02222 0.02057 0.02691 0.02034 0.0316 0.02104 C 0.04288 0.03075 0.05312 0.03005 0.06667 0.0326 C 0.08316 0.0356 0.10538 0.04346 0.12292 0.04439 C 0.14809 0.04578 0.17309 0.04601 0.19826 0.0467 C 0.2651 0.05549 0.33472 0.0474 0.40191 0.04208 C 0.41406 0.03676 0.39878 0.04416 0.4158 0.0326 C 0.42257 0.02797 0.42986 0.02636 0.43698 0.02335 C 0.43993 0.01133 0.43646 0.01988 0.44566 0.01179 C 0.45052 0.0074 0.45486 0.00208 0.45972 -0.00232 C 0.46146 -0.00393 0.46319 -0.00532 0.46493 -0.00694 C 0.46753 -0.01758 0.4743 -0.02336 0.47899 -0.0326 C 0.4809 -0.04047 0.48229 -0.04833 0.48437 -0.05619 C 0.4842 -0.05943 0.48368 -0.07908 0.48073 -0.08648 C 0.46962 -0.11353 0.44601 -0.12486 0.42639 -0.13781 C 0.39462 -0.13526 0.40139 -0.14266 0.38611 -0.12139 C 0.38299 -0.10914 0.38246 -0.09688 0.38246 -0.08417 E">
                                      <p:cBhvr>
                                        <p:cTn id="210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8000"/>
                            </p:stCondLst>
                            <p:childTnLst>
                              <p:par>
                                <p:cTn id="212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05556E-006 3.87283E-006 C 0.00938 0.01433 0.01667 0.02057 0.02917 0.02705 C 0.03299 0.02913 0.04063 0.03306 0.04063 0.03352 C 0.13698 0.03213 0.23334 0.0319 0.32969 0.03005 C 0.33646 0.03005 0.3441 0.02266 0.35087 0.02081 C 0.36702 0.01664 0.38334 0.01433 0.39948 0.01202 C 0.40816 -0.00833 0.41025 -0.02104 0.4132 -0.04509 C 0.4099 -0.06821 0.40417 -0.07399 0.38976 -0.08116 C 0.38386 -0.08694 0.38073 -0.09226 0.37414 -0.08694 E">
                                      <p:cBhvr>
                                        <p:cTn id="213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41 0.01896 C 0.05034 0.02566 0.04236 0.02242 0.05989 0.02821 C 0.07968 0.04138 0.10191 0.04462 0.12309 0.05156 C 0.15121 0.05063 0.18211 0.06127 0.20729 0.04462 C 0.21215 0.04138 0.21475 0.03653 0.21961 0.03283 C 0.22413 0.02936 0.22986 0.02844 0.2335 0.02358 C 0.23645 0.01965 0.24236 0.01202 0.24236 0.01225 C 0.24357 0.0074 0.24375 0.00208 0.24583 -0.00208 C 0.24704 -0.0044 0.24843 -0.00648 0.2493 -0.00902 C 0.25086 -0.01364 0.25173 -0.0185 0.25295 -0.02312 C 0.25347 -0.02544 0.25468 -0.03006 0.25468 -0.02983 C 0.25382 -0.04786 0.25694 -0.06266 0.24757 -0.07445 C 0.246 -0.0807 0.24687 -0.08393 0.24062 -0.08393 C 0.23819 -0.08393 0.23593 -0.08255 0.2335 -0.08162 C 0.23177 -0.08093 0.22829 -0.07931 0.22829 -0.07908 E">
                                      <p:cBhvr>
                                        <p:cTn id="216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8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16000" y="260280"/>
            <a:ext cx="69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ultiplying by t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66920" y="148608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56000" y="155736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88000" y="155736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3789360"/>
            <a:ext cx="51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ake a move to the…lef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256536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59640" y="256536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148360" y="3068640"/>
            <a:ext cx="1511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916360" y="3068640"/>
            <a:ext cx="1511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4869000"/>
            <a:ext cx="504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Yes a move to the lef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24720" y="630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ccff"/>
                </a:solidFill>
                <a:latin typeface="Curlz MT"/>
              </a:rPr>
              <a:t>By A.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60436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7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7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500"/>
                            </p:stCondLst>
                            <p:childTnLst>
                              <p:par>
                                <p:cTn id="25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9500"/>
                            </p:stCondLst>
                            <p:childTnLst>
                              <p:par>
                                <p:cTn id="260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16000" y="260280"/>
            <a:ext cx="69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Multiplying by t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66920" y="148608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155736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88000" y="155736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256536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59640" y="256536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148360" y="3068640"/>
            <a:ext cx="1511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916360" y="3068640"/>
            <a:ext cx="1511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3500280"/>
            <a:ext cx="57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Make the move to the left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458136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Something missing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59640" y="249228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92360" y="566100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Yes that’s righ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24720" y="630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ccff"/>
                </a:solidFill>
                <a:latin typeface="Curlz MT"/>
              </a:rPr>
              <a:t>By A.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87640" y="386064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9 x 10 = 6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60436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8" nodeType="afterEffect" fill="hold" presetClass="path" presetID="35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00573 3.58382E-006 L -0.24427 3.58382E-006 E">
                                      <p:cBhvr>
                                        <p:cTn id="289" dur="3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1" nodeType="after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1962 3.58382E-006 L -0.23038 3.58382E-006 E">
                                      <p:cBhvr>
                                        <p:cTn id="292" dur="3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85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20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6000"/>
                            </p:stCondLst>
                            <p:childTnLst>
                              <p:par>
                                <p:cTn id="3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8000"/>
                            </p:stCondLst>
                            <p:childTnLst>
                              <p:par>
                                <p:cTn id="310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20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5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3:56:42Z</dcterms:created>
  <dc:creator>Angie Gore</dc:creator>
  <dc:description/>
  <dc:language>en-US</dc:language>
  <cp:lastModifiedBy>Angie Gore</cp:lastModifiedBy>
  <dcterms:modified xsi:type="dcterms:W3CDTF">2006-11-20T20:35:23Z</dcterms:modified>
  <cp:revision>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4501320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