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114F-EB73-4ED1-AB24-D79D5B1DB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34D0-8686-4FC5-9143-35D2C5A6D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BD15-F069-4082-A8C9-82E0C4C28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6F74-8286-4661-819D-9E7DF613F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1C20-05C5-4360-A609-6AE32B011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F993-E281-442B-BA65-75E4F17AA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180C-F665-4CB5-B0DE-EEF216946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0863-7D8A-4292-B078-1D23D7777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0780-7D52-46D4-AB3D-47197FB6F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C6FB-8B05-4B7B-B664-C2F2F9A4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1F2C-29E8-4613-9E56-904F263F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194E-56FC-4D32-A031-F3E0D63B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D4400-56F4-4F64-9781-A3E93EE4B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9280" y="1773360"/>
            <a:ext cx="3810240" cy="952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995640" y="191628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learn about balancing on different parts of the 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79280" y="3141720"/>
            <a:ext cx="3810240" cy="9525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9280" y="4149720"/>
            <a:ext cx="889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can balance using a large part of my 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can balance using a small part of my 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can hold my balances for 3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can smoothly link my movements before and after my balance to my bal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4762440" cy="1333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179280" y="5589720"/>
            <a:ext cx="1905120" cy="9522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124000" y="573408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ember that an adult must check that the gym equipment has been set up safely before you us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7T02:26:54Z</dcterms:created>
  <dc:creator>Matt Lovegrove</dc:creator>
  <dc:description/>
  <dc:language>en-US</dc:language>
  <cp:lastModifiedBy>Matt Lovegrove</cp:lastModifiedBy>
  <dcterms:modified xsi:type="dcterms:W3CDTF">2006-04-27T02:37:19Z</dcterms:modified>
  <cp:revision>3</cp:revision>
  <dc:subject/>
  <dc:title>Slide 1</dc:title>
</cp:coreProperties>
</file>