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23B-195D-4762-8D6D-E5BFB762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F4C-AE9B-49D0-8730-132B0DE1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9F2-0D0B-4359-B6C7-8699F8EE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962-887D-4E54-9B5D-52AA18E7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A94FE-BD2F-4A46-AF81-A4BEE3E0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58217-DF4E-4A14-8660-1383CE6E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11F82-89CE-4257-8F48-64A222E7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C498E-05F1-4419-B199-E6429131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C692D-E066-40A1-8B94-7355865E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CD999-0BB4-4F76-9F19-BB0693E3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A4E14-2840-4B5D-8DDA-B66652C0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C0B-7553-4590-8ED3-8E0B15CD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41F64-023E-4EC1-8C47-F5167742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F1030-F09E-4036-924A-7085C41F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A2731-1F0E-46BA-AED6-EE058735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D9ED9-5136-459C-966E-FADF8978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44C53-197D-4513-A47C-0AC631BA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CFE-9D93-4CDF-8AFB-3063135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04C-55FE-4A73-85C4-70FE661C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12E-75EE-42FB-A9FE-37B568B9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B9D-44A4-4A02-8DD9-9F106768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12E-8CA8-4679-AB03-C1F77158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BB3-1956-4981-8025-864E84EF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0E1-865E-4371-9212-C1828054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03D0-64BA-49A1-A0D5-5A3E0A332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ECD6-2100-48A2-A9BA-F42EF4CE4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00"/>
                </a:solidFill>
                <a:latin typeface="Impact"/>
              </a:rPr>
              <a:t>Death / New Lif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Here I Am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333360"/>
            <a:ext cx="7561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orgetMeNotHMK"/>
              </a:rPr>
              <a:t>Death / New Lif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orgetMeNotHMK"/>
              <a:ea typeface="ForgetMeNotHM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did the famil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feel they had los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ecause of Gran'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eath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ow were the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going to cope in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future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ow would Gran still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e there for them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flect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88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o reflect on loss and sadness in our own lives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15920"/>
            <a:ext cx="81388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ometimes …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people we love ...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move away .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go into hospital-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or die.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184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This causes a sense or a feeling within us - of loss and sadness in our live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Here are some pictures of people I have lost in my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They show me as a young boy, about your age, with my sister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my Nan and also my dad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8760" y="0"/>
            <a:ext cx="3981600" cy="68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Me with my Nan and s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a picture of me with my Nan ( Dolly ) and my sister Debbie. I was about 8 or 9 years old in this pic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fortunately, my Nan died not long after my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irthday. The last time I saw her was actually on my birthday, in the hospital she was in. She gave me a love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irthday card and laughed as she hugged me and said “Happy Birthday son!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y sister Debbie, is now married to Mike. They live on the Isle of Wight near Portsmouth, so I don’t get to see her that oft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7280" y="1442880"/>
            <a:ext cx="6769440" cy="541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476280"/>
            <a:ext cx="86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This is another picture from the same day, only this time my dad is standing behind me. My dad died on a memorable day Palm Sunday - April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aaBookHmkBold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 200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He was 63 years old and had been sick for quite some t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I still miss him very much and think about him every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9200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s is quite a difficult time for 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us. Even when we are grown up 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dults, it can be very hard to co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ith. But there are always peopl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riends and family who can help 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pe at these sad mo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help us focus on these times – tak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w minutes to think about these f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15920"/>
            <a:ext cx="81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we have established that sometimes people we love very muc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ve away, go into hospital or di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Now that I have shared some of my family history, has anyone you love had to move away, or go into hospital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cogni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o recognise tha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loss and sadnes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art of living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as anyone you love die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y can be a famil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ember, friends or ev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imals or pet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did you feel?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did you do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 you sometimes    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ink or talk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out them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did your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ife change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n what ways are they still ‘there’ for you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280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on our Wipe boards, we are going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 some words that say how we fe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ut the loss of someone we love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 dear to 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 sad, lonely, worried, los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ightened or si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also thinking about the rea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e loved them and why they are st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ve within us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 they may have spent ti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us, maybe they were kind or fun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going to include these words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class dis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ass Memory Bask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 we are discussing the people o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ts we may have lost in our lives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y and select someone who w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pecially close to you and wri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ir name on one of the mem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ds you have been given. At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the lesson we will collect thes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put them in our Memory Baske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9152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uccotashHmkBold"/>
              </a:rPr>
              <a:t>Let us consider some of our possible feelings and emotions we may go through when we lose something precious to us….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Gran’s hous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ere on our way to Gran’s hous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ne of us spoke very mu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 had died two weeks ago and w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re going to her house for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st time to clear it ou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1557360"/>
            <a:ext cx="5616720" cy="42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urlz MT"/>
              </a:rPr>
              <a:t>sad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</p:spTree>
  </p:cSld>
  <p:transition spd="slow">
    <p:pull dir="l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 rot="553200">
            <a:off x="2123640" y="1916280"/>
            <a:ext cx="4897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ne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41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 rot="1389600">
            <a:off x="971280" y="1628640"/>
            <a:ext cx="70563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pse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 rot="21195000">
            <a:off x="826920" y="1647360"/>
            <a:ext cx="7305840" cy="443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arful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460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63640" y="2133720"/>
            <a:ext cx="6265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orr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strips dir="l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236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2133720"/>
            <a:ext cx="7416720" cy="20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emotional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slow">
    <p:pull dir="r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 rot="945600">
            <a:off x="611280" y="1268280"/>
            <a:ext cx="172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urlz MT"/>
              </a:rPr>
              <a:t>sad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sp>
        <p:nvSpPr>
          <p:cNvPr id="138" name=""/>
          <p:cNvSpPr txBox="1"/>
          <p:nvPr/>
        </p:nvSpPr>
        <p:spPr>
          <a:xfrm rot="21303000">
            <a:off x="5292720" y="1484280"/>
            <a:ext cx="26020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ne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 rot="21100800">
            <a:off x="971640" y="2781000"/>
            <a:ext cx="338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pse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 rot="21195000">
            <a:off x="320400" y="4253040"/>
            <a:ext cx="3457440" cy="21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arful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03640" y="3068640"/>
            <a:ext cx="35308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orr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 rot="413400">
            <a:off x="4284720" y="5084280"/>
            <a:ext cx="432108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emotional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48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5 -0.033 -0.06129 -0.027 -0.09993 C -0.024 -0.11325 -0.02 -0.12658 -0.014 -0.13724 C -0.01 -0.10659 0.004 -0.07861 0.025 -0.06129 C 0.025 -0.0986 0.041 -0.13457 0.068 -0.15056 C 0.077 -0.15722 0.087 -0.15989 0.097 -0.16122 C 0.082 -0.13857 0.074 -0.10659 0.077 -0.07328 C 0.099 -0.09727 0.13 -0.1026 0.157 -0.08527 C 0.166 -0.07994 0.175 -0.07062 0.181 -0.06129 C 0.158 -0.06396 0.134 -0.05196 0.117 -0.02798 C 0.144 -0.01999 0.167 0.00799 0.174 0.04663 C 0.176 0.05996 0.176 0.07328 0.174 0.08661 C 0.161 0.06129 0.139 0.04397 0.115 0.0413 C 0.127 0.07461 0.124 0.11592 0.106 0.14656 C 0.099 0.15722 0.091 0.16655 0.082 0.17188 C 0.089 0.14257 0.085 0.10926 0.072 0.08261 C 0.06 0.11592 0.034 0.13857 0.004 0.13857 C -0.007 0.13857 -0.017 0.13591 -0.026 0.13058 C -0.004 0.11992 0.013 0.0946 0.021 0.06396 C -0.007 0.07195 -0.036 0.05996 -0.055 0.02931 C -0.062 0.01732 -0.066 0.00533 -0.069 -0.00799 C -0.049 0.00933 -0.023 0.01199 0 0 Z">
                                      <p:cBhvr>
                                        <p:cTn id="48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48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492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7 L 0.177 -0.09727 L 0.25 0 L 0.25 0.13857 L 0.177 0.23584 L 0.073 0.23584 L 0 0.13857 L 0 0 Z">
                                      <p:cBhvr>
                                        <p:cTn id="49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50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8 0.06 0.07994 C 0.06 0.13191 0.03 0.15056 0.012 0.15856 L -0.012 0.16655 C -0.03 0.17455 -0.06 0.19453 -0.06 0.25316 C -0.06 0.29046 -0.033 0.3331 0 0.3331 C 0.033 0.3331 0.06 0.29046 0.06 0.25316 C 0.06 0.19453 0.03 0.17455 0.012 0.16655 L -0.012 0.15856 C -0.03 0.15056 -0.06 0.13191 -0.06 0.07994 C -0.06 0.03598 -0.033 0 0 0 Z">
                                      <p:cBhvr>
                                        <p:cTn id="50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8 L 0.075 0.06529 C 0.08 0.07328 0.088 0.07728 0.098 0.07728 C 0.112 0.07728 0.124 0.06662 0.125 0.05063 C 0.124 0.03731 0.112 0.02532 0.098 0.02532 C 0.088 0.02532 0.08 0.03065 0.075 0.03731 L 0.052 0.07461 C 0.042 0.0906 0.023 0.10126 0 0.1026 C -0.023 0.10126 -0.042 0.0906 -0.052 0.07461 L -0.075 0.03731 C -0.08 0.03065 -0.088 0.02532 -0.098 0.02532 C -0.112 0.02532 -0.124 0.03731 -0.125 0.05063 C -0.124 0.06662 -0.112 0.07728 -0.098 0.07728 C -0.088 0.07728 -0.08 0.07328 -0.075 0.06529 L -0.052 0.02798 C -0.042 0.01199 -0.023 0.00133 0 0 Z">
                                      <p:cBhvr>
                                        <p:cTn id="50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76120"/>
            <a:ext cx="70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uccotashHmkBlack"/>
              </a:rPr>
              <a:t>But</a:t>
            </a:r>
            <a:r>
              <a:rPr b="0" lang="en-US" sz="9600" spc="-1" strike="noStrike">
                <a:solidFill>
                  <a:srgbClr val="ffffff"/>
                </a:solidFill>
                <a:latin typeface="SuccotashHmkBlack"/>
              </a:rPr>
              <a:t> ………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8 0.021 -0.04663 C 0.04 -0.09993 0.045 -0.15189 0.031 -0.15989 C 0.017 -0.16922 -0.01 -0.13191 -0.029 -0.07861 C -0.039 -0.05063 -0.045 -0.02398 -0.047 -0.004 C -0.05 0.01199 -0.051 0.02798 -0.051 0.04663 C -0.051 0.10659 -0.038 0.15589 -0.023 0.15589 C -0.008 0.15589 0.005 0.10659 0.005 0.04663 C 0.005 0.01865 0.002 -0.00799 -0.003 -0.02665 C -0.005 -0.04264 -0.01 -0.05996 -0.016 -0.07728 C -0.036 -0.13191 -0.063 -0.16922 -0.077 -0.15989 C -0.091 -0.15056 -0.086 -0.09993 -0.066 -0.0453 C -0.058 -0.01999 -0.047 0.00133 -0.036 0.01599 C -0.028 0.02931 -0.019 0.0413 -0.007 0.0533 C 0.029 0.09194 0.065 0.10926 0.075 0.09327 C 0.084 0.07728 0.064 0.03331 0.028 -0.004 C 0.013 -0.01999 -0.003 -0.03198 -0.016 -0.03997 C -0.028 -0.04797 -0.043 -0.05463 -0.059 -0.05863 C -0.103 -0.07195 -0.141 -0.06795 -0.144 -0.04663 C -0.148 -0.02665 -0.115 0 -0.071 0.01332 C -0.051 0.01865 -0.032 0.02132 -0.017 0.01999 C -0.004 0.01999 0.01 0.01732 0.025 0.01332 C 0.069 0 0.102 -0.02798 0.098 -0.04797 C 0.095 -0.06795 0.057 -0.07328 0.013 -0.05996 C -0.008 -0.0533 -0.027 -0.04397 -0.04 -0.03331 C -0.051 -0.02532 -0.062 -0.01599 -0.074 -0.004 C -0.109 0.03464 -0.13 0.07728 -0.12 0.09327 C -0.111 0.10926 -0.074 0.09194 -0.039 0.05463 C -0.022 0.03598 -0.008 0.01732 0 0 Z">
                                      <p:cBhvr>
                                        <p:cTn id="51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42320" y="2349360"/>
            <a:ext cx="73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We just feel …………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8 0.06 0.07994 C 0.06 0.13191 0.03 0.15056 0.012 0.15856 L -0.012 0.16655 C -0.03 0.17455 -0.06 0.19453 -0.06 0.25316 C -0.06 0.29046 -0.033 0.3331 0 0.3331 C 0.033 0.3331 0.06 0.29046 0.06 0.25316 C 0.06 0.19453 0.03 0.17455 0.012 0.16655 L -0.012 0.15856 C -0.03 0.15056 -0.06 0.13191 -0.06 0.07994 C -0.06 0.03598 -0.033 0 0 0 Z">
                                      <p:cBhvr>
                                        <p:cTn id="52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chel thought of the journeys 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’s house for holidays. She lik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s old furniture and secr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pboards. Simon thought of Gran’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oking. No one could make apple pi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ke her. She’d always bake someth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for them too and save 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tra piece for h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42320" y="2349360"/>
            <a:ext cx="73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We just feel …………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8640" y="4581360"/>
            <a:ext cx="83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Empty Inside - Like a shell …………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8 0.021 -0.04663 C 0.04 -0.09993 0.045 -0.15189 0.031 -0.15989 C 0.017 -0.16922 -0.01 -0.13191 -0.029 -0.07861 C -0.039 -0.05063 -0.045 -0.02398 -0.047 -0.004 C -0.05 0.01199 -0.051 0.02798 -0.051 0.04663 C -0.051 0.10659 -0.038 0.15589 -0.023 0.15589 C -0.008 0.15589 0.005 0.10659 0.005 0.04663 C 0.005 0.01865 0.002 -0.00799 -0.003 -0.02665 C -0.005 -0.04264 -0.01 -0.05996 -0.016 -0.07728 C -0.036 -0.13191 -0.063 -0.16922 -0.077 -0.15989 C -0.091 -0.15056 -0.086 -0.09993 -0.066 -0.0453 C -0.058 -0.01999 -0.047 0.00133 -0.036 0.01599 C -0.028 0.02931 -0.019 0.0413 -0.007 0.0533 C 0.029 0.09194 0.065 0.10926 0.075 0.09327 C 0.084 0.07728 0.064 0.03331 0.028 -0.004 C 0.013 -0.01999 -0.003 -0.03198 -0.016 -0.03997 C -0.028 -0.04797 -0.043 -0.05463 -0.059 -0.05863 C -0.103 -0.07195 -0.141 -0.06795 -0.144 -0.04663 C -0.148 -0.02665 -0.115 0 -0.071 0.01332 C -0.051 0.01865 -0.032 0.02132 -0.017 0.01999 C -0.004 0.01999 0.01 0.01732 0.025 0.01332 C 0.069 0 0.102 -0.02798 0.098 -0.04797 C 0.095 -0.06795 0.057 -0.07328 0.013 -0.05996 C -0.008 -0.0533 -0.027 -0.04397 -0.04 -0.03331 C -0.051 -0.02532 -0.062 -0.01599 -0.074 -0.004 C -0.109 0.03464 -0.13 0.07728 -0.12 0.09327 C -0.111 0.10926 -0.074 0.09194 -0.039 0.05463 C -0.022 0.03598 -0.008 0.01732 0 0 Z">
                                      <p:cBhvr>
                                        <p:cTn id="53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395360"/>
            <a:ext cx="984096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Death is nothing at all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have only slipped away into the next roo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am I, and you are you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atever we were to each other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at we still are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Call me by my old familiar name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Speak to me in the easy way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ich you always used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Put no difference in your tone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ear no forced air of solemnity or sorrow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augh as we always laughed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At the little jokes we enjoyed together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Play, smile, think of me, pray for me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et my name be ever,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e household word - that it always was,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et it be spoken without effect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ithout the trace of shadow on it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ife means all that it ever meant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t is the same as it ever was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ere is unbroken continuity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y should I be out of mind -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Because I am out of sight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am waiting for you, for an interval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Somewhere very near -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Just around the corner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                  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All is well…………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828720" y="0"/>
            <a:ext cx="8445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aaBookHmkBold"/>
              </a:rPr>
              <a:t>      </a:t>
            </a: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640" y="404640"/>
            <a:ext cx="8640720" cy="68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Death is nothing at all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have only slipped away into the next roo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am I, and you are you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hatever we were to each other, that we still ar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Call me by my old familiar name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Speak to me in the easy way, which you always used.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Put no difference in your tone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ear no forced air of solemnity or sorrow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augh as we always laughed, at the little jokes we enjoyed together. 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Play, smile, think of me, pray for m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et my name be ever the household word that it always was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et it be spoken without effect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ithout the trace of shadow on it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ife means all that it ever meant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t is the same as it ever was; there is unbroken continuity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hy should I be out of mind because I am out of sight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am waiting for you, for an interval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Somewhere very near, just around the corner. 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All is well. </a:t>
            </a:r>
            <a:r>
              <a:rPr b="1" lang="en-US" sz="1800" spc="-1" strike="noStrike">
                <a:solidFill>
                  <a:srgbClr val="ffffff"/>
                </a:solidFill>
                <a:latin typeface="BaaBookHmkBold"/>
              </a:rPr>
              <a:t>                                       </a:t>
            </a:r>
            <a:r>
              <a:rPr b="1" i="1" lang="en-US" sz="1200" spc="-1" strike="noStrike">
                <a:solidFill>
                  <a:srgbClr val="ff3300"/>
                </a:solidFill>
                <a:latin typeface="Comic Sans MS"/>
              </a:rPr>
              <a:t>Canon Henry Scott Holland of St. Paul's Cathedral</a:t>
            </a:r>
            <a:r>
              <a:rPr b="1" lang="en-US" sz="700" spc="-1" strike="noStrike">
                <a:solidFill>
                  <a:srgbClr val="ff3300"/>
                </a:solidFill>
                <a:latin typeface="Tahoma"/>
              </a:rPr>
              <a:t>  -  </a:t>
            </a:r>
            <a:r>
              <a:rPr b="1" lang="en-US" sz="1200" spc="-1" strike="noStrike">
                <a:solidFill>
                  <a:srgbClr val="ff3300"/>
                </a:solidFill>
                <a:latin typeface="Comic Sans MS"/>
              </a:rPr>
              <a:t>1847-1918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cogni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o recognise tha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loss and sadnes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art of living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3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ccotashHmk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SuccotashHmkBlack"/>
              </a:rPr>
              <a:t>Final Prayer – Eternal R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916596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aBookHmkBold"/>
              </a:rPr>
              <a:t>          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Eternal rest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Give on to them Oh Lor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And let perpetual ligh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Shine upon the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May they rest in peac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          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Am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3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3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3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3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3213000"/>
            <a:ext cx="968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Franklin Gothic Heavy"/>
              </a:rPr>
              <a:t>St. Francis of Assisi – Mission Statement S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At St. Francis school, we love and grow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           </a:t>
            </a: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We live and learn i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               </a:t>
            </a: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We build and shar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28083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00"/>
                </a:solidFill>
                <a:latin typeface="Impact"/>
              </a:rPr>
              <a:t>Death / New Lif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Here I Am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640" y="333360"/>
            <a:ext cx="7561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orgetMeNotHMK"/>
              </a:rPr>
              <a:t>Death / New Lif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orgetMeNotHMK"/>
              <a:ea typeface="ForgetMeNotHMK"/>
            </a:endParaRPr>
          </a:p>
        </p:txBody>
      </p:sp>
    </p:spTree>
  </p:cSld>
  <p:transition>
    <p:wedge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5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7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m thought of going back to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use for the last time, the h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re she’d grown up. How strange 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uld be not to see her Mum sit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her chair by the side of the fi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 Mum had coped with yea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loneliness without her Dad an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ver complained. She’d always be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 h e r 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d, as he drove along, was thinking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tle old lady that he’d come to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the years. And I thought of Gr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ing me to knit and to make pas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hought of Gran working in her gar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Gran and I walking to the shops,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started to c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missed my Gran so mu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the day, we each f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hing to take home from Gran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use to treasure. I chose Gran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ket where she kept her se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ads and silks. Mum was deligh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d chosen that. She felt sure G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have wanted it that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we’d finished sorting out,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t was filled with boxes. When w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ft Gran’s house for the last tim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knew that someone else wou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 to live here and that we woul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ver journey to Gran’s house ag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1760" y="189000"/>
            <a:ext cx="9012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Comic Sans MS"/>
              </a:rPr>
              <a:t>Gran’s House - Key questio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345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do you know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bout Gran from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story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6:35:09Z</dcterms:created>
  <dc:creator>Manager</dc:creator>
  <dc:description/>
  <dc:language>en-US</dc:language>
  <cp:lastModifiedBy>Manager</cp:lastModifiedBy>
  <dcterms:modified xsi:type="dcterms:W3CDTF">2011-03-07T16:01:04Z</dcterms:modified>
  <cp:revision>16</cp:revision>
  <dc:subject/>
  <dc:title>Death / New Life</dc:title>
</cp:coreProperties>
</file>