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5219-8D7B-4CEF-B5F6-B104BF9F5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1BCA-1722-40F3-9A0F-52211A213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0A7A-D1A7-498E-AC81-23705F6CE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5D90-F1DA-4538-97D0-543E65084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C665-DA46-4CE9-8E23-BD3BD5FB7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2086-3D78-44A4-9C21-212489FFF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CA3D-397C-44FD-9699-B25D27446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D254-D2F6-4249-8841-0462659C7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D213-EBBB-44E5-8648-C8EC1AB4A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5881-0D89-423A-801C-626523B8C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9480-2507-4C87-8A9A-965AB756C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F72C-B3D4-4CD0-84A0-EE0DFBA67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513AA-B85A-4E2A-8C78-BFFCFC175EA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2400" cy="568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ASEAL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Getting on and falling out  -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ecause of the way anger works on our bodies we may think we don’t care at the time but the long-term consequences will affect 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 need to find alternative ways to deal with situations that don’t end with us in troubl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.O.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know that I am responsible for the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oices I make and the way I behav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f I am very ang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048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en Mia told Tom a joke in history and Tom got sent out for laughing, he said it was Mia’s fault – because she made him laug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do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ink is responsi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?            Give your reas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When Richard said “ Your mum…….” to Merle for the fifth time, she walked over and carried out her threat to punch hi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“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He made me do it….he just wouldn’t stop and I had warned him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o do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you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think is responsi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y?            Give your reas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Q.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an we blame others for what we 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scuss this question within your group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nd be prepared to explain your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conclusions to the cla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would be helpful if you produced a short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lay scene to illustrate your find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8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8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8000" spc="-1" strike="noStrike">
                <a:solidFill>
                  <a:srgbClr val="000000"/>
                </a:solidFill>
                <a:latin typeface="Arial"/>
              </a:rPr>
              <a:t>We are all </a:t>
            </a:r>
            <a:r>
              <a:rPr b="1" lang="en-GB" sz="8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8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8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8000" spc="-1" strike="noStrike">
                <a:solidFill>
                  <a:srgbClr val="000000"/>
                </a:solidFill>
                <a:latin typeface="Arial"/>
              </a:rPr>
              <a:t>responsible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8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8000" spc="-1" strike="noStrike">
                <a:solidFill>
                  <a:srgbClr val="000000"/>
                </a:solidFill>
                <a:latin typeface="Arial"/>
              </a:rPr>
              <a:t>for our own </a:t>
            </a:r>
            <a:r>
              <a:rPr b="1" lang="en-GB" sz="8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8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8000" spc="-1" strike="noStrike">
                <a:solidFill>
                  <a:srgbClr val="000000"/>
                </a:solidFill>
                <a:latin typeface="Arial"/>
              </a:rPr>
              <a:t>    actions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ether we like it or not we are responsible for our own actions even when we are pushed to the limit, even when we are ang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24000" y="549000"/>
            <a:ext cx="8424720" cy="5576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You have many more skills to enable you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al with anger now than when you were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ddler or in Year 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ch as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31T09:45:52Z</dcterms:created>
  <dc:creator>freddaynes</dc:creator>
  <dc:description/>
  <dc:language>en-US</dc:language>
  <cp:lastModifiedBy>Nicky D</cp:lastModifiedBy>
  <dcterms:modified xsi:type="dcterms:W3CDTF">2006-11-16T22:53:04Z</dcterms:modified>
  <cp:revision>13</cp:revision>
  <dc:subject/>
  <dc:title>BASEAL</dc:title>
</cp:coreProperties>
</file>