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972-BB13-419D-B75F-3189D28B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8AD-C8E4-4D7F-8791-0632574E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94B-3D22-428C-AE7A-085FC909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6B2-A5BB-43DE-9C5D-DF3CC4AE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C66-28F5-4A92-A081-DA16680C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4F7-4092-4278-A16A-D72EDDA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AE7-8D95-44DC-88A7-FFAD7696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81B-4E45-47A2-AB7B-27130B4F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156-0AFD-4182-83A1-F38EDED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859-66B4-4515-86EE-B8ECA177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D83-058D-42CC-9C6C-A36DBCEB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BC9-C3BF-4C90-AB70-88B93EE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C232-377A-4402-BF64-F857C15A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data_folder/downloads/photocards/seal_angry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8137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tting on and falling out  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" spc="-1" strike="noStrike">
                <a:solidFill>
                  <a:srgbClr val="000000"/>
                </a:solidFill>
                <a:latin typeface="Arial"/>
              </a:rPr>
              <a:t>You could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125360"/>
            <a:ext cx="7993080" cy="470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add any ideas of your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ould make a poster display of your ideas using a red background for “hotting up” and a blue one for “cooling dow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you heard any of the responses in the classroom you could put a sticker next to it and we could see how ‘hot’ or ‘cool’ we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620280"/>
            <a:ext cx="8137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can do things and say things that are likely to make a difficult situation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I can tell you things that I or other people sometimes do or say in a conflict situation that usually make things wo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data_folder\downloads\photocards\seal_angry1.jpg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9200" y="127080"/>
            <a:ext cx="84456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53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92040"/>
            <a:ext cx="83534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3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353440" cy="547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makes people angry in conflict situ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do people do to make matters wor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. What can people do to make matters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record ou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aw two columns then write these hea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ngs that make conflict worse     Things that can reduce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tting 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Cool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84280"/>
            <a:ext cx="71280" cy="424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15880"/>
            <a:ext cx="8229600" cy="55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words in their correct column…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wea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ing cal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-cal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ng respec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“you always…”  or “you never…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sor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understand the other person’s point of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ying what you would like to h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ry body language and gestures - pointing, leaning forward, clenching fist, scowling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nding too close.             Admitting the things you did were 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ing some common ground - saying “I know we would both like to sort this ou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too close to the other person.       Making a “peace offering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ssuming the other person has deliberately set out to be horr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ering to make am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ing over the other pers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lm “non-angry” body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1:44:57Z</dcterms:created>
  <dc:creator>freddaynes</dc:creator>
  <dc:description/>
  <dc:language>en-US</dc:language>
  <cp:lastModifiedBy>Pitchford</cp:lastModifiedBy>
  <dcterms:modified xsi:type="dcterms:W3CDTF">2007-01-11T09:24:37Z</dcterms:modified>
  <cp:revision>7</cp:revision>
  <dc:subject/>
  <dc:title>Slide 1</dc:title>
</cp:coreProperties>
</file>