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62A-148A-4E6B-9A8B-990C92C3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4F5-0476-4AB8-88DD-F0E0EA4B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4FA-0BEB-4005-89C6-CA705697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C26-5AA5-4822-BC0B-79B3A237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DDB-9BD1-495F-AFCB-DFF2977A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F3A-3314-4806-9586-7ECF9018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E49-EFE5-4302-A3B1-4CFC49D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C17-17E0-4FAE-B018-883FB40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BCC-D464-423C-8C31-C625EF5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B92-BD1B-4999-B320-A28724C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015-C880-4D4C-BF24-9CB6A42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AC4-9A1C-4909-88A9-F7E00DB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A246-66D3-40AC-8AF4-094C6803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E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Getting on and falling out  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know that my relationships are all different and that different ways of behaving are appropriate to different types of relation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.O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ccept and appreciate people’s friendship and try not to demand more than they are able or wish to g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all the friends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their names on the back of the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these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like all your friends in the sam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like doing the same things with all your frien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you tend to see some friends only in certain situ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uld you want to see all of your friends all the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ls of Friend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907920"/>
            <a:ext cx="5905440" cy="5113440"/>
          </a:xfrm>
          <a:prstGeom prst="donut">
            <a:avLst>
              <a:gd name="adj" fmla="val 15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2276640"/>
            <a:ext cx="2592360" cy="23763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names or initials for these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cir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closest to you : immediate family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ends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l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who are close to you : cousins : good friends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like a 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you know quite well : see a lot : get on O.K. with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mates : distant rel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aintances : people you know a bit e.g. the postm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doctor , children in Y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79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iendships work at different levels - this is O.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may not want to be “best friends” with all our friends – some people prefer to have just one close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og had to be put down by the vet and you were very sad, who would you want to come and see you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evel of friendship would these people be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would you give your favourite toy or game or money to if they felt really s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evel of friendship would this person be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.  Who would you expect to give you their favourite toy if you were feeling s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ndship problems may arise when one person “expects too much” of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to respect what other people can giv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not demand that someone is a closer friend than they really are however much we would like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9:45:52Z</dcterms:created>
  <dc:creator>freddaynes</dc:creator>
  <dc:description/>
  <dc:language>en-US</dc:language>
  <cp:lastModifiedBy>Nicky D</cp:lastModifiedBy>
  <dcterms:modified xsi:type="dcterms:W3CDTF">2006-11-03T18:14:28Z</dcterms:modified>
  <cp:revision>7</cp:revision>
  <dc:subject/>
  <dc:title>BASEAL</dc:title>
</cp:coreProperties>
</file>