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501-0D58-49A0-BFB6-8D280849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2BD-D9A6-44E2-B311-DAC4BB81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5E7-869B-452D-9DB9-04DE82D9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DDF-6BBA-4954-9164-F5132FDB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77F-3B35-425B-ADCD-97C1DA63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A02-0C7F-4E80-A935-06E2BF7B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8E6-A378-483C-A651-D2DB0F4C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23C-C649-4220-92C0-9ADC5E72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570-C2FE-46AC-AB3E-C31F1AC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58F-E40F-4757-AE9E-D034E30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764-8512-46CD-8AFD-0406B8C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3B6-4498-4332-A6FF-2059ECB9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AAD-08C7-465D-AAB9-A2E4F568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549000"/>
            <a:ext cx="8353440" cy="583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ting on and falling out  -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 able to use my skills for solv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peacefully to help other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ve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r Ell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didn’t mean to hurt you. I just said it without thinking. I didn’t know that Martyn was standing behind the bookshelves listening to what I was saying. I know you told me never to tell anyone but I thought you wouldn’t mind if I told Honesty because she was crying. I thought if she knew that your mum and dad were going to split up then it would make her feel better now its happening to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 am so sorry. Please talk to me tomorrow. I don’t think I can stand another day like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Who are the characters in the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How did Elly find out what Becky had s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Why do you think Elly was up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.  What did Elly do when she fou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in pairs to consider what Elly shou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 when she rece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tter. Work out a role-play of what she should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eaceful problem-solv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ess poster to help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join with another pair to share your role-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ach pair will take turns to observe the other pair’s role-play and will use the ADI (Advantages/Disadvantages/Interesting) sheet to record their thou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end of each observation you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y ONE key point from the other pair’s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ill try this activity again but using this l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ar Maj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didn’t mean to hurt you. I didn’t know you cared so much about it. If I did I would have made sure that you played the Artful Dodger in our play. I know you are good at acting but Miss Hall said that I must make sure I was fair. I thought that Alan would be good because he is small and can make people la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still want to be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mj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role-play or write a script of how a conversation between Majid and Ramjid might develop - first if they d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us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eaceful problem solving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 and then if they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ember the “hotting up” and “cooling down” respon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1989000"/>
            <a:ext cx="5759280" cy="2806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add to the lis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tting up / cooling dow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es to conflict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ready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6:56:43Z</dcterms:created>
  <dc:creator>freddaynes</dc:creator>
  <dc:description/>
  <dc:language>en-US</dc:language>
  <cp:lastModifiedBy>Pitchford</cp:lastModifiedBy>
  <dcterms:modified xsi:type="dcterms:W3CDTF">2007-01-11T09:25:26Z</dcterms:modified>
  <cp:revision>6</cp:revision>
  <dc:subject/>
  <dc:title>Slide 1</dc:title>
</cp:coreProperties>
</file>