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D05-8F6F-41FA-93DF-3BC9B255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3D7-2F7C-4CAA-B8CE-F608D3C5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B55-E9B6-45E9-9A8E-7A2247DB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8D8-E83F-49EB-B90A-2B8CE948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103-61E0-4722-9B59-D6D5F0A6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31F-83DB-4CC6-914F-1146DA23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4AF-859C-46A0-B08D-3A3B3308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BA1-2C25-40FE-960F-1FFBDF55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052-39A9-45CC-A9BA-DEDB63AC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15D-F4AF-4232-BB10-A225D13B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1D8-BF1E-436C-A1F4-ED6CB5FE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B7F-92C0-4769-B651-18553451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D078-91E8-451D-B08A-0A27AB49C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oing for Goals! 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able to set myself a goal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597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need to work with a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 of someone famous you admi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following questions to help you share what you know about the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s the person achiev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do you respect them for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obstacles were in their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they overcome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helped them achieve their go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you think the person said / did when they felt lik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giving 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nything the person has done in achieving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goals that you think they should not have d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qualities or attributes does the person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a list 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ies might insp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chie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say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ccess is one per cent inspiration and ninety-nine per cent perspir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6-12-16T14:57:43Z</dcterms:modified>
  <cp:revision>10</cp:revision>
  <dc:subject/>
  <dc:title>BASEAL</dc:title>
</cp:coreProperties>
</file>