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39A-F199-4508-BDB9-812F6BAA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3EB-56F2-464A-A5FA-AD2FEC1A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024-DFAD-497A-8902-5C88B222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BDE-F76D-4433-BA5A-704D01AF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4D8-132A-4BD7-9D9E-82BB747B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124-7E9A-4B89-A319-250A7504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539-7F9F-4C27-BBB7-C05A7F16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695-C87C-4197-A2EB-671EE267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E89-8383-4C33-99BB-26CE7717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F80-F7CF-4211-A270-AD63C83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96C-9D15-416B-ACBD-2ACA95F6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619-56EE-449C-9691-C664131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2AF6-063A-4DBB-825B-A308FB3BE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ble to apply what I have lear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what I need to learn n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need to identify and record what has bee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ed in this theme “Going for Goal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have done that we will split into groups and each grou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giv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hings we have identified to discu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will need to think how we can apply what has been learne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ready to present their conclusions to the rest of the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lass we will then choo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ursue and we’ll al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how to do 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of the things you might think about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set their own goals for thei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identify their own strengths and set a goal for how they are going to improv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take on extended pieces of work and plan how they are to keep g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set themselves time targets for some pieces of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class to set attendance, punctuality or behaviour targets and plan how to achiev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consider and agree their own rewards for meeting goals and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76280"/>
            <a:ext cx="1873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dentify ways you can pass on you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thers in the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begin a new piece of work think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pebble’ you might need for that particular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work is finished think how well you used 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you identifi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think about these thing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should you set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happen if you didn’t have a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you always know what you want to achieve before you st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etter : to set a difficult goal and fail to reac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n easy goal and succ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O.K. to change your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co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you set yourself any goals in other areas of the curriculum or at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keep g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could you have made it easier to keep g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2-16T15:01:04Z</dcterms:modified>
  <cp:revision>10</cp:revision>
  <dc:subject/>
  <dc:title>BASEAL</dc:title>
</cp:coreProperties>
</file>