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ED7-C7D4-4292-9746-7B6D4CF0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3CA-B565-4AEA-947D-AB34661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849-4A6F-4DAD-A6B2-56BEE70D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BA2-6CBF-40BA-ACA5-39E8E5A2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793-9445-4C39-BA3C-2CB28E0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986-2EA4-41EC-9375-2CB81EED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CDC-EA85-48D5-A215-3E57DDD4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6F0-E3BD-4866-B5FF-7FA7C34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75A-0789-403F-961B-AB5FFF4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915-BC70-46B7-BE10-CD41BA5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0C4-BDD3-4924-81AD-D4B4C20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F06-F325-4334-9E7F-37CDCC8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0EE3-3BCB-4034-A209-D68C2103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it down with your partner and hav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teacher 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critical friend to others and to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will need to be prepared to teach something new to some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class. You may need to use something we have in school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thing you have brought in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might consider some of th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Counting to 10 in a differe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aiding 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Using fingers to learn the 9x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Communicating through s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king friendship brac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Rollerbl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Hula-hoo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cc"/>
                </a:solidFill>
                <a:latin typeface="Arial"/>
              </a:rPr>
              <a:t>A magic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cc00"/>
                </a:solidFill>
                <a:latin typeface="Arial"/>
              </a:rPr>
              <a:t>A football technique or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A tune or rhythm on a musical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a cat’s cra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need to make a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ill you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What is their learning style? 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How will you tea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What will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ow long will it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How will you know you’ve succee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someone a skill isn’t as easy as you might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next slide are examples of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grid for you to fill in so that whoev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ying to teach you will know 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som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your own preferred learning sty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760" y="0"/>
            <a:ext cx="89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have an idea of the way your “pupil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s they learn best you may begin to tea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explain to the cl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aught (or learned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 you might ask - or be asked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hard to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do it straight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feel if you couldn’t do it very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 you get better quickly and if so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el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feel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easy to t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help  …….  to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emed the best approach to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Pitchford</cp:lastModifiedBy>
  <dcterms:modified xsi:type="dcterms:W3CDTF">2007-01-11T09:33:09Z</dcterms:modified>
  <cp:revision>11</cp:revision>
  <dc:subject/>
  <dc:title>BASEAL</dc:title>
</cp:coreProperties>
</file>