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E06-6E06-4B80-96C2-3F7A67C7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D8E-01FC-4D4B-A66E-309E063D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222-D7D5-4F08-B709-FD9A4B00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ED9-D270-4215-89AD-3625D0EE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12C3-24D5-4989-A4C7-4FE108BE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B13C-F9B5-4FCC-B7E2-F61DB617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BF1-7119-4099-A1B8-7627801A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3B37-E25F-4722-963E-44FC9DF7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A7E-29AC-419F-A0FC-CFFAB02B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013-15D4-4588-A69B-622C05C2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AC5-9529-496E-9B9F-D0836EE9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C74-8AC8-47CE-9B75-5D116E4F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5CB8-0DD4-439F-AE8B-254341733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Going for Goals!  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know the skills and attributes of a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ive lear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try to develop these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rcle ti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ess the m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person uses the object in the centre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rcle to mime an everyday activity. Whoev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esses the activity gets a “Well don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ailed guess gets a “Good tr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 about how you feel when you are tol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done” or “Good tr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 these round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 guessed the action correctly I felt…….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 got the answer wrong I felt …… but whe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…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id  “Good try”  I felt ……..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557360"/>
            <a:ext cx="7848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are going to read a story calle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Fourth S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k carefully while we are reading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12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409680"/>
            <a:ext cx="820728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333360"/>
            <a:ext cx="806436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ider these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happened in the sto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son would you like to be best?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son had been given the most useful present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pirit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might have been written on the six pebb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did the fourth son do and what skills did he use 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ood learn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5905440" cy="612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1989000"/>
            <a:ext cx="2160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six most important skills involved in lear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an put each one we agree with on a separate peb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Nicky D</cp:lastModifiedBy>
  <dcterms:modified xsi:type="dcterms:W3CDTF">2006-12-15T19:50:16Z</dcterms:modified>
  <cp:revision>8</cp:revision>
  <dc:subject/>
  <dc:title>BASEAL</dc:title>
</cp:coreProperties>
</file>