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0DF-6DFA-4A73-845A-AD1F7464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37F-4C08-4531-A101-9D641660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179-CAD3-4D0F-8E3E-59821A1E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D6B-E687-4B09-B80A-E46DC50E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538-CE0A-4D63-908D-40C8957E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04B-A99F-4D54-868E-33D60667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C5B-7C7F-4AFC-9C78-E115D8A0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0C5-24B9-4F46-B7BE-FE10B128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6D1-38AF-4722-AAC3-740033F7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585-1DA7-49DA-B52E-8BF9314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A41-42BA-402C-9DF6-759A10D9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AEA-0C29-4569-9811-9C5A51A2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141D-0CE1-47AB-B654-FDCCE0FB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disagree with someone without fall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cope when someone disagrees with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gree… or….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work with the person next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an “agree” pair or a “disagree”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read you some statements and you mus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 up with reasons why you agree 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agree with each statemen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 your answer either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ree because…”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isagree becaus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bbits make better pets than do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work harder than b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evision is bad fo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wear school uni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should not be allowed to wear make up before they are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s should stay at home and look after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ys and men should not c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have more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be paid to come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ing animals appear in circuses is cr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should eat some fruit for break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should have Sunday tea at 5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Donald’s burgers should be ba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walk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play you some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ay wander round the room while it is pl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t stops I will read out one of the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ust find one person 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agre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your 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u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’ve found them you should each talk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views and try to convince the o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 that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es it feel to disag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an you disagree with some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hurting their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2T21:59:38Z</dcterms:modified>
  <cp:revision>5</cp:revision>
  <dc:subject/>
  <dc:title>BASEAL   Good to be me  -1</dc:title>
</cp:coreProperties>
</file>