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1AC4-638D-4F34-ABD2-CC8F5D45F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434B-5005-4AED-88D7-8679DC45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F6A9-0541-409E-9392-148161EBE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45FE-FBEF-40AF-B367-543A816D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4C6E-7574-47D3-8AA6-0C835321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0BB8-99D6-4985-80BE-905DB041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0D5F-446F-4F4D-B133-70243BB6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D440-3961-434E-9202-38D0AFB5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A9DC-781B-49F2-B282-222E8670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AFF7-2D33-4DF5-BF99-C3A9DFFA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9F9A-56CC-464A-A5A1-267410B5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D6E0-2F74-4E15-BB08-890047B4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6A57-2A4E-413E-837F-EC0631C6C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68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ASEAL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Good to be me 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.O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 can use some strategies to help me when I f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less or inadequa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.O.2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 can feel positive even when things are going wr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Fee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the manner of…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need to identify and list some of the ways we feel about doing things. We shall use our list in a mo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are for star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eas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serab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happ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ligh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erawe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ri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u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a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ircle time!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Guess the fe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ork with a partner. Agree an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e of you will perform the activity in a way which sh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certain feel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partn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must try to guess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the feeling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ou are trying to show.  Later you will swap ro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me suggested activities are on the next sl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suggested activ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the 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ge a car / bicycle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lain how to make a cup of t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ge a light bul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ron a shirt / bl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ge the bedding in a rabbit’s c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off a fir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a dishwas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g a song / recite a po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ll a jo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you can think of your own activit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Roun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feel good when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feel frustrated when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ou may pass if you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ant 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do you think mouse was feeling at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ginn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at 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the assembly s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any of these words f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adequa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u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ever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rav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itiv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ccessfu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mouse goes and hides in the hole she meets Vole. Mouse says to Vole “I’m a useless mouse who is no good at anything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 with a partner to think of strategies that Vole might suggest to help Mouse feel better about hersel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will collect your strategies and show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r strateg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09:00:18Z</dcterms:created>
  <dc:creator>Nicky D</dc:creator>
  <dc:description/>
  <dc:language>en-US</dc:language>
  <cp:lastModifiedBy>Nicky D</cp:lastModifiedBy>
  <dcterms:modified xsi:type="dcterms:W3CDTF">2006-12-21T09:59:42Z</dcterms:modified>
  <cp:revision>2</cp:revision>
  <dc:subject/>
  <dc:title>BASEAL   Good to be me  -1</dc:title>
</cp:coreProperties>
</file>