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EBBE-0E4B-425F-AC9B-8265D5E6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FBB-CCF9-4246-B3A5-901140D0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6268-70A8-49F6-BFB8-CAD10F13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E04A-4461-4AC9-BE9F-B575CA2C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6085-E106-4836-82E4-3A841C08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B006-56B4-4D6C-B15D-57A02D00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FEF-B557-4E96-8EF5-D2E1D220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5EAB-FAFB-4647-88ED-3C35D8CB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0D59-86BD-4F1E-8862-0FF9AD7A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99BF-3065-4509-B768-B0F9075C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A255-1C86-4C84-B403-CDE51DE9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C39-71A7-400C-92E2-286AC214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72EE-51E2-42C1-AD21-18F50F429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Good to be me 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make a judgment about whether or not to take a 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820908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aking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a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takes ris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body takes risks at so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risks an everyday occurr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we try to minimise ris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t a risk to put up your hand if you think you know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t a risk to climb to the top of the climbing fr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t a risk to get up in the mor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07280" cy="604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think of some risks that people t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ill need to record your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we have enough we will put them in order of how risky we think they are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218440" cy="590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s of risks might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limbed on the roof of the old shed as a d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limbed the drainpipe to rescue my c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rote our own play for the class assemb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alked across a wire fence between two t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ent into my test without revi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rote a poem instead of a story for my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old my teacher I disagreed with her about what should go into my pai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hose a very complicated piece of music to play in assemb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sked my friend for help with my maths when everyone else was being qu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because something is risky it doesn’t mean it isn’t worth doing….standing up for a friend who is being bullied is an ex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think of any worthwhile ris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 us look at the order we put our risk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tuations 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ill change th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ery worthwhil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not worthwh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the order stay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you taken any risks with your learning that have had positive outcomes e.g. working in a new medium in art or trying something new and difficult in ma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re anything that helped you to take ris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re anything the teacher or other children did that made it feel O.K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there any risks you could take with your learning that you haven’t tried y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 partner discuss something you might try that involves taking a bit of a risk in order to extend your skills or improve you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ganise your thoughts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m I going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e worst that can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re the benefits if I am success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Nicky D</cp:lastModifiedBy>
  <dcterms:modified xsi:type="dcterms:W3CDTF">2006-12-22T21:27:52Z</dcterms:modified>
  <cp:revision>7</cp:revision>
  <dc:subject/>
  <dc:title>BASEAL   Good to be me  -1</dc:title>
</cp:coreProperties>
</file>