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5E6-2F3D-40B2-A271-9355E3AE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C73-68EE-44EC-9393-CCD877A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1E7-26BE-4C9F-A223-6D261C35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A9B-C738-4757-B69C-4C16BB6F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D7A-C0F5-41B7-BA75-253BE69C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664-7DE1-499F-88F3-64514FDC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771-1E84-46F5-87E7-DA019207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421-A735-4CE2-B0BC-D0783440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A17-6E09-4BA7-B2A8-8769125F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824-AF2C-4625-8FED-38EA376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9AD-189A-4687-9F3A-CC53A35B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603-2D8C-447D-A47A-E1D9C2B2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2520-2019-4246-A6D6-98BD35F89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find out about people who are important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give and receive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play “I don’t get it!” in a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w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pass round the thou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I make a mistake I feel ….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will play a name game. On the slip you pull out of the bag you will find the name of a person in this class. You will make a card about why the person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card will be given to the person who will say “thank yo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7-01-15T21:05:18Z</dcterms:modified>
  <cp:revision>8</cp:revision>
  <dc:subject/>
  <dc:title>BASEAL   Good to be me  -1</dc:title>
</cp:coreProperties>
</file>