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0BE-5AF3-40D1-A58A-15E9F643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289-8E8E-426A-BC31-A5A2D349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F722-EA8E-4442-9B90-85D2BE33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A380-CA98-4ACC-B053-21FC25F6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B9CE-C34A-48F8-88BB-9C8D05B5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D821-3507-418C-93D2-52CA6440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E85C-69CE-4598-AA59-A891A21C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CBB-1AAA-42C1-BE22-188FDC97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5E70-AF1B-4AA0-A9FD-75ED4795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3538-3258-4D2B-B5BE-278D3723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10F-5BC7-463A-9173-550B1039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F0AE-1454-40F5-8540-6C959394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ED4F-1263-4E64-BA46-D03C5D363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Relationships 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4032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975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mbarrass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people often feel 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P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GRY …………….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(at themselves or oth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T A LOSS…….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(they don’t know what to 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ERY UNCOMFORTABLE …………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(inside 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ell as “hot and bothered” on the outs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hap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recognise some of these feelings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2472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is it that influences just how embarrassing we find a particular si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t’s list some idea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ually ou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mbarrassmen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s influenc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is there or who sees and how much we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their opin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ther what we did was intentio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bad we think what we have done is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ve we “let ourselves down”? –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can this apply even if no-one know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960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n you think of some embarr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tuations that we can rate on the ‘blushometer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GB" sz="500" spc="-1" strike="noStrike">
                <a:solidFill>
                  <a:srgbClr val="000000"/>
                </a:solidFill>
                <a:latin typeface="Arial"/>
              </a:rPr>
              <a:t>Type list for slide 35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 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ok even more close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t these                                       feel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mbarrassmen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f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’ve   read                             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xt 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120000"/>
          </a:xfrm>
          <a:prstGeom prst="rect">
            <a:avLst/>
          </a:prstGeom>
          <a:ln w="76320">
            <a:solidFill>
              <a:srgbClr val="e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120000"/>
          </a:xfrm>
          <a:prstGeom prst="rect">
            <a:avLst/>
          </a:prstGeom>
          <a:ln w="76320">
            <a:solidFill>
              <a:srgbClr val="e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can tell you about a time I was embarrassed and what it felt l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know some things to do when I am embarrassed that will no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make things wo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.O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can use a problem-solving approach to sort out a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barrassing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.O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can think about what embarrasses me and learn somet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bout me that I didn’t know bef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.O.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have helped someone who felt embarra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53440" cy="5256360"/>
          </a:xfrm>
          <a:prstGeom prst="rect">
            <a:avLst/>
          </a:prstGeom>
          <a:ln w="76320">
            <a:solidFill>
              <a:srgbClr val="e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76320">
            <a:solidFill>
              <a:srgbClr val="e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42920" y="1046160"/>
            <a:ext cx="7129440" cy="4719600"/>
          </a:xfrm>
          <a:prstGeom prst="rect">
            <a:avLst/>
          </a:prstGeom>
          <a:ln w="76320">
            <a:solidFill>
              <a:srgbClr val="e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913800" cy="5329440"/>
          </a:xfrm>
          <a:prstGeom prst="rect">
            <a:avLst/>
          </a:prstGeom>
          <a:ln w="57240">
            <a:solidFill>
              <a:srgbClr val="e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me people find it embarrassing to be praised out loud in publ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are going to stand somewhere on an imaginary line on the floor depending on how embarrassed we feel about the following state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embarrassment levels are from “not at all” to “very much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statement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ing praised in front of your paren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ing praised in front of the clas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ing praised in front of a few close frien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ing praised for work in a favourit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d you notice any patterns or gende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fferences in where people st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y is it embarrassing to be pra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some situations and not in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y is it embarrassing to be pra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 doing good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Insert magazine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or newspaper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article or video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clip re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embarrassment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33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In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pairs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discuss the 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What can you or other people do when you feel   embarrassed?  What helps?  What makes it wor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a) at the time (when you are feeling the 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physical effects of embarrassme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b) later on, when you are able to problem-so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You might consider describing or acting out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                 strategies that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3366cc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Some strategies that might be useful </a:t>
            </a:r>
            <a:r>
              <a:rPr b="1" lang="en-GB" sz="1800" spc="-1" strike="noStrike" u="sng">
                <a:solidFill>
                  <a:srgbClr val="3366cc"/>
                </a:solidFill>
                <a:uFillTx/>
                <a:latin typeface="Arial"/>
              </a:rPr>
              <a:t>at the time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 of your embarrassment might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Someone noticing your situation and distracting others by do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something that takes the spotlight off you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Shrugging your shoulders and laughing (at yourself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Thinking “well everyone gets embarrassed about something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Deep breath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Smil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Ignoring it and walking aw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Saying something funny bac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Acknowledging that you feel embarra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33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Some strategies that might be useful </a:t>
            </a:r>
            <a:r>
              <a:rPr b="1" lang="en-GB" sz="2000" spc="-1" strike="noStrike" u="sng">
                <a:solidFill>
                  <a:srgbClr val="3366cc"/>
                </a:solidFill>
                <a:uFillTx/>
                <a:latin typeface="Arial"/>
              </a:rPr>
              <a:t>later on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using the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     problem-solving process might b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Ask someone not to do or say something as you find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embarrassing (when it is not done or said intentionall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When you are embarrassed because you have let yourself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others down, admit that what you have done is wro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apologise and make am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do we feel if we are embarra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mbarrassment can have both </a:t>
            </a:r>
            <a:r>
              <a:rPr b="1" lang="en-GB" sz="2800" spc="-1" strike="noStrike">
                <a:solidFill>
                  <a:srgbClr val="ea0000"/>
                </a:solidFill>
                <a:latin typeface="Arial"/>
              </a:rPr>
              <a:t>emotional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800" spc="-1" strike="noStrike">
                <a:solidFill>
                  <a:srgbClr val="ea0000"/>
                </a:solidFill>
                <a:latin typeface="Arial"/>
              </a:rPr>
              <a:t>physical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effects on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t us try to list s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 can then make a “blushomete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33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Embarrassment is so horrible that sometimes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we will do anything to avoid feeling 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 embarra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This means that we are vulnerable to being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     bulli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How could we avoid this happe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353440" cy="5721480"/>
          </a:xfrm>
          <a:prstGeom prst="rect">
            <a:avLst/>
          </a:prstGeom>
          <a:noFill/>
          <a:ln w="38160">
            <a:solidFill>
              <a:srgbClr val="33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When we are embarrassed it is difficult to thin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                     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sensibly and problem-sol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Remember the work we did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          “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fight” and “flight” respon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and the threats we sometimes fe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      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When we have been overwhelmed by 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feelings it is sometimes difficult to think stra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What behaviour might embarrassment lead us to u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33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66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4000" y="907920"/>
            <a:ext cx="5040360" cy="5580360"/>
          </a:xfrm>
          <a:prstGeom prst="rect">
            <a:avLst/>
          </a:prstGeom>
          <a:noFill/>
          <a:ln w="7632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Remember:        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Feelings  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influence   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our    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behaviou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688360"/>
          </a:xfrm>
          <a:prstGeom prst="rect">
            <a:avLst/>
          </a:prstGeom>
          <a:ln w="38160">
            <a:solidFill>
              <a:srgbClr val="33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33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Let us look at the list of embarrassin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         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situations you identified earlier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            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they are on the next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With a partner discuss how people migh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                 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react to those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Be prepared to explain your find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to th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33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Embarrassing situations you identified earl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c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Work in pai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Tell your partner something embarrassing that has happened to you or to someone you know. Then share your stories with another p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0483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476280"/>
            <a:ext cx="8064720" cy="563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As a group choose one story and make a ‘freeze frame’ and a headline or caption to go with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Each character should say what they are think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Be prepared to share your work – perhaps in a ‘hot –seat’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The rest of the class will try to guess what happe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hy did the embarrassed person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   behave as they d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as their motive a ‘fight’ or a ‘flight’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  response to a thre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362800" cy="5721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One of you will play the part of a person who helps the embarrassed person to feel b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e need to notice how the embarrassed person responds to he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hat dangers are there in trying to hel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hen you go home tonight ask mum or dad      about their most embarrassing mom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0000"/>
                </a:solidFill>
                <a:latin typeface="Arial"/>
              </a:rPr>
              <a:t>       </a:t>
            </a:r>
            <a:r>
              <a:rPr b="1" lang="en-GB" sz="3200" spc="-1" strike="noStrike">
                <a:solidFill>
                  <a:srgbClr val="ea0000"/>
                </a:solidFill>
                <a:latin typeface="Arial"/>
              </a:rPr>
              <a:t>Physic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igns of embarrass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ld be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ushing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aking…    stammer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We could help someone who is in an embarrassing situation 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Role-playing a scene from a morning televi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programme discussing what the person could 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Creating a written response, in the style of an ago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aunt or unc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Creating a self-help sheet for someone fee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embarrassed - what can people say or do to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themselves when they are in this situ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362800" cy="5721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e will set up a class book of embarrass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Each of you can write or draw about an embarrassing moment you or someone you know has h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e will collect your ideas and put them i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a book for the class to look 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In what way do adults inadvertently embarrass child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e could consider writing an open letter to all adults ‘advising’ them on what children find embarrassing and suggesting what adults should do inst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e could consider such a letter to the boys in this class – or the gir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362800" cy="5721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e will make a display of descriptions of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embarrassment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I wanted the ground to open up and swallow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I blushed as red as a beetr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I could have died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I didn’t know where to put my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I could have kicked myself.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will work in a small group to regis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r </a:t>
            </a:r>
            <a:r>
              <a:rPr b="1" lang="en-GB" sz="3200" spc="-1" strike="noStrike">
                <a:solidFill>
                  <a:srgbClr val="ea0000"/>
                </a:solidFill>
                <a:latin typeface="Arial"/>
              </a:rPr>
              <a:t>emotion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action to the statements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the “Blushometer” on the next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00720" y="189000"/>
            <a:ext cx="4319280" cy="61927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95280" y="549360"/>
            <a:ext cx="3313080" cy="2300040"/>
          </a:xfrm>
          <a:prstGeom prst="rect">
            <a:avLst/>
          </a:prstGeom>
          <a:noFill/>
          <a:ln w="7632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Embarra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’ll colour each statement in shades of red to show how embarrassing it 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darker the red the more embarrass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ok more clos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          these                      feelings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embarrass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                  we look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l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21760" cy="588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32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Pitchford</cp:lastModifiedBy>
  <dcterms:modified xsi:type="dcterms:W3CDTF">2007-02-09T10:41:47Z</dcterms:modified>
  <cp:revision>14</cp:revision>
  <dc:subject/>
  <dc:title>BASEAL   Good to be me  -1</dc:title>
</cp:coreProperties>
</file>