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DD4-32BB-42A1-B37F-0DF8165D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06A-40DF-499A-B2AD-DEEA118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C43-AC13-44C4-99E6-9D2A4D4C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86D-F8FB-40BD-85F3-3F9B1E4A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D83-FEE0-4242-BA1A-7D87468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07D-03CD-4622-8EEA-C56EA311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27B-3B54-454B-97A7-2F5F5038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5E7-9B1D-4AE7-9794-4097058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D0E-6C02-4637-B1B8-0EA1A206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1B7-56BA-4817-9C7D-A167A6E8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B85-DD35-4D85-96F7-E70C4C4F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B6E-DB4C-46B3-BDA8-F178D39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6E9-F44F-4B61-8C61-1F75865B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could you make the girl feel better about herself by doing and saying kind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we can think of enough we may be able to put the girl back togethe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put-downs necessa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they kind to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an be racist or homophob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are a major source of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know how to make people feel good abou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recognise when I am using a put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ist some of the things that peopl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make us feel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hese are often called compli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04640"/>
            <a:ext cx="82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ist some of the things that people say that make us feel b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hese are often called put-dow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-downs migh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ying or texting something nasty or unkind about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ying something about the person’s family or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me-c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ughing at someone or making fun of someone (imitating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ving someone out or not responding to someone when they tal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ling eyes et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 a model and are going to read the story “Pick me up don’t put me dow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ime there is a “put-down” or something happens which makes the girl feel bad about herself we will remove one piece of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we read the story you should notice the everyday ways we put people down and the effect it has on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freddaynes</cp:lastModifiedBy>
  <dcterms:modified xsi:type="dcterms:W3CDTF">2007-01-23T11:26:53Z</dcterms:modified>
  <cp:revision>12</cp:revision>
  <dc:subject/>
  <dc:title>BASEAL   Good to be me  -1</dc:title>
</cp:coreProperties>
</file>