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930-14EE-48D3-9FCE-EFDD814A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7FA-1830-47ED-B74E-46B829A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724-5FFC-46EB-897A-4AC9C47F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ACC-3918-4927-93CA-5C4386EC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FD3-F974-437D-BC5C-C434F052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DB5-6835-4BCE-9652-93610A33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A3C-34EC-4099-80A5-B82DCC47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46C-DEB0-4DF7-B6BC-B219974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EF2-0CB3-4243-B448-0CF5885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92F-1CAA-401D-BD1B-7C0F84B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D63-39E9-44CD-8EAE-2A8B6DC5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5C0-361A-4AC0-A64E-9A5E983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D5DB-7820-4CE0-8FD0-89F6E7F9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anges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s to illustrate how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two cases (yourself and Melanie) might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irl starts picking on you at school. 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know her name but she is always laughing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friends at playtime when she looks at yo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ome top in the weekly spelling te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an invitation to a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any other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role-play some of thes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 or we could use ‘hot seating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 or ‘freeze framing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” and Melanie might approa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each situation diffe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member that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take away much of 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ling of belo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lso our feeling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always welcom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ven though it is oft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exc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ince it can make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comfor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l a sense of l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y f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AL – IT CAN’T BE HAPP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THINK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need to be in a smal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your group try to identify the feelings Melanie was experiencing in each section of her jour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“working together” skills we learned earlier this year. You will need to appoint a leader for your group and agree what the group should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activity you will need to review your progress using the checklist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comes of the changes Melanie experienc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4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aware of common responses to difficult changes and that they are sometimes similar to our responses when experiencing los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understand how I might feel when a change takes you away from familiar people and pl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can try to understand why people might behave the way they do when they are facing a difficult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how change can interfere with our feeling of belonging and can make us feel insecure and unconf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O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know that sometimes there can be positive outcomes from changes that we didn’t welcome initi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le time!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person will leave the room and while they’re out some things will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y return they have to guess what has been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rcle time!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pass round these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 ran the school for a day I would chan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 were king / queen for a day I would chan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 could change the world I would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ve you learned about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sed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change which is forced upon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ad the story “Melanie’s Journ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55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2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wo sheets of paper each of which has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ic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innermost circle on one write your own n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MELANIE in the same place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using the sheet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In the same circle as your name write the names [or initials]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you love or care for a l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 the next circle write the name of people you like a lot –b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s, family friends, relativ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in the next write classmates – people you might chat with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secrets or know close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In the outer circle write names of people who are paid to b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lives – doctors, dentists, teachers, social work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same for Mel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en she started her new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Melanie have a “full circle” of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she feels and might behave when compared to someone who  has a “full circle” of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how our behaviour is closely linked to our feelings and thou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t the “Feelings, thoughts and behaviour” sheet on the next slide to see what we could put in the sp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7-02-12T13:23:51Z</dcterms:modified>
  <cp:revision>14</cp:revision>
  <dc:subject/>
  <dc:title>BASEAL</dc:title>
</cp:coreProperties>
</file>