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5F55-A7C8-433F-8B9C-7895CD31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A5C4-F63B-484A-B2BD-EB900413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0E7A-D18A-4585-9643-D9A483E7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C551-FD81-482A-8DEA-C85917CD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7236-132A-44BD-9E5D-69A85FAC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0C70-4CF3-4A09-A46D-3800EEB9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06FF-CDB6-4CB4-804A-3C9E7BCB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D0CE-933A-408F-B96E-0896DA7B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7D47-C202-4C18-AA2B-B9080294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29E3-3426-42BF-9A22-035C7405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9F3C-C85C-41B4-8EF1-287B73AD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BC87-4FFE-447A-AF98-6C25A2BC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DC2C-9232-4613-8C68-26046332A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Relationships 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52760" y="476280"/>
            <a:ext cx="58384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you would like to talk about your ow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eelings in private we can arrange th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 are all going to do the Lynford challen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 will see it on the next sc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626160" cy="6480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42472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are going to read a poem cal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y gerbi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will talk about it afterw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3229200" cy="597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43280" y="260280"/>
            <a:ext cx="37688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362800" cy="579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.O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 know how most people feel when they lose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something or someone they l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.O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 know some ways to celebrate the life of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 someone I care ab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406440"/>
            <a:ext cx="7775280" cy="60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st of us have had p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know that at sometime a pet may d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are upset when this happ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ventually, though, we can get over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are going to read a story about a hamster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ynford” then make a story board about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could include things li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oosing Lynfor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tting used to him and finding out about hi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ynford as an escape art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ynford’s illness and de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683480" cy="582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683480" cy="3671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5640" y="3933720"/>
            <a:ext cx="7548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721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350028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59280" y="692280"/>
            <a:ext cx="0" cy="568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12000" y="692280"/>
            <a:ext cx="0" cy="568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8900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Story board about Lynf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12000" y="981000"/>
            <a:ext cx="2592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re are some questions to think abou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do you think has happened to Lynf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ere do you think he 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ll he ever come ba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y did this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ould they get another hams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y do, will it live fore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could use the “Emotional Barometer” to explor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r feelings and those of the child in the 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12144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09:00:18Z</dcterms:created>
  <dc:creator>Nicky D</dc:creator>
  <dc:description/>
  <dc:language>en-US</dc:language>
  <cp:lastModifiedBy>Nicky D</cp:lastModifiedBy>
  <dcterms:modified xsi:type="dcterms:W3CDTF">2007-12-27T16:37:57Z</dcterms:modified>
  <cp:revision>15</cp:revision>
  <dc:subject/>
  <dc:title>BASEAL   Good to be me  -1</dc:title>
</cp:coreProperties>
</file>