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35B-38B1-4020-85E1-BF92EABC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3F68-C1DA-4CE1-BAEE-EC6749FE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9D56-89BF-4BCF-8A0D-6D7E3445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4463-F941-4501-86E6-F6E8F4D4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C65-D4B3-449E-98AF-CFE3D80F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10C-B55A-408A-85BE-07A3C915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2CB-662A-4705-A1CC-DC1DB2F9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75F-85C2-45CA-9111-E9934ACE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C9F3-B9C9-485E-BBEA-00ACCC67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7289-3C34-46C7-A2AE-6FEF9DFE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8EE-8BF5-4D84-873F-9E818387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223-F1B4-4E59-8AC4-F39E702B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05EA-8210-4EE3-8AC0-32320064F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Relationships 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tell you how I feel about the important people 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imals in my lif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going to play a circl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’s a chair on my right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wards w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pass round the though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felt lost when….  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I felt lonely when…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icture I have brought in is of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mething that is important to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 can remember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are going to draw a picture of your own special person or an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should label your picture with words to show your feelings abou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powerful descriptive adjectives, similes or metaph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Nicky D</cp:lastModifiedBy>
  <dcterms:modified xsi:type="dcterms:W3CDTF">2007-12-27T15:34:34Z</dcterms:modified>
  <cp:revision>9</cp:revision>
  <dc:subject/>
  <dc:title>BASEAL   Good to be me  -1</dc:title>
</cp:coreProperties>
</file>