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0FA7F-91D0-4E13-847F-F2FD66BCB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073F5-2298-4B4D-8BB7-D5F9E13F9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EA0C7-5FFD-49CA-91EA-4427FF92B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4500C-5D3C-4FDE-8DE6-B1340FF68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AF87F-E598-4F7E-B4EB-632A8BC8A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827AB-985C-4DC1-9DF4-B8D4DD165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54B40-9377-4852-AD44-9056D6A3A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058A3-45FF-4BD7-BFA8-BF12D66D2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04636-874E-4EBE-9584-726F2FB8D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9AEAD-C3B8-416C-9EA5-044102825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9934A-45D1-42F0-8E8F-3B161A731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D72F5-2C26-46AD-9AE1-C64B13D11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67F9-8751-451E-A845-37D39B400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Relationships  -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	</a:t>
            </a:r>
            <a:r>
              <a:rPr b="0" lang="en-GB" sz="36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tell you about someone that I no longer see.</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understand that we can remember people even if we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no longer see them.</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We are going to read the st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1" lang="en-GB" sz="2800" spc="-1" strike="noStrike">
                <a:solidFill>
                  <a:srgbClr val="000000"/>
                </a:solidFill>
                <a:latin typeface="Arial"/>
              </a:rPr>
              <a:t>“</a:t>
            </a:r>
            <a:r>
              <a:rPr b="1" lang="en-GB" sz="2800" spc="-1" strike="noStrike">
                <a:solidFill>
                  <a:srgbClr val="000000"/>
                </a:solidFill>
                <a:latin typeface="Arial"/>
              </a:rPr>
              <a:t>Badger’s Parting Gif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the animals feel when Badger d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the animals feel at the end of the st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helped them to feel a bit bet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ere Badger’s parting gif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fade" transition="in">
                                      <p:cBhvr additive="repl">
                                        <p:cTn id="7" dur="2000"/>
                                        <p:tgtEl>
                                          <p:spTgt spid="4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2" end="2"/>
                                            </p:txEl>
                                          </p:spTgt>
                                        </p:tgtEl>
                                        <p:attrNameLst>
                                          <p:attrName>style.visibility</p:attrName>
                                        </p:attrNameLst>
                                      </p:cBhvr>
                                      <p:to>
                                        <p:strVal val="visible"/>
                                      </p:to>
                                    </p:set>
                                    <p:animEffect filter="fade" transition="in">
                                      <p:cBhvr additive="repl">
                                        <p:cTn id="12" dur="2000"/>
                                        <p:tgtEl>
                                          <p:spTgt spid="4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3">
                                            <p:txEl>
                                              <p:pRg st="5" end="5"/>
                                            </p:txEl>
                                          </p:spTgt>
                                        </p:tgtEl>
                                        <p:attrNameLst>
                                          <p:attrName>style.visibility</p:attrName>
                                        </p:attrNameLst>
                                      </p:cBhvr>
                                      <p:to>
                                        <p:strVal val="visible"/>
                                      </p:to>
                                    </p:set>
                                    <p:animEffect filter="fade" transition="in">
                                      <p:cBhvr additive="repl">
                                        <p:cTn id="17" dur="2000"/>
                                        <p:tgtEl>
                                          <p:spTgt spid="43">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3">
                                            <p:txEl>
                                              <p:pRg st="6" end="6"/>
                                            </p:txEl>
                                          </p:spTgt>
                                        </p:tgtEl>
                                        <p:attrNameLst>
                                          <p:attrName>style.visibility</p:attrName>
                                        </p:attrNameLst>
                                      </p:cBhvr>
                                      <p:to>
                                        <p:strVal val="visible"/>
                                      </p:to>
                                    </p:set>
                                    <p:animEffect filter="fade" transition="in">
                                      <p:cBhvr additive="repl">
                                        <p:cTn id="22" dur="2000"/>
                                        <p:tgtEl>
                                          <p:spTgt spid="43">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3">
                                            <p:txEl>
                                              <p:pRg st="7" end="7"/>
                                            </p:txEl>
                                          </p:spTgt>
                                        </p:tgtEl>
                                        <p:attrNameLst>
                                          <p:attrName>style.visibility</p:attrName>
                                        </p:attrNameLst>
                                      </p:cBhvr>
                                      <p:to>
                                        <p:strVal val="visible"/>
                                      </p:to>
                                    </p:set>
                                    <p:animEffect filter="fade" transition="in">
                                      <p:cBhvr additive="repl">
                                        <p:cTn id="27" dur="2000"/>
                                        <p:tgtEl>
                                          <p:spTgt spid="43">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3">
                                            <p:txEl>
                                              <p:pRg st="8" end="8"/>
                                            </p:txEl>
                                          </p:spTgt>
                                        </p:tgtEl>
                                        <p:attrNameLst>
                                          <p:attrName>style.visibility</p:attrName>
                                        </p:attrNameLst>
                                      </p:cBhvr>
                                      <p:to>
                                        <p:strVal val="visible"/>
                                      </p:to>
                                    </p:set>
                                    <p:animEffect filter="fade" transition="in">
                                      <p:cBhvr additive="repl">
                                        <p:cTn id="32" dur="2000"/>
                                        <p:tgtEl>
                                          <p:spTgt spid="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Sometimes we like to look back and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remember special peo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Here are some stories about just that 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135080" y="425520"/>
            <a:ext cx="6873840" cy="5740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68360" y="1628640"/>
            <a:ext cx="7991280" cy="3024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How do you think the author knew about the “two Doreens” or great-great-great uncle John when he had never met th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re the stories funny or s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an stories be funny and sad at the same ti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our task is to find out about someone who lived a long time ago (over 60 years ag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ou should write a set of questions and use them to find out as much as you can about the person, what they looked like, what made them special, whether they are alive or dead and how they are remembered if they are dea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will create a display about the people you research and add any pictures or photographs if we c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ou can then quiz each other about who you have researched. </a:t>
            </a:r>
            <a:r>
              <a:rPr b="1"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 things to think abou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y are animals born and why do they d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at would happen if everyone lived fore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y do we remember people a long time ag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Nicky D</cp:lastModifiedBy>
  <dcterms:modified xsi:type="dcterms:W3CDTF">2007-12-27T17:15:41Z</dcterms:modified>
  <cp:revision>13</cp:revision>
  <dc:subject/>
  <dc:title>BASEAL   Good to be me  -1</dc:title>
</cp:coreProperties>
</file>