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021-B5E9-464C-BCBB-B46B50DE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F95-821F-4B69-BF2A-CA839E6B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72C-BA5F-4C6A-BB86-353A0412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497-C7CF-41D6-BE29-261ECB37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691-F602-4638-A1B4-E3DD30DB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F0C-DC71-4CD1-97B5-6441D8DF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12D-AA41-47F1-A944-0CB27A25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161-AC1C-4F8F-904F-4B2D0AF2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EBD-AA01-4656-8D86-271E65FC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D99-ECAE-4650-9C6C-DF7DF14F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04E-AEC5-4033-AC52-FFC3BFB8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27B-79A9-4671-A52F-E780F108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9BE5-B0DB-44AB-97FE-C4411DD51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anges 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would be interesting if you could discov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your family has lived in the p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ight be able to make a map to sh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y have moved, to find some phot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s, similarities and differences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them and why they 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a small group of others to design a po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and How to Survive 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oster should include some way of showing how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feels and also some strategies for survi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351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make a “Problem Box” where you may put an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you can think of to do with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we have enough some of you could giv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s using the problem-solving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you are doing this don’t forge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ing together self-review 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you could complete at the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2040" y="317520"/>
            <a:ext cx="781848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think abou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things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ve you learned from thinking abou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in life and how you cope with difficul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has what you’ve learned changed the wa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think about or understand th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765000"/>
            <a:ext cx="8713800" cy="512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end of this theme you should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l how you would feel if a change that you didn’t want to happen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sed on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 some of the reasons that change can feel uncomfortable and sc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l how it feels to belong to a group and know it is important for every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 that what we feel and think affects what we do (how we behav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l why you behave as you do when you are finding a change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understand why other people are behaving as they do wh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finding a change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 some ways of dealing with the feelings that sometimes arise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39720" y="476280"/>
            <a:ext cx="78645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know that what we feel and think affects what we do (how we beha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an tell you why I behave as I do when I am finding a change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.O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an sometimes understand why other people are behaving as they are when they are finding a change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.O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know some ways of dealing with the feelings that sometimes arise from chang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Rememb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a link 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e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E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e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how we 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BE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may fe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omfor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becaus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may behave in w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O.K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ALL FEELINGS ARE O.K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T ALL BEHAVIOURS ARE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1557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5440" y="189000"/>
            <a:ext cx="7953120" cy="633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56000" y="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2000" spc="-1" strike="noStrike">
                <a:solidFill>
                  <a:srgbClr val="cc0066"/>
                </a:solidFill>
                <a:latin typeface="Arial"/>
              </a:rPr>
              <a:t>……</a:t>
            </a:r>
            <a:r>
              <a:rPr b="1" lang="en-GB" sz="2000" spc="-1" strike="noStrike">
                <a:solidFill>
                  <a:srgbClr val="cc0066"/>
                </a:solidFill>
                <a:latin typeface="Arial"/>
              </a:rPr>
              <a:t>..   Let’s do this  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things we can do to cope wit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comfortable feel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may b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not change our outward appearance like chameleons can, wh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aced with chang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do several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83664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about what will stay the s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in a house move the family is usually the same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family reorganisation school friends wil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be a stable part of lif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of opportunities or possible advantages tha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might off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friend moves away you will probably get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 or letters and maybe somewhere you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on holiday to see th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765000"/>
            <a:ext cx="835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ourselves that all change is difficult but that you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survived change in the past and can do it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ai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things one day at a time and focus on reward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self  for small successes and any progr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roblem-solving strateg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e with others in a similar position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feeling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ways to relax and calm your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7-12-30T12:23:46Z</dcterms:modified>
  <cp:revision>21</cp:revision>
  <dc:subject/>
  <dc:title>BASEAL</dc:title>
</cp:coreProperties>
</file>