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85A-A049-420A-92CA-D7F814AB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21C-3786-47A6-9F07-74F2911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221-EE86-4150-8411-EEB6E76E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743-1486-49A4-A2BD-3FA8FD03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514-A918-4BDF-AF3C-CF624750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0D8-9409-449B-9026-507FD62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9C2-F625-4C4D-B4D8-971D1555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5BD-01C2-44FE-B868-F06825A2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7B7-8122-4CFF-9DBD-523F149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828-FB14-4DCA-959D-A44C3A80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9E6-CF97-4C68-A421-96EDBC6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4D5-FD88-447A-BBA5-753AE801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044-3667-4865-9FFD-2B76C710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2880" y="4046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rd’s 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72160" y="1197000"/>
            <a:ext cx="5766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r Fa-ther who art in hea-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l-lowed be thy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king-dom 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y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will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d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earth as it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ea-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 us this day our dai-ly br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give us our tres-pass-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we for-give those who tres-pass a-gainst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lead us not in-to temp-ta-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de-liv-er u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fro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e-vi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thine is the King-do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the pow’r, and the glor-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 and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v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-men, A-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9:39:37Z</dcterms:created>
  <dc:creator>LFT</dc:creator>
  <dc:description/>
  <dc:language>en-US</dc:language>
  <cp:lastModifiedBy> </cp:lastModifiedBy>
  <dcterms:modified xsi:type="dcterms:W3CDTF">2011-06-12T13:48:38Z</dcterms:modified>
  <cp:revision>7</cp:revision>
  <dc:subject/>
  <dc:title>Slide 1</dc:title>
</cp:coreProperties>
</file>