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1871-F3B3-490D-AD13-B1D84B871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DE0B-F58D-46C1-A5C6-6687DA7BE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FBE9-32A6-4BE8-A640-E139F3099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F28F-E88F-4114-B47B-6EC5E9158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5BA3-0F11-4618-AA8F-D947AF626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3C9B-28BC-49F6-AD01-D1E3AA6AD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014D-53BA-4931-AE0C-8920B389D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1564-90F6-4987-A607-85041F6F5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AC7D-7945-4314-AAE9-1CB4BF95D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95F3-6265-4551-AE1D-ED35B88E0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DB71-FAFF-4007-8EBA-94DB3877E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AA9C-2C94-47A2-9842-523F5D373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8fa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CB2DA-5B13-4841-9257-EC5E5AB76C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8fa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Choic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8fa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e are learnin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explore cho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develop an understanding of commi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8fa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a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mpe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rulam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og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rty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8fa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8fa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07280" cy="541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8fa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987640" y="260280"/>
            <a:ext cx="36273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8fa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lban’s choic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>
            <a:stCxn id="53" idx="0"/>
            <a:endCxn id="53" idx="0"/>
          </p:cNvCxnSpPr>
          <p:nvPr/>
        </p:nvCxnSpPr>
        <p:spPr>
          <a:xfrm>
            <a:off x="4571640" y="159984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 flipH="1">
            <a:off x="3132000" y="1700280"/>
            <a:ext cx="136872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00720" y="1700280"/>
            <a:ext cx="115092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63640" y="292428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ive up your fa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438160" y="2924280"/>
            <a:ext cx="17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eep your fa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00360" y="328464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227640" y="328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413440" y="4797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046880" y="5589720"/>
            <a:ext cx="31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 untrue to what you belie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942880" y="4653000"/>
            <a:ext cx="52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5960" y="5516640"/>
            <a:ext cx="336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 true to you what you belie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700360" y="508464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7640" y="5013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8fa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y choic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"/>
          <p:cNvCxnSpPr>
            <a:stCxn id="68" idx="0"/>
            <a:endCxn id="68" idx="0"/>
          </p:cNvCxnSpPr>
          <p:nvPr/>
        </p:nvCxnSpPr>
        <p:spPr>
          <a:xfrm>
            <a:off x="4571640" y="159984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 flipH="1">
            <a:off x="3132000" y="1700280"/>
            <a:ext cx="136872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00720" y="1700280"/>
            <a:ext cx="115092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700360" y="328464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227640" y="328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46880" y="5589720"/>
            <a:ext cx="31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 untrue to what you belie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935960" y="5516640"/>
            <a:ext cx="336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 true to you what you belie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00360" y="508464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227640" y="5013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045440" y="2708280"/>
            <a:ext cx="31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ick to what I believe is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75480" y="2655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137200" y="2708280"/>
            <a:ext cx="303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o something that I don’t think is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8fa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84360" y="333360"/>
            <a:ext cx="7848360" cy="52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1T11:06:54Z</dcterms:created>
  <dc:creator>oneillg</dc:creator>
  <dc:description/>
  <dc:language>en-US</dc:language>
  <cp:lastModifiedBy>oneillg</cp:lastModifiedBy>
  <dcterms:modified xsi:type="dcterms:W3CDTF">2006-11-01T11:50:27Z</dcterms:modified>
  <cp:revision>5</cp:revision>
  <dc:subject/>
  <dc:title>Choices</dc:title>
</cp:coreProperties>
</file>