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828-D2E7-4445-88DF-16DA15A7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F31-3634-424B-926B-66FF091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6BA-DAE7-4064-B6B9-C31F43DF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DD5-AD67-45F1-A339-C20D8BF6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B86-DC92-4300-84EF-2049ADB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41A-94C4-4B7B-A6ED-3992D69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EA1-2E56-42B4-B3D6-858E07F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E7-5420-4490-A44F-CBD96A10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E6D-5FC8-46A7-BE82-71B2D60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70A-3A74-46E2-BA09-A9865DF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D3F-4DFA-462E-9330-9601C47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9F6-35E9-48CE-B3D2-A1E606E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2CC-B8F3-4FB1-9CC1-2909D2FB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31800"/>
            <a:ext cx="8640720" cy="550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11400" y="836640"/>
            <a:ext cx="3289320" cy="511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736720" cy="123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189000"/>
            <a:ext cx="52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scores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 the Quarter F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844640"/>
            <a:ext cx="266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at the first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411280" y="1699920"/>
            <a:ext cx="266400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492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next to each country is the number of goals they scored in tha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429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, Russia scored 2 goals in that match and Sweden didn’t score 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443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can tell me how many goals Greece scored against Sp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364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vestigate the scor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we handle this data to find out who scored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573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we need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360" y="260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rganising ou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134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countries compe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1052640"/>
            <a:ext cx="3457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59280" y="1844640"/>
          <a:ext cx="4038480" cy="4405320"/>
        </p:xfrm>
        <a:graphic>
          <a:graphicData uri="http://schemas.openxmlformats.org/drawingml/2006/table">
            <a:tbl>
              <a:tblPr/>
              <a:tblGrid>
                <a:gridCol w="1511280"/>
                <a:gridCol w="25272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tzerland 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zech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ed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08360" y="26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reating a Tally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19700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at the matches Switzerland we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1052640"/>
            <a:ext cx="3457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59280" y="1844640"/>
          <a:ext cx="4038480" cy="4405320"/>
        </p:xfrm>
        <a:graphic>
          <a:graphicData uri="http://schemas.openxmlformats.org/drawingml/2006/table">
            <a:tbl>
              <a:tblPr/>
              <a:tblGrid>
                <a:gridCol w="1511280"/>
                <a:gridCol w="25272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tzerland 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zech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ed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236000" y="2060640"/>
            <a:ext cx="12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goals did they sc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78936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 them in a tally, one match at 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vestigate the scor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341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sheet with the scores from the matches, see if you can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349360"/>
            <a:ext cx="52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ich team or teams scored the most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ich team or teams scored the least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at was the mode sc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ke a bar chart showing the goals for all 16 countries – you will need 16 columns - start a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at was the medi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an you find th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5086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t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ich team had the most goals scored agains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ich team had the least goals scored agains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at was the highest numbers of goals scored in any match from these sc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659200">
            <a:off x="6144840" y="2711520"/>
            <a:ext cx="1722600" cy="1571400"/>
          </a:xfrm>
          <a:prstGeom prst="wedgeEllipseCallout">
            <a:avLst>
              <a:gd name="adj1" fmla="val -40106"/>
              <a:gd name="adj2" fmla="val 130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141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I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 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24360" y="33336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nd Resul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341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your bar chart look something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26920" y="1773360"/>
          <a:ext cx="7367760" cy="485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73677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7:40:09Z</dcterms:created>
  <dc:creator> </dc:creator>
  <dc:description/>
  <dc:language>en-US</dc:language>
  <cp:lastModifiedBy> </cp:lastModifiedBy>
  <dcterms:modified xsi:type="dcterms:W3CDTF">2008-06-29T11:19:02Z</dcterms:modified>
  <cp:revision>7</cp:revision>
  <dc:subject/>
  <dc:title>Slide 1</dc:title>
</cp:coreProperties>
</file>